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1AF-F604-4292-8394-2D6E3E23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063-B2D8-4B4B-92F4-B8406FD2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F1234-C165-4CCB-AA0B-7E2D331B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25915-9B6E-435D-96C7-FF8C073F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8B383-2333-440C-971F-8C69DA3A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6D702-8C98-4668-A855-DEF7F2A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4115F-8567-478E-90DF-7EFEA042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3FD61-791E-476C-9F44-C026ADB0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9DA43-A740-4270-B087-F417853D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70D1C-0609-4729-8325-2BA28D61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2D370-454B-49F5-A62D-80153A15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329D3-C5ED-4FC3-A838-A64D2471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14A-A5B6-4630-9EA2-77CB312A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0C8F1-C871-45F9-9980-A767C985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3536E-6E1B-4BEE-81C6-8977E7BC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4CB9F-A0E7-419C-9192-C7FBDC4A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72BFB-730D-4F15-B5B6-0A8A6893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373BA-A8CB-4F83-92E2-E835D1BC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4E0F8-D80F-48A9-9C1F-AD5581D4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5395A-6284-46CF-8845-9E992B11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EE66F-AFFC-4273-AD00-5B5E7AD2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45E0B-16DD-4762-ACBF-680BBA17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63EF8-5CF5-4DB3-A775-51AB1BE1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9A5-84A1-4038-8DC0-BED844D0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F9A77-76B9-4437-982B-8B3D6CC0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9A54-EE52-45D3-98D4-24898757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CE6E-D2AE-4641-9A7C-2C97DBF6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F0F7-E53D-46AE-89CC-6B662A9E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ED75-0735-4653-A9EA-C0619F9B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136F-11B0-4EFA-8075-14DF88B3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8FD2-84B4-4524-BDD3-4A9D60E7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1A04-AB12-4486-AD6E-730AC270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780-1863-44B3-A9C0-A452BFC0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66D9-045B-4F23-8BB4-97D937A1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D6AD-A250-4EA5-B444-7681407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E1D2-0E4D-4EBC-9EC2-2FD4066D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5230-C17F-4A2F-A9F9-532A75D8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BE72-08F0-4227-AF5F-42EB813F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D4E3C-3995-4464-A9A2-77FFF4FF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E6F0B-8323-45EE-A4C9-B18A3D6D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3235D-ABD3-4E81-863F-ED09B4BB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4D8F7-CC2E-4673-B275-BAAF1C8A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BCE1B-CB69-41A1-AA12-998E24B8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B4D-2833-4CE6-BC7C-EEF776A7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32C45-BB3A-43ED-AD99-5F016E02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822C4-36D3-4DDE-A728-B25ADDB9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8E7C3-4C6C-4128-AC27-FCE80C5C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FDCFA-640F-48E1-8F5A-BB4CFAEF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5612B-C82D-4F11-B1CA-23733A2E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E9EB0-8DED-4FEA-A3E7-5E545FF0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3C8F1-DBB8-4FAD-807D-EBFBF1F9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A2582-4E86-4C05-B0D5-B761E886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86233-FD94-4B9F-A256-DA71C67E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FF172-7FD9-46B0-AD50-89F7B6AE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3C1-24CC-4D8F-B3CD-D6DC990D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0F03B-CF72-4D2C-A482-A957E36B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F080E-7299-4EAA-B942-09EB4E7F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F34D4-3E4B-4A5A-899B-6A9F1191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3BABD-BB54-4AFA-8D5F-8ED287F7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CAF2C-55EA-4E56-B651-06E30333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187FC-668D-4DDC-8720-09EDFF9D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8972C-7C86-4C13-9264-704AA8A5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F4AF4-57BF-4B66-BDAF-8ADA6283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BF94CC-2CDB-4CCB-8CC7-F377E97F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357DC-C697-4DBF-8D1B-1674A12F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93D-E0AA-457E-A9DD-31162B63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8EFCD-3234-43C9-9E2D-CC700521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4A9F5-B45D-4243-8B93-DC6688F4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4DBA4-A417-44F4-ACCF-DB5B691E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38D9F-22CA-4539-B8B3-97065B2D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D4D28-4738-4E57-B06A-8BF9EE62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6C549-29B1-42EE-8002-0F0C6DC6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72080-4D61-465B-B6A3-FA6C375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3A5B5-5B0F-4951-A55C-CEAFEDA2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99115-F226-46A8-BF91-100F7583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B16EC-6892-413E-8E48-5B49B3B9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A02-99F5-44BA-825D-F779CB23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8F626-AE13-4F1C-AA80-9E2B29EA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AF282-5E17-4738-9A78-8EBB63E6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C73FD-9B97-4C44-ACE1-4E7B31EF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E83DE-746C-415B-91C5-6D8C748E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20CB0-99C7-41D2-821C-6047D4E6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994F2-55A0-4C0A-93A4-C7B7AB6A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D76BF-1EAA-4653-B154-7A269B7D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02C1A-6266-48C2-9E45-DD98C534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03659-DF05-4059-8401-42500959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0C017-C669-456D-B0D3-F78C59C1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A7E-224B-4FE7-B539-16352DC6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712CA-3087-4386-B5A4-4AFA8A87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9BE50-0135-4247-8313-C927E842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65CEB-CF97-4AF0-94EE-E2673C48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BE654-EA16-438A-8D28-F32C60D5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7104B-6AC3-42A6-9516-0F3C71A0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AABC9-89AD-4817-A3D9-26460E5C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7188DF-F456-42BC-BE14-8FB98487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ADAEA-BD50-48E2-ADE8-C3500287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C45A3-152E-46CA-96D0-9F643B3C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46350-AC73-48C2-B89E-6A8D29BD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78F-7EDB-448B-B5BB-6A072DB3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D6BDC-D460-46BB-9EF1-B1F788EE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CB379-BFD2-4EC0-82A0-D1BCEB4E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9A113-2B2A-400C-8E55-46FF1B01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6631D-9D87-4FE3-A44A-618AE7BF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154D2-EA62-40C6-9046-9E9B985F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9C146-BFDB-4A8D-A824-723DC85A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78377-05DB-46C6-A81B-BBFA98F8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2127B-C56D-497B-8012-3B94D118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9000F-C1CB-4565-A4EB-BF29075F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AB611-9010-40BB-B702-73ABD884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9E3-F65A-4252-A577-B0A97C8C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9D64E-BCBD-451A-9247-00D71889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141EE-8EDD-4EC1-9542-A82BA8EB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E0A9C-DD5C-4859-94DD-3B908F5F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DD7A6-DC7B-4B83-905F-98FDF112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B591C-526E-45CB-BC28-547EF8AC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CDF3F-48A3-4C40-AA62-1BCCB400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2F5EC-AA94-4023-A8EE-8834A458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54C61-6348-4C32-A68D-B22E216C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121C8-D52D-43FA-B5B7-FFCF6344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885AD-153C-4AE2-8719-A4467AEE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6B6D-0AE6-40C4-8700-AE28675FBDEE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6F2A-0AA8-42ED-9601-08498440F862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9407-F2B7-4D4A-9DA2-BD394F3FA23A}" type="slidenum">
              <a:rPr b="1" lang="fa-IR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1A17-C780-4D75-8CB8-9363DC8DF2D3}" type="slidenum">
              <a:rPr b="1" lang="fa-I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2B84-A0B1-46F8-B4E9-54E00113E7A9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40B1-9325-4558-9405-ED37EDE585C9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9864-091F-4F76-955F-06434B128682}" type="slidenum">
              <a:rPr b="1" lang="fa-I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AAF2-047E-403B-ACC5-8969206CDBC7}" type="slidenum">
              <a:rPr b="1" lang="fa-I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67BC-05A8-4CA1-89A2-C18C28E51801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31C1-705A-47A5-A7E9-0D9084F98588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audio" Target="../media/camera.wav"/><Relationship Id="rId23" Type="http://schemas.openxmlformats.org/officeDocument/2006/relationships/audio" Target="../media/type.wav"/><Relationship Id="rId24" Type="http://schemas.openxmlformats.org/officeDocument/2006/relationships/audio" Target="../media/camera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type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mera.wav"/><Relationship Id="rId31" Type="http://schemas.openxmlformats.org/officeDocument/2006/relationships/audio" Target="../media/type.wav"/><Relationship Id="rId32" Type="http://schemas.openxmlformats.org/officeDocument/2006/relationships/audio" Target="../media/camera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428760" y="61437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6A72-A268-4208-BC3E-0155631FA227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357200" y="1356840"/>
            <a:ext cx="6429600" cy="225756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برنامه ریزی استراتژیک </a:t>
            </a:r>
            <a:br>
              <a:rPr sz="4400"/>
            </a:b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مراحل و متدها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ارتباط برنامه جامع و عملیاتی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51A3-1D65-427F-97AE-9C299B690C3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ابع ارزشها، ايدئولوژي، سياستها و استراتژي هاي حاكم بر سازمان است و بر عهده سياست مداران و مديران ارشد سازمان است و برنامه ريزي عملياتي در سطح مديريت اجرايي سازمان مطرح مي 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 پي حل مسايل اساسي، رشد و توسعه سازمان است. و برنامه ريزي عملياتي با هدف يا هدفهاي مشخص، محدود، عيني و دست يافتني، تنها متوجه بهترين كارآيي در خدمت يا توليد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وجه منافعي است كه احتمالا در آينده نصيب سازمان خواهد شد. و برنامه ريزي عملياتي متوجه منافع فعلي و در معرض ديد و يقين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BAD9-0358-443B-8313-3C8EC8B130A2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971640" y="404640"/>
          <a:ext cx="7383240" cy="6259680"/>
        </p:xfrm>
        <a:graphic>
          <a:graphicData uri="http://schemas.openxmlformats.org/drawingml/2006/table">
            <a:tbl>
              <a:tblPr/>
              <a:tblGrid>
                <a:gridCol w="3095640"/>
                <a:gridCol w="3097080"/>
                <a:gridCol w="119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دراز مد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استرات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خصوصی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سته است و براساس برنامه هاي كوتاه مدت و طرح هاي داخل آن سيستم تدوين و توسعه مي ياب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از است و همانطور كه  جامعه تغيير مي كند سازمان نيز بايد تغيير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طرح نهايي برنامه و تحليل داخلي آن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رايند برنامه ريزي، تعيين ماموريت، وضعيت محيط خارجي، ظرفيت سازي، آموزش كاركنان و جامع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مركز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داره، بخش، برنامه ريز يا افراد متخصص و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رفه أي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گروه كوچكي از برنامه ريزان و شركت وسيع افراد ذينفع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نامه ريزي 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درون سازماني، روشهاي برنامه ريزي درون سازماني است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برون سازماني، ارزشهاي سازماني و اقدامات پيشگامان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اكيد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ر اهداف دراز مدت و كوتاه مدت از حال تا پنج سال اينده تمركز دا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ئوال مي كند چه تصميماتي براساس درك موقعيت چند سال آينده متناسب با وضعيت حال اتخاذ مي گرد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ينده نگ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وعه أي از اطلاعات مرتبط بهم و مفصل سازماني و برنامه واحدهاي مختلف سازماني و نمايندگيهاي مربوط و توانايي انها و توانايي بودجه هاي جار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ميم گيري خلاق و بصيرت آميز، اين كه چگونه سازمان را براساس محيط در حال تغيير آينده هدايت كرد و كدام فرآيند سازماني قادر به اتخاذ بهترين تصميم و پيش بيني آينده است و مي توان براساس توافق همگاني عمل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توار است 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اسا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</a:tbl>
          </a:graphicData>
        </a:graphic>
      </p:graphicFrame>
      <p:sp>
        <p:nvSpPr>
          <p:cNvPr id="488" name="Rectangle 36"/>
          <p:cNvSpPr/>
          <p:nvPr/>
        </p:nvSpPr>
        <p:spPr>
          <a:xfrm>
            <a:off x="0" y="69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ويژگي‏هاي برنامه‏ريز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CE91-806D-4AD4-927D-0D246E5C1E0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85840" y="171468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تاثير عوامل خارجي توجه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نده‏نگ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عي برنامة بلندمدّت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يريت عالي مسئول آن 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مينة اساسي براي تمامي برنامه‏هاي ديگر در سطوح سازماني را ترسيم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ب هدايت تمامي سازمان مي‏ش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‏علت تجسم بهتر و دقيق آينده، امكان رسيدن به‏اهداف بيشت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ون برنامه‏ريزي عملياتي قابل اجرا ن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a2c00"/>
                </a:solidFill>
                <a:latin typeface="Times New Roman"/>
                <a:cs typeface="Times New Roman"/>
              </a:rPr>
              <a:t>در واقع برنامه‏ريزي استراتژيك به دو سوال پاسخ مي‏ده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231960" y="5638680"/>
            <a:ext cx="22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496e00"/>
              </a:buClr>
              <a:buSzPct val="110000"/>
              <a:buFont typeface="Wingdings 2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ه بايد بكن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4724280" y="579132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728160" y="5638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هد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68240" y="617220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buClr>
                <a:srgbClr val="496e00"/>
              </a:buClr>
              <a:buSzPct val="110000"/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گونه بايد انجام ده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4724280" y="632448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342972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ستراتژ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مراحل فرآيند </a:t>
            </a:r>
            <a:r>
              <a:rPr b="1" lang="fa-IR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برنامه ریزی </a:t>
            </a: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EFB5-AF39-4E5A-8AAC-0ED8A54FFDD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85520" y="2214360"/>
            <a:ext cx="7777080" cy="2514600"/>
          </a:xfrm>
          <a:prstGeom prst="rect">
            <a:avLst/>
          </a:prstGeom>
          <a:gradFill rotWithShape="0">
            <a:gsLst>
              <a:gs pos="0">
                <a:srgbClr val="fdfdc1"/>
              </a:gs>
              <a:gs pos="100000">
                <a:srgbClr val="fbfb99"/>
              </a:gs>
            </a:gsLst>
            <a:lin ang="2700000"/>
          </a:gradFill>
          <a:ln w="38160">
            <a:solidFill>
              <a:srgbClr val="333300"/>
            </a:solidFill>
            <a:miter/>
          </a:ln>
        </p:spPr>
        <p:txBody>
          <a:bodyPr anchor="ctr">
            <a:normAutofit/>
          </a:bodyPr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حليل، شناخت و هدف‏گذار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دوين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جراي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Implement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رزشيابي و كنترل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فرآيند مديريّت استراتژيك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89AA-4933-43CD-A865-1D51752C5D0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>
            <a:hlinkClick r:id="rId1" action="ppaction://hlinksldjump"/>
          </p:cNvPr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اف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و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5335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152280" y="2362320"/>
            <a:ext cx="76212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س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ذي‏نفع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9051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2057400" y="2362320"/>
            <a:ext cx="15238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فلسفه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نقش و مأموريّ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هّدات و ارزش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35812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3733920" y="2362320"/>
            <a:ext cx="167616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كل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رقابت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داخ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54100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562720" y="2362320"/>
            <a:ext cx="228600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فرصت‏ها و تهديد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نقاط قوّت و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سائل استراتژي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>
            <a:off x="78487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8001000" y="2362320"/>
            <a:ext cx="10666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raffic"/>
              </a:rPr>
              <a:t>تجزيه و تحلي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ffic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5"/>
          <p:cNvCxnSpPr>
            <a:stCxn id="514" idx="2"/>
            <a:endCxn id="516" idx="0"/>
          </p:cNvCxnSpPr>
          <p:nvPr/>
        </p:nvCxnSpPr>
        <p:spPr>
          <a:xfrm rot="5400000">
            <a:off x="4409640" y="-552600"/>
            <a:ext cx="438840" cy="781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Rectangle 16"/>
          <p:cNvSpPr/>
          <p:nvPr/>
        </p:nvSpPr>
        <p:spPr>
          <a:xfrm>
            <a:off x="152280" y="358128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مج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أموريت 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هدا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4479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نظيم گزينه‏ها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ختلف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28954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30481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و انتخ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يك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4956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4648320" y="3581280"/>
            <a:ext cx="12952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در آيند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3"/>
          <p:cNvSpPr/>
          <p:nvPr/>
        </p:nvSpPr>
        <p:spPr>
          <a:xfrm>
            <a:off x="59436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6095880" y="3352680"/>
            <a:ext cx="1295640" cy="1295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اولو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خصيص منا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صلاح ساخت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خط م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و سبك رهب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AutoShape 25"/>
          <p:cNvCxnSpPr>
            <a:stCxn id="526" idx="2"/>
          </p:cNvCxnSpPr>
          <p:nvPr/>
        </p:nvCxnSpPr>
        <p:spPr>
          <a:xfrm rot="5400000">
            <a:off x="4137840" y="976320"/>
            <a:ext cx="448560" cy="7201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27" name="Line 26"/>
          <p:cNvSpPr/>
          <p:nvPr/>
        </p:nvSpPr>
        <p:spPr>
          <a:xfrm>
            <a:off x="76212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1066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چشم‏اندا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7543800" y="3581280"/>
            <a:ext cx="8380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فعّال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22860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جــر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0"/>
          <p:cNvSpPr/>
          <p:nvPr/>
        </p:nvSpPr>
        <p:spPr>
          <a:xfrm>
            <a:off x="121932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371600" y="502920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حصول نتاي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251460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266688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شي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2971800" y="3352680"/>
            <a:ext cx="0" cy="167652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>
            <a:off x="8534520" y="3276720"/>
            <a:ext cx="0" cy="160020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>
            <a:off x="2590920" y="4800600"/>
            <a:ext cx="0" cy="129528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8"/>
          <p:cNvSpPr/>
          <p:nvPr/>
        </p:nvSpPr>
        <p:spPr>
          <a:xfrm>
            <a:off x="152280" y="487692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9"/>
          <p:cNvSpPr/>
          <p:nvPr/>
        </p:nvSpPr>
        <p:spPr>
          <a:xfrm flipH="1">
            <a:off x="228600" y="22860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461400" y="1913760"/>
            <a:ext cx="275940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حليل، شناخت و هدف‏گذ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1"/>
          <p:cNvSpPr/>
          <p:nvPr/>
        </p:nvSpPr>
        <p:spPr>
          <a:xfrm>
            <a:off x="2786400" y="5871240"/>
            <a:ext cx="71856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كنتر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AutoShape 43"/>
          <p:cNvCxnSpPr/>
          <p:nvPr/>
        </p:nvCxnSpPr>
        <p:spPr>
          <a:xfrm>
            <a:off x="3048120" y="4876560"/>
            <a:ext cx="5487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3" name="Text Box 44"/>
          <p:cNvSpPr/>
          <p:nvPr/>
        </p:nvSpPr>
        <p:spPr>
          <a:xfrm>
            <a:off x="4467600" y="4652280"/>
            <a:ext cx="16696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دوين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AutoShape 45"/>
          <p:cNvCxnSpPr/>
          <p:nvPr/>
        </p:nvCxnSpPr>
        <p:spPr>
          <a:xfrm>
            <a:off x="152280" y="6019560"/>
            <a:ext cx="2439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5" name="Text Box 46"/>
          <p:cNvSpPr/>
          <p:nvPr/>
        </p:nvSpPr>
        <p:spPr>
          <a:xfrm>
            <a:off x="540000" y="5871240"/>
            <a:ext cx="17794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اجـراي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74FE-E2E3-4F6F-B000-968CF225C87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908000" y="206064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77d9e8"/>
          </a:solid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حليل، شناخت و هدف‏گذ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4617b"/>
                </a:solidFill>
                <a:uFillTx/>
                <a:latin typeface="Tw Cen MT"/>
                <a:cs typeface="2  Esfehan"/>
              </a:rPr>
              <a:t>تحليل، شناخت و هدف‏گذار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B210-38E8-4A8E-8DDD-5AD887883F0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9680" y="185688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0680" indent="-580680" algn="just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وضع موجو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مسائل استراتژيك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عوامل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فرصت‏ها و تهديدهاي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نقاط قوّت و ضعف درون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فرصت‏ها و تهديدهاي محيطي و نقاط قوّت و ضعف دروني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SWOT Analysis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ارزيابي مجدد مأموريت و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نظيم گزينه‏هاي مختلف استراتژ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ذينفع‏ها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keholders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C8D0-401C-4D74-AE88-A2AD09266B1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14240" y="200016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080808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w Cen MT"/>
                <a:ea typeface="Traffic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رد، گروه يا سازمان كه مي‏تواند بر سازمان تاثير گذارد و يا از آن تاثير بپذيرد و علاوه‏ بر اين‏كه در فرايند مديريت استراتژيك مي‏بايستي علائق آن‏ها در نظر گرفته شود، در فرايند برنامه‏ريزي استراتژيك نيز مي‏بايستي مشاركت داشته باش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ه ترتيب زي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شناسائي هم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اهميّت هر‏يك از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شخص كردن ديدگاه‏ها، معيار رضايت و اهداف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أثير آن‏ها بر برنامه‏هاي اجرائ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شناسائی مشتریان و نیازهای آنها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6687-EB88-41BA-B8D4-4A8C9183392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به سئوالات ذیل پاسخ دهید</a:t>
            </a:r>
            <a:r>
              <a:rPr b="1" lang="fa-IR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خدمات را مصرف یا دریافت می کن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از عملکرد سازمان سود می برند ؟ 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خارج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داخل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کرد مناسب سازمان از نظر مشتریان چیست؟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یا سازمان دیگری وجود دارد که نیاز مشتریان را رفع کند؟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76a3"/>
                </a:solidFill>
                <a:uFillTx/>
                <a:latin typeface="Times New Roman"/>
                <a:cs typeface="Times New Roman"/>
              </a:rPr>
              <a:t>چشم‏انداز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CA9E-59E2-425C-9A0C-9D8B301D5C4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28240" y="1785960"/>
            <a:ext cx="8629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100" spc="-1" strike="noStrike" u="sng">
                <a:solidFill>
                  <a:srgbClr val="0076a3"/>
                </a:solidFill>
                <a:uFillTx/>
                <a:latin typeface="Tw Cen MT"/>
                <a:cs typeface="Titr"/>
              </a:rPr>
              <a:t>تعريف:</a:t>
            </a:r>
            <a:r>
              <a:rPr b="0" lang="ar-SA" sz="2100" spc="-1" strike="noStrike">
                <a:solidFill>
                  <a:srgbClr val="0076a3"/>
                </a:solidFill>
                <a:latin typeface="Tw Cen MT"/>
                <a:ea typeface="Titr Mazar"/>
              </a:rPr>
              <a:t> </a:t>
            </a:r>
            <a:r>
              <a:rPr b="1" lang="ar-SA" sz="21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شم‏انداز يعني آن‏چه كه در آرزوي دست‏يافتن به آن مي‏باشيم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شم‏انداز حالت آرماني داشته و كمّي نمي‏باشد و به سوال زير پاسخ مي‏ده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 rt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آن‏چه مي‏خواهيم بشويم 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در بيان آن بايستي سه موضوع در نظر گرفته شو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قص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توجي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فايد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ضمناً موارد زير در نوشتن چشم‏انداز مي‏بايستي رعايت گردد</a:t>
            </a:r>
            <a:r>
              <a:rPr b="1" lang="fa-IR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آرزو روشن براي آينده در نظر گرفته شو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چالش‏برانگيز و معني‏دا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حكم ولي انعطاف‏پذي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ساده، كوتاه و به‏يادماندني باشد</a:t>
            </a:r>
            <a:r>
              <a:rPr b="1" i="1" lang="fa-IR" sz="2100" spc="-1" strike="noStrike">
                <a:solidFill>
                  <a:srgbClr val="0076a3"/>
                </a:solidFill>
                <a:latin typeface="Tw Cen MT"/>
                <a:ea typeface="Traffic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) </a:t>
            </a: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ديريّت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6D65-E49F-414E-8807-E03900A03D3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Oval 3"/>
          <p:cNvGrpSpPr/>
          <p:nvPr/>
        </p:nvGrpSpPr>
        <p:grpSpPr>
          <a:xfrm>
            <a:off x="658800" y="2041560"/>
            <a:ext cx="7497720" cy="3152880"/>
            <a:chOff x="658800" y="2041560"/>
            <a:chExt cx="7497720" cy="3152880"/>
          </a:xfrm>
        </p:grpSpPr>
        <p:pic>
          <p:nvPicPr>
            <p:cNvPr id="444" name="Oval 3" descr=""/>
            <p:cNvPicPr/>
            <p:nvPr/>
          </p:nvPicPr>
          <p:blipFill>
            <a:blip r:embed="rId1"/>
            <a:stretch/>
          </p:blipFill>
          <p:spPr>
            <a:xfrm>
              <a:off x="658800" y="2041560"/>
              <a:ext cx="749772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97120" y="2517840"/>
              <a:ext cx="52261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فرآيند انجام كارها به‏طور اثربخش و كار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2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به‏وسيله ديگر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        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دورنما </a:t>
            </a:r>
            <a:r>
              <a:rPr b="0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636640"/>
            <a:ext cx="3429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c931c"/>
                </a:solidFill>
                <a:latin typeface="Tw Cen MT"/>
                <a:ea typeface="Arial"/>
              </a:rPr>
              <a:t>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دامه رسالت و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چشم انداز به آینده ای اس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که سازمان آرزو دار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500720" y="1700280"/>
          <a:ext cx="4038480" cy="3889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دورنم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رسال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بل تغیی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اب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ینده آرمان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لسفه وجود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عده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عهد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31F6-CEFE-443F-935A-7619D02FD84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ویژگی</a:t>
            </a:r>
            <a:r>
              <a:rPr b="1" lang="en-US" sz="4400" spc="-1" strike="noStrike">
                <a:solidFill>
                  <a:srgbClr val="0076a3"/>
                </a:solidFill>
                <a:latin typeface="Tw Cen MT"/>
              </a:rPr>
              <a:t> 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چشم انداز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F0E4-B23B-478E-BC86-287B36A37B3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928880"/>
            <a:ext cx="8258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خلاص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درک، ساده و روش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لهام بخش و چالشی، آرمانی و ترغیب کننده برای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باور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راستای رسال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نقطه تفاهم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انعطا 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توصیف کننده خدمات آیند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نحوه تهیه چشم انداز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623A-9EBA-4A19-9B42-7E92417CBA2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71680" y="1915920"/>
            <a:ext cx="8115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a50021"/>
                </a:solidFill>
                <a:latin typeface="Tw Cen MT"/>
                <a:ea typeface="Arial"/>
              </a:rPr>
              <a:t>    </a:t>
            </a: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گرش عمیق اعضا بیان شود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1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در آینده بدنبال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2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چه تصمیماتی در آینده دار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3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آینده مطلوب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4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چه تصویری نسبت به مشتریان داری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5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کیفیت زندگی مشتریان چگونه ارتقا می یاب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6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بزرگترین فرصت ها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ission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72C5-B7AF-4DF0-9F25-B84897C3D6B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13880" y="1785960"/>
            <a:ext cx="80060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تعر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رسالت يا مأموريّت معرّف علّت وجودي سازمان مي‏باشد و به دو سوال زير پاسخ مي‏ده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ه مي‏كنيم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ه خواهيم كرد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ة مأموريّت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Mission Statement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 2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9061c"/>
                </a:solidFill>
                <a:latin typeface="Times New Roman"/>
                <a:cs typeface="Times New Roman"/>
              </a:rPr>
              <a:t>در واقع بيانية مأموريّت مشروعيّت ايجاد و ادامة حيات سازمان را تبيين مي‏كند</a:t>
            </a:r>
            <a:r>
              <a:rPr b="1" lang="fa-IR" sz="2000" spc="-1" strike="noStrike">
                <a:solidFill>
                  <a:srgbClr val="0906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مثلأ</a:t>
            </a:r>
            <a:r>
              <a:rPr b="1" lang="ar-SA" sz="2000" spc="-1" strike="noStrike">
                <a:solidFill>
                  <a:srgbClr val="422db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443d08"/>
                </a:solidFill>
                <a:latin typeface="Times New Roman"/>
                <a:cs typeface="Times New Roman"/>
              </a:rPr>
              <a:t>مأموريّت سازمان‏هاي بهداشتي و درماني، حفظ و ارتقا وضع سلامت جامعه مي‏باشد</a:t>
            </a:r>
            <a:r>
              <a:rPr b="1" lang="fa-IR" sz="2000" spc="-1" strike="noStrike">
                <a:solidFill>
                  <a:srgbClr val="443d0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ه مأموريّت شامل اجزا زير مي‏باش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زمينة فعّاليّ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ت اهداف اصل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ارزش‏ها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Values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، باورها و نگرش (فلسفة سازماني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44D4-EC36-4D85-8296-B5B53C0C8E5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62120" y="2209320"/>
            <a:ext cx="795816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فلسفة سازماني 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Organization Philosophy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Traff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نعكس كنن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ه</a:t>
            </a:r>
            <a:r>
              <a:rPr b="1" lang="ar-SA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باورها و ارزش‏ها و نگرش‏هاي اصلي سازمان است كه راهنمايي براي تصميم‏گيري مديران سازماني مي‏باش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429240" y="4572000"/>
            <a:ext cx="2367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مات يا محصو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دودة جغرافي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4714920"/>
            <a:ext cx="4495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طه‏نظرات درارتباط با رشد و توسعة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سازم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اط قوي در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6609240" y="3929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443d08"/>
                </a:solidFill>
                <a:uFillTx/>
                <a:latin typeface="Times New Roman"/>
                <a:cs typeface="Titr"/>
              </a:rPr>
              <a:t>عناصر بيانية مأمو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2748600" y="62816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cc3300"/>
                </a:solidFill>
                <a:latin typeface="Times New Roman"/>
                <a:cs typeface="Titr"/>
              </a:rPr>
              <a:t>بيانية مأموريّت بايد الهام‏بخش و برانگيزند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680" y="404280"/>
            <a:ext cx="6286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رسالت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MIS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26A6-FA75-455D-B593-F56BBCC85C9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42960" y="1857240"/>
            <a:ext cx="81439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بیانیه جامع و مختصر از اهداف سازم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(سند عینی تلاش سازمان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ضرورت تهیه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دوین مقاصد مهم، روشن و مرتبط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بیین چارچوب اصلی برنامه ریزی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متعهد ساختن کارکنان به تحقق اهداف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جلب حمایت افراد خارج سازمان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c000"/>
                </a:solidFill>
                <a:latin typeface="Tw Cen MT"/>
                <a:cs typeface="Arial"/>
              </a:rPr>
              <a:t>ارزش ها</a:t>
            </a:r>
            <a:r>
              <a:rPr b="1" lang="en-US" sz="4400" spc="-1" strike="noStrike">
                <a:solidFill>
                  <a:srgbClr val="ffc000"/>
                </a:solidFill>
                <a:latin typeface="Tw Cen MT"/>
              </a:rPr>
              <a:t>VALUES</a:t>
            </a:r>
            <a:r>
              <a:rPr b="0" lang="en-US" sz="4400" spc="-1" strike="noStrike">
                <a:solidFill>
                  <a:srgbClr val="ffc000"/>
                </a:solidFill>
                <a:latin typeface="Tw Cen MT"/>
              </a:rPr>
              <a:t>       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56800" y="2142720"/>
            <a:ext cx="77770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اصولی که از نظر فردی و اجتماعی در سازمان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 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نوعی رفتار مناسب و برتر شمرده می شوندو در هر حال معیارهای ثابت سازمان برای تصمیم گیری ها هستند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000"/>
                </a:solidFill>
                <a:latin typeface="Tw Cen MT"/>
                <a:cs typeface="Arial"/>
              </a:rPr>
              <a:t>صداقت، رازداری ،رضایت گیرنده خدمت در همه جا</a:t>
            </a:r>
            <a:r>
              <a:rPr b="1" lang="fa-IR" sz="3200" spc="-1" strike="noStrike">
                <a:solidFill>
                  <a:srgbClr val="e2d700"/>
                </a:solidFill>
                <a:latin typeface="Tw Cen MT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BF88-F086-484E-8D5F-B2195BB11D46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کاربرد ارزش های سازمانی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2A5D-2DFF-450B-B0B8-32CE017F9F1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360" y="2214360"/>
            <a:ext cx="8102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مبنا و معیار برای تصمیم گیر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بیان کننده ارزش های مورد قبول جامعه و سازم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ایجاد انگیزه در کارکن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وسیله تغییر فرهنگ سازمان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تبیین ساختار ومحرک عملیاتهای تبدیل دورنما به واقعی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نقش و اهداف بيانية مأموريّت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DA24-9101-41F8-9786-F4A1578324B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Rectangle 3"/>
          <p:cNvGrpSpPr/>
          <p:nvPr/>
        </p:nvGrpSpPr>
        <p:grpSpPr>
          <a:xfrm>
            <a:off x="1006560" y="2451240"/>
            <a:ext cx="7242120" cy="2912760"/>
            <a:chOff x="1006560" y="2451240"/>
            <a:chExt cx="7242120" cy="2912760"/>
          </a:xfrm>
        </p:grpSpPr>
        <p:pic>
          <p:nvPicPr>
            <p:cNvPr id="594" name="Rectangle 3" descr=""/>
            <p:cNvPicPr/>
            <p:nvPr/>
          </p:nvPicPr>
          <p:blipFill>
            <a:blip r:embed="rId1"/>
            <a:stretch/>
          </p:blipFill>
          <p:spPr>
            <a:xfrm>
              <a:off x="1006560" y="2451240"/>
              <a:ext cx="72421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038240" y="2482920"/>
              <a:ext cx="7175520" cy="28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گرايش يكسان در تمام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تفاهم در ارتباط با ايده‏ها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منبع الهامي در ارتباط با فعّاليّت‏هاي روزمر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عامل هدايتي و گرايشي كاركنان در راستاي اهدا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09120" y="2357280"/>
            <a:ext cx="2319480" cy="3052800"/>
          </a:xfrm>
          <a:prstGeom prst="rect">
            <a:avLst/>
          </a:prstGeom>
          <a:solidFill>
            <a:srgbClr val="04617b"/>
          </a:solidFill>
          <a:ln w="38160">
            <a:solidFill>
              <a:srgbClr val="004e6d"/>
            </a:solidFill>
            <a:miter/>
          </a:ln>
        </p:spPr>
        <p:txBody>
          <a:bodyPr anchor="ctr">
            <a:normAutofit fontScale="94000"/>
          </a:bodyPr>
          <a:p>
            <a:pPr marL="501480" indent="-501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محيط داخلي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بع مال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يروي انسان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زاريابي و فرو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ليات و تولي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قيق و توسعه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راتژي جار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43720" y="2357280"/>
            <a:ext cx="3195360" cy="3052800"/>
          </a:xfrm>
          <a:prstGeom prst="rect">
            <a:avLst/>
          </a:prstGeom>
          <a:solidFill>
            <a:srgbClr val="dbf5f9"/>
          </a:solidFill>
          <a:ln w="38160">
            <a:solidFill>
              <a:srgbClr val="dbf5f9"/>
            </a:solidFill>
            <a:miter/>
          </a:ln>
        </p:spPr>
        <p:txBody>
          <a:bodyPr anchor="ctr">
            <a:normAutofit fontScale="95000"/>
          </a:bodyPr>
          <a:p>
            <a:pPr marL="506520" indent="-5065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محيط كلان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EST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سياس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قتصاد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جتماع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A8AA-228F-4389-BB7A-CF3C1DDD988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2928960" y="2357280"/>
            <a:ext cx="2709720" cy="3052800"/>
          </a:xfrm>
          <a:prstGeom prst="rect">
            <a:avLst/>
          </a:prstGeom>
          <a:solidFill>
            <a:srgbClr val="0bd0d9"/>
          </a:solidFill>
          <a:ln w="10080">
            <a:solidFill>
              <a:srgbClr val="21b2c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حيط رقابتي (پورتر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زه‏وا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ارك‏كنندگ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لا يا خدمت جان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ق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695808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w Cen MT"/>
                <a:cs typeface="Arial"/>
              </a:rPr>
              <a:t>تعريف مديريت</a:t>
            </a:r>
            <a:endParaRPr b="0" lang="en-US" sz="60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971640" y="2286000"/>
            <a:ext cx="695808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 فعاليت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 منظم درجهت تحقق اهداف معين ازطريق ايجا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ابط ميان منابع موجود، انجام دادن كا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مشاركت افراد ديگروشركت فعال در تصميم گيري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4879-A856-4493-8EF2-F790573015BB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B4C2-F60B-4266-8E87-E404E365F79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09120" y="2209680"/>
            <a:ext cx="833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20000"/>
                </a:solidFill>
                <a:latin typeface="Times New Roman"/>
                <a:cs typeface="Times New Roman"/>
              </a:rPr>
              <a:t>براي شناخت محيط‏هاي سازماني ابتدا عوامل مربوطه شناسائي مي‏شوند</a:t>
            </a:r>
            <a:r>
              <a:rPr b="1" lang="fa-IR" sz="2000" spc="-1" strike="noStrike">
                <a:solidFill>
                  <a:srgbClr val="72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لاً عوامل سياسي مي‏تواند شامل موارد زير باشد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حمايت‏كنن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ك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ارتباط با ساير كشورها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خصوصي‏ساز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سپس جمع تعداد عوامل نيز مشخص مي‏شود. در مثال بالا جمع عوامل سياسي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مي‏باشد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كلان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PES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و رقابتي به‏عنوان، عوامل محيطي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Environmen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داخلي به‏عنوان منابع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Resources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در نظر گرفته مي‏شود</a:t>
            </a:r>
            <a:r>
              <a:rPr b="1" lang="fa-IR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يابي عوامل محيط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5D81-5FD1-4499-B647-61835416DE3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2514240"/>
            <a:ext cx="8339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ّم‏ترين قسمت برنامه‏ريزي استراتژيك بوده و به عواملي تأكيد دارد كه ظهور و بروز آن‏ها در اختيار سازمان و مديّريت نمي‏باش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660033"/>
                </a:solidFill>
                <a:uFillTx/>
                <a:latin typeface="Times New Roman"/>
                <a:cs typeface="Times New Roman"/>
              </a:rPr>
              <a:t>روش‏هاي ارزيابي عوامل محيطي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يزبيني يا پويش‏گر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cann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دياب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ail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يش‏بين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orecast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ايش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onitor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8952-ECD3-4086-8681-36E927006A9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2138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387026"/>
                </a:solidFill>
                <a:latin typeface="Tw Cen MT"/>
                <a:cs typeface="Arial"/>
              </a:rPr>
              <a:t>تهیه ماتریس ارزیابی عوامل خارج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87026"/>
                </a:solidFill>
                <a:latin typeface="Tw Cen MT"/>
              </a:rPr>
              <a:t>External Factor Evaluation (EF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227664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الف – نگارش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فرصت و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تهدید بر اساس میزان واولویت تعیین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ا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عام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ب- تعیین ضری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برای کل عوامل خارج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ج – محاسبه رتبه برای هر یک از عوامل خارجی بر اساس وضعیت موج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بی تاثیر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2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کم،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متوسط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4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زی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د- محاسبه نمره برای هر یک 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 رتبه × ضریب÷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هـ محاسبه امتی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نمرات نهائی)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418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9900"/>
                </a:solidFill>
                <a:latin typeface="Tw Cen MT"/>
                <a:cs typeface="Arial"/>
              </a:rPr>
              <a:t>ماتریس ارزیابی عوامل خارجی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B052-4CB9-4BFF-9255-06EF4887B49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981000"/>
          <a:ext cx="8362800" cy="52117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871640"/>
                <a:gridCol w="317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نمر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رتب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ضری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عوامل خارجی </a:t>
                      </a:r>
                      <a:r>
                        <a:rPr b="1" lang="en-US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E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رصت 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ید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</a:t>
                      </a:r>
                      <a:r>
                        <a:rPr b="1" lang="fa-I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جمع ک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رزيابي عوامل درو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54D5-3632-466B-BC68-2492DEA5DB1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ارزيابي محيط داخلي سه متغير درنظر گرفته مي‏شو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منابع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ستراتژي جاري، فرهنگ سازماني، نقش و مأموريّت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ess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عملكرد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ut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الا به پائين اطلاعات موجود كمتر مي‏شود و استفاده از نظرات ذي‏نفع‏ها در اين مورد كمك‏كننده خواهد بو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b02a00"/>
              </a:buClr>
              <a:buSzPct val="14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نقاط‏قوّتي كه نشان‏دهندة مهارت خاص باشند و لبة تيز رقابت سازمان را تعيين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نند </a:t>
            </a:r>
            <a:r>
              <a:rPr b="1" i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شايستگي بارز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stinction Competenc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مي‏نامند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ارزیابی عوامل داخلی موثر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979280" y="2349360"/>
            <a:ext cx="259884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0021"/>
                </a:solidFill>
                <a:latin typeface="Tw Cen MT"/>
                <a:cs typeface="Arial"/>
              </a:rPr>
              <a:t>نقاط ضعف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w Cen MT"/>
              </a:rPr>
              <a:t>W</a:t>
            </a:r>
            <a:r>
              <a:rPr b="1" lang="en-US" sz="3200" spc="-1" strike="noStrike">
                <a:solidFill>
                  <a:srgbClr val="a50021"/>
                </a:solidFill>
                <a:latin typeface="Tw Cen MT"/>
              </a:rPr>
              <a:t>eak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508360" y="2349360"/>
            <a:ext cx="267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6a3"/>
                </a:solidFill>
                <a:uFillTx/>
                <a:latin typeface="Tw Cen MT"/>
              </a:rPr>
              <a:t>S</a:t>
            </a:r>
            <a:r>
              <a:rPr b="1" lang="en-US" sz="3200" spc="-1" strike="noStrike">
                <a:solidFill>
                  <a:srgbClr val="0076a3"/>
                </a:solidFill>
                <a:latin typeface="Tw Cen MT"/>
              </a:rPr>
              <a:t>trength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9F63-DA79-4CE2-92F9-CFC08CBC037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c9b74"/>
                </a:solidFill>
                <a:latin typeface="Times New Roman"/>
                <a:cs typeface="Times New Roman"/>
              </a:rPr>
              <a:t>شناسائی نحوه عملکرد سازمان در گذشته</a:t>
            </a:r>
            <a:r>
              <a:rPr b="1" lang="fa-IR" sz="3600" spc="-1" strike="noStrike">
                <a:solidFill>
                  <a:srgbClr val="0c9b7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C6E3-8FB8-4507-A5B3-DE8EE9A324E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13880" y="2428560"/>
            <a:ext cx="815364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سازمان پاسخگو نیاز گروه هدف بو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خدمات به نحو مناسب ارائه ش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تغییرات تاثیر گذار در سازمان اتفاق افتا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حال حاضر در رکود هستیم یا در پیشرفت؟(دلایل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برنامه توسعه کشور دارای چه سهمی هستیم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c9b74"/>
                </a:solidFill>
                <a:latin typeface="Tw Cen MT"/>
                <a:cs typeface="Arial"/>
              </a:rPr>
              <a:t>شناسائی عملکرد فعلی سازمان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:</a:t>
            </a:r>
            <a:r>
              <a:rPr b="0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2C02-F67A-49AA-ADBD-1F31EC7CF35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12720" y="2428920"/>
            <a:ext cx="8153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در دست اقدام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مکمل و متضاد کدام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آیا نیازی به تداوم فعالیتها میباش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مبنای سنجش عملکرد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نگرش جامعه به عملکرد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83763"/>
                </a:solidFill>
                <a:latin typeface="Tw Cen MT"/>
                <a:cs typeface="Arial"/>
              </a:rPr>
              <a:t>شناسائی نقاط ضعف و قوت</a:t>
            </a:r>
            <a:r>
              <a:rPr b="1" lang="fa-IR" sz="4400" spc="-1" strike="noStrike">
                <a:solidFill>
                  <a:srgbClr val="08376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8790-BC95-446B-853E-3515B619251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85480" y="2428560"/>
            <a:ext cx="85359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ظرفیت و توان فعلی مجموعه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 سازمان چيست و چگونه میتوان آنها را تقویت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ضعف سازمان چيست و چگونه میتوان آنها را رفع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موانع تامین نیاز وانتظارات مشتریان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تدوین استراتژی ها</a:t>
            </a:r>
            <a:r>
              <a:rPr b="1" lang="fa-IR" sz="4000" spc="-1" strike="noStrike">
                <a:solidFill>
                  <a:srgbClr val="03495c"/>
                </a:solidFill>
                <a:latin typeface="Tw Cen MT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8C08-EF1E-4AFD-9BF5-10B82E3EF7F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42600" y="1714320"/>
            <a:ext cx="807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هیه ماتریس ارزیابی عوامل داخل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ternal Factor Evaluation (IF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الف – نگارش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قوت و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ضعف براساس میزان و الوویت تعیین ش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ا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عامل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- تعیین ضریب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برای کل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ج – محاسبه رتبه برای هر یک از عوامل داخلی بر اساس وضعیت فعل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1-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ی تاثیر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کم،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متوسط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زیاد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د- محاسبه نمره برای هر یک 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رتبه × ضریب ÷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هـ محاسبه امتی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نمرات نهائ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 Function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ظايف مديريّت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23880" y="190512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عيين اهداف و روش دستيابي به آن‏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نظيم كارها، اختيارات و منابع بين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ea typeface="Traffic"/>
              </a:rPr>
              <a:t> </a:t>
            </a: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اعمال نفوذ و ايجاد انگيزه در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مقايسه فعّاليّت‏ها با استانداردها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71400" y="1484280"/>
            <a:ext cx="72673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برنامه</a:t>
            </a:r>
            <a:r>
              <a:rPr b="1" i="1" lang="fa-IR" sz="2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‏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يزي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lann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سازمان‏ده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Organiz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هبر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ead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كنترل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troll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A9EB-6832-455B-A1D1-CAC75CEC49F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ectangle 5"/>
          <p:cNvGrpSpPr/>
          <p:nvPr/>
        </p:nvGrpSpPr>
        <p:grpSpPr>
          <a:xfrm>
            <a:off x="633240" y="5608800"/>
            <a:ext cx="8255160" cy="1096920"/>
            <a:chOff x="633240" y="5608800"/>
            <a:chExt cx="8255160" cy="1096920"/>
          </a:xfrm>
        </p:grpSpPr>
        <p:pic>
          <p:nvPicPr>
            <p:cNvPr id="454" name="Rectangle 5" descr=""/>
            <p:cNvPicPr/>
            <p:nvPr/>
          </p:nvPicPr>
          <p:blipFill>
            <a:blip r:embed="rId1"/>
            <a:stretch/>
          </p:blipFill>
          <p:spPr>
            <a:xfrm>
              <a:off x="633240" y="5608800"/>
              <a:ext cx="8255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85800" y="5715000"/>
              <a:ext cx="8153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برنامه‏ريزي به‏سان لكوموتيوي است كه واگن‏هاي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سازمان‏دهي، رهبري و كنترل را به حركت در مي‏آور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ماتریس ارزیابی عوامل داخلی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4C46-EDDB-4ACD-B854-38EE54C9875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143000" y="1643040"/>
          <a:ext cx="7461360" cy="493704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7720"/>
                <a:gridCol w="440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نمر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رت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ضری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ارزیابی عوامل داخلی </a:t>
                      </a:r>
                      <a:r>
                        <a:rPr b="1" lang="en-US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قو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ضع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  </a:t>
                      </a: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جمع ک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2303e"/>
                </a:solidFill>
                <a:latin typeface="Tw Cen MT"/>
                <a:cs typeface="Arial"/>
              </a:rPr>
              <a:t>ماتریس توز  </a:t>
            </a:r>
            <a:r>
              <a:rPr b="1" lang="en-US" sz="4000" spc="-1" strike="noStrike">
                <a:solidFill>
                  <a:srgbClr val="02303e"/>
                </a:solidFill>
                <a:latin typeface="Tw Cen MT"/>
              </a:rPr>
              <a:t>TOW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E878-41A2-46C6-8070-697C83C23C6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642960" y="1714680"/>
          <a:ext cx="8136000" cy="4714560"/>
        </p:xfrm>
        <a:graphic>
          <a:graphicData uri="http://schemas.openxmlformats.org/drawingml/2006/table">
            <a:tbl>
              <a:tblPr/>
              <a:tblGrid>
                <a:gridCol w="2776680"/>
                <a:gridCol w="2647800"/>
                <a:gridCol w="27115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ضعف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قوت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عنو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فرصت 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تهدید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8DEE-5EAD-4018-894D-8C28FB719FE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71320" y="259920"/>
            <a:ext cx="778644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3495c"/>
                </a:solidFill>
                <a:latin typeface="Tw Cen MT"/>
                <a:cs typeface="Arial"/>
              </a:rPr>
              <a:t>قدم چهارم: تهیه ماتریس توز </a:t>
            </a:r>
            <a:r>
              <a:rPr b="1" lang="en-US" sz="2900" spc="-1" strike="noStrike">
                <a:solidFill>
                  <a:srgbClr val="03495c"/>
                </a:solidFill>
                <a:latin typeface="Tw Cen MT"/>
              </a:rPr>
              <a:t>TO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cs typeface="Arial"/>
              </a:rPr>
              <a:t>با کمک ماتـ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و وضعیت سازمان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IE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)، استراتـژی ها را مشخص نمائ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- مات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چهار نمونه استراتژی را به ما پیشنهاد میکن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1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 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O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عالی ترین وضعیت است و میتوان با استفاده از نقاط قو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 و فرصت ها سهم سازمان را در بازار افزایش داد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O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باید نقاط ضعف را کاهش داد واز فرصت ها بهره لازم برد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مانند انتخاب تکنولوژی جد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: از نقاط قوت استفاده کرده واز تهدیدها دوری کن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هدف کاهش نقاط ضعف و تهدیدها در حداکثر زمان ممکن است و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وضعیت بسیار وخیم میباشد پس باید دنبال انحلال ، ادغام، کاهش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عملیات و ... باشی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cs typeface="Arial"/>
              </a:rPr>
              <a:t>تهیه ماتریس داخلی و خارج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ernal External (IE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            3 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9/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2            1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داخلی</a:t>
            </a:r>
            <a:br>
              <a:rPr sz="16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br>
              <a:rPr sz="3200"/>
            </a:br>
            <a:r>
              <a:rPr b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1/2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</a:t>
            </a:r>
            <a:r>
              <a:rPr b="1" lang="fa-IR" sz="4400" spc="-1" strike="noStrike">
                <a:solidFill>
                  <a:srgbClr val="000000"/>
                </a:solidFill>
                <a:latin typeface="Tw Cen MT"/>
                <a:ea typeface="Arial"/>
              </a:rPr>
              <a:t> ×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br>
              <a:rPr sz="3200"/>
            </a:b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خارجی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CECF-2DD0-4781-BC7C-D7B47CBAD53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708360" y="2349360"/>
          <a:ext cx="4535640" cy="3384720"/>
        </p:xfrm>
        <a:graphic>
          <a:graphicData uri="http://schemas.openxmlformats.org/drawingml/2006/table">
            <a:tbl>
              <a:tblPr/>
              <a:tblGrid>
                <a:gridCol w="2260800"/>
                <a:gridCol w="2274840"/>
              </a:tblGrid>
              <a:tr h="161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3D43-4F47-460B-AD82-D36446FFEB5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1835280" y="177336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93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200" spc="-1" strike="noStrike">
                <a:solidFill>
                  <a:srgbClr val="04617b"/>
                </a:solidFill>
                <a:latin typeface="Tw Cen MT"/>
                <a:ea typeface="Jadid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4B43-9551-4EF8-858C-AA0FF222110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243792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رزيابي گزينه‏هاي مختلف استراتژي:</a:t>
            </a:r>
            <a:r>
              <a:rPr b="1" i="1" lang="ar-S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ا معيارهاي انتخابي شام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اثربخش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ارآي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مترين تاثيرات سوء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نتخاب يك استراتژ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16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توصيف سازمان در آينده و چشم‏انداز موفقيّت :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درصورت اجراي استراتژي انتخاب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مشخصات تصميم‏ها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AC4C-4F01-4572-BE7D-BAB0CC9987A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755640" y="1700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ر ارتباط با چشم‏انداز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تطابق با محيط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سازگاري فعاليّت‏ها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نابع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منابع سازمان تاثيرات عم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تصميمات عملياتي تاثي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تحت تاثير انتظارات و ارزش‏هاي افراد قدرتمند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جهت‏گيري درازمدّت سازمان تاثير مي‏گذ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طبيعت پيچي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6600" y="351000"/>
            <a:ext cx="6289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اه‏كارهاي استراتژي‏هاي اصلي</a:t>
            </a:r>
            <a:br>
              <a:rPr sz="2900"/>
            </a:b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ic Strategy Alternatives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B843-D811-4F07-8219-617831FAC79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8400" y="2286000"/>
            <a:ext cx="8358120" cy="2743200"/>
          </a:xfrm>
          <a:prstGeom prst="rect">
            <a:avLst/>
          </a:prstGeom>
          <a:solidFill>
            <a:srgbClr val="e5f4e0"/>
          </a:solidFill>
          <a:ln w="76320">
            <a:solidFill>
              <a:srgbClr val="0b5395"/>
            </a:solidFill>
            <a:miter/>
          </a:ln>
        </p:spPr>
        <p:txBody>
          <a:bodyPr anchor="ctr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رشد يا تهاجم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Growth or Offensive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ثبات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ability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كاهش يا تدافع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Retrenchment or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Defensive</a:t>
            </a:r>
            <a:r>
              <a:rPr b="1" i="1" lang="en-US" sz="30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تركيب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Combination 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BA88-8F59-4491-AC55-A657C0E76C0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AutoShape 4"/>
          <p:cNvGrpSpPr/>
          <p:nvPr/>
        </p:nvGrpSpPr>
        <p:grpSpPr>
          <a:xfrm>
            <a:off x="1852560" y="2352600"/>
            <a:ext cx="6181920" cy="2371680"/>
            <a:chOff x="1852560" y="2352600"/>
            <a:chExt cx="6181920" cy="2371680"/>
          </a:xfrm>
        </p:grpSpPr>
        <p:pic>
          <p:nvPicPr>
            <p:cNvPr id="659" name="AutoShape 4" descr=""/>
            <p:cNvPicPr/>
            <p:nvPr/>
          </p:nvPicPr>
          <p:blipFill>
            <a:blip r:embed="rId1"/>
            <a:stretch/>
          </p:blipFill>
          <p:spPr>
            <a:xfrm>
              <a:off x="1852560" y="2352600"/>
              <a:ext cx="6181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973160" y="2473200"/>
              <a:ext cx="594036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115964"/>
                  </a:solidFill>
                  <a:uFillTx/>
                  <a:latin typeface="Times New Roman"/>
                  <a:cs typeface="Times New Roman"/>
                </a:rPr>
                <a:t>اجراي استراتژ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(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raffic"/>
                </a:rPr>
                <a:t>Strategy Implementation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تدوين برنامة عمليات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2431-A42E-4913-A591-E532EE75BA0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26560" y="1928520"/>
            <a:ext cx="741708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عد از انتخاب استراتژي اصلي سازمان، استراتژي مزبور به يك طرح عملياتي ترجمه مي‏شود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: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(شامل  اهداف كمّي،  طرح،  تخصيص منابع،  و  بودجه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ضمناً خط‏‏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شي، روش‏ها و مقررات (برنامه‏هاي جاري) نيز تدوين مي‏شود و سازمان‏دهي و مسائل انگيزش كاركنان و اتخاذ سبك رهبري مناسب نيز در نظر گرفته مي‏شود</a:t>
            </a:r>
            <a:r>
              <a:rPr b="1" lang="fa-IR" sz="3100" spc="-1" strike="noStrike">
                <a:solidFill>
                  <a:srgbClr val="000000"/>
                </a:solidFill>
                <a:latin typeface="Tw Cen MT"/>
                <a:ea typeface="Traffic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C805-23D6-4E75-9C84-E6D043CF041D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2743200" y="2438280"/>
            <a:ext cx="1295280" cy="2743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 flipV="1">
            <a:off x="6248520" y="1828800"/>
            <a:ext cx="1218960" cy="2819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93200 h 2819520"/>
              <a:gd name="textAreaBottom" fmla="*/ 2044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4114800" y="4724280"/>
            <a:ext cx="2666880" cy="99072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 flipH="1">
            <a:off x="3505320" y="1295280"/>
            <a:ext cx="2666880" cy="1067040"/>
          </a:xfrm>
          <a:custGeom>
            <a:avLst/>
            <a:gdLst>
              <a:gd name="textAreaLeft" fmla="*/ 466920 w 2666880"/>
              <a:gd name="textAreaRight" fmla="*/ 1933920 w 26668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195800" y="857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ffic"/>
              </a:rPr>
              <a:t>برنامه‏ري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 flipV="1">
            <a:off x="2212920" y="281952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سازمان‏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66480" y="57913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raffic"/>
              </a:rPr>
              <a:t>رهب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104960" y="28195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cc"/>
                </a:solidFill>
                <a:latin typeface="Times New Roman"/>
                <a:cs typeface="Traffic"/>
              </a:rPr>
              <a:t>كنتر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733920" y="2819520"/>
            <a:ext cx="2666880" cy="1523880"/>
          </a:xfrm>
          <a:prstGeom prst="ellipse">
            <a:avLst/>
          </a:prstGeom>
          <a:gradFill rotWithShape="0">
            <a:gsLst>
              <a:gs pos="0">
                <a:srgbClr val="c5ecff"/>
              </a:gs>
              <a:gs pos="100000">
                <a:srgbClr val="adcfe0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دستيابي به ا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762120" y="9144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تباط وظايف مديريّ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4A36-55B8-427C-A3D4-3C342BC48CF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42960" y="2000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200"/>
                </a:solidFill>
                <a:latin typeface="Times New Roman"/>
                <a:cs typeface="Times New Roman"/>
              </a:rPr>
              <a:t>پيش‏بيني و تعيين مراحل و توالي فعّاليّت‏هاي لازم براي تأمين اهداف استراتژيك از طريق وسايل (تاكتيك‏ها)، به‏تفكيك زمان، هزينه، نيروي انساني لازم، برنامه‏ريزي عملياتي ‏ناميده مي‏شود</a:t>
            </a:r>
            <a:r>
              <a:rPr b="1" lang="fa-IR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انوا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جار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anding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تكراري و روز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يك‏بار مصرف يا مداخله‏ا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ngle-Use or Interventional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r>
              <a:rPr b="1" i="1" lang="ar-SA" sz="2400" spc="-1" strike="noStrike">
                <a:solidFill>
                  <a:srgbClr val="00005c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استثنايي، غيرتكراري، مانند طرح‏ها 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Projects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357200" y="214200"/>
            <a:ext cx="64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برنامه‏ريزي عملياتي يا اجرايي</a:t>
            </a:r>
            <a:r>
              <a:rPr b="1" lang="ar-SA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Operational Planning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راحل برنامه‏ريزي عملياتي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5E6E-FE9E-4AEE-A5AE-366AA6B653A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26920" y="1699920"/>
            <a:ext cx="79250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spcBef>
                <a:spcPts val="700"/>
              </a:spcBef>
              <a:buClr>
                <a:srgbClr val="115964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b050"/>
                </a:solidFill>
                <a:latin typeface="Tw Cen MT"/>
                <a:ea typeface="Titr Mazar"/>
              </a:rPr>
              <a:t> </a:t>
            </a:r>
            <a:r>
              <a:rPr b="1" i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جزيه و تحليل وضعيّت موجود</a:t>
            </a:r>
            <a:r>
              <a:rPr b="1" i="1" lang="fa-IR" sz="3600" spc="-1" strike="noStrike">
                <a:solidFill>
                  <a:srgbClr val="115964"/>
                </a:solidFill>
                <a:latin typeface="Tw Cen M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طرق نيل (استراتژي‏ها) به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فعّاليّت‏هاي لازم براي هر استراتژ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بيان شرح تفصيلي هر فعّاليّ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شيوه پايش و ارزشياب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جزيه و تحليل وضعيّت موجود منطق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3954-957A-488D-8597-4236515C94A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621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عيين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مورد لزو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جمع‏آوري داده‏ه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 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 لاز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نظام ثبت و گزارش جاري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بررسي‏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ه</a:t>
            </a:r>
            <a:r>
              <a:rPr b="1" lang="ar-SA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ا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ي مقطعي</a:t>
            </a:r>
            <a:r>
              <a:rPr b="1" lang="fa-IR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n-CL" sz="23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urvey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جزيه و تحليل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ه‏منظو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آ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ز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 (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خ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ص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ة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ف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ح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ظ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لويت‏بندي مشكل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7772400" y="2971440"/>
            <a:ext cx="0" cy="76212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عيين اهداف برنامه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C0DB-3D96-42CC-ACD1-B4FD7D772D9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14240" y="2071800"/>
            <a:ext cx="7848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Goals or Main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كل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اتوجه به مشكلات اولويّت‏دار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مأموريت سازمان، به‏صورت كلي، غير كمّي و جهت‏دار 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Objectives or Specific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اختصاص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جزاي تشكيل دهنده هدف كلي را به‏صورت مشخص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قابل سنجش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ي‏سازد. بدين وسيله برنامه قابل ارزشيابي مي‏گرد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هميّت اهداف برنام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6000-500A-49D6-98D3-5D74D0B347E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844280"/>
            <a:ext cx="82296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سير و جهت حركت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ح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ز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‏را مشخص مي‏كن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وجب تمركز تلاش‏ها و هماهنگي فعّاليّت‏ها مي‏گرد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صميمات را رهنمو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بب ايجاد انگيزه براي اجراي عمليات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ر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ه)،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رزشيابي برنامه را ممكن مي‏ساز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كاتي كه در تعيين اهداف مي‏بايستي رعايت شود</a:t>
            </a:r>
            <a:r>
              <a:rPr b="1" lang="fa-IR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A0D3-8BA7-4CA9-9EE5-225B86463B9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09480" y="1828440"/>
            <a:ext cx="830592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عوامل مؤثر بر بروز مشكلات وتوجه به شرايط محيطي، منابع داخلي و آيند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وجه به واقعيّات </a:t>
            </a:r>
            <a:r>
              <a:rPr b="0" i="1" lang="fa-IR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تعيين اهداف دست‏يافت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مّي كردن اهداف (منظور كردن قيد زما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عيين اهداف با مشاركت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مقصد و چشم‏انداز نهايي واولويّت‏بندي اهدا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‏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خ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ث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264600"/>
            <a:ext cx="8786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خصوصيات اهداف اختصاصي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ecific Objectiv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3D5F-B99E-4367-9100-30A13280671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قابل اندازه‏گير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M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asur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ست‏يافتن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A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ttain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مرتبط با هدف كل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R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levan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اراي زمان مشخص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ime-bounded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Oval 4"/>
          <p:cNvSpPr/>
          <p:nvPr/>
        </p:nvSpPr>
        <p:spPr>
          <a:xfrm>
            <a:off x="1600200" y="4419720"/>
            <a:ext cx="655308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c2e00"/>
                </a:solidFill>
                <a:uFillTx/>
                <a:latin typeface="Times New Roman"/>
                <a:cs typeface="Traffic"/>
              </a:rPr>
              <a:t>به‏طور كلي 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اهداف اختصاصي بايد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raffic"/>
              </a:rPr>
              <a:t>SMART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باش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3000240" y="20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3643200" y="257184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2928960" y="300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2971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2214720" y="35719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Strategies)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استراتژي‏ه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C741-9ABA-4888-B862-E6902BEA3B0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1404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3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w Cen MT"/>
                <a:ea typeface="Traffic"/>
              </a:rPr>
              <a:t> </a:t>
            </a:r>
            <a:r>
              <a:rPr b="1" lang="fa-IR" sz="28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ستراتژي يعني تعيين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طريق يا روش رسيدن به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4617b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اي تعيين استراتژي‏ها مي‏توان از عوامل مؤثر بر ايجاد اهداف اختصاصي استفاده نمود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با استفاده از شبكه عليّت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استراتژي‏هاي انتخابي نيز همانند اهداف، جهت انتخاب،  مي‏بايستي اولويّت‏بندي شو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استراتژي‏ها برخلاف اهداف حالت كمّي ندار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Activitie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فعّاليّت‏ها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CE71-C453-4583-80FD-117F3FAB67D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523520"/>
            <a:ext cx="86868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32011"/>
                </a:solidFill>
                <a:latin typeface="Times New Roman"/>
                <a:cs typeface="Times New Roman"/>
              </a:rPr>
              <a:t>هدف از برنامه‏ريزي تبديل اهداف به فعّاليّت‏ها مي‏باش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 u="sng">
                <a:solidFill>
                  <a:srgbClr val="000062"/>
                </a:solidFill>
                <a:uFillTx/>
                <a:latin typeface="Times New Roman"/>
                <a:cs typeface="Times New Roman"/>
              </a:rPr>
              <a:t>انواع فعّاليّ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جاري: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ف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ّ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ّ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ز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ط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آ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ئ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ص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گ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مداخله‏اي</a:t>
            </a:r>
            <a:r>
              <a:rPr b="1" lang="fa-IR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:</a:t>
            </a: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براساس مشكلات خاصّ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و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غ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، 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ن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ج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برنامه عملياتي مي‏بايستي شامل هر دو نوع فعّاليّت‏ 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005c"/>
              </a:buClr>
              <a:buSzPct val="9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عّاليّت‏هاي جاري در بخش جدول تفصيلي به فعّاليّت‏هاي مداخله‏اي اضافه مي‏شو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فعّاليّت‏ها را نيز مي‏توان، عوامل مؤثر بر استراتژي‏ها، درنظر گرف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10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عّاليّت‏ها نيز مي‏بايستي اولويت‏بندي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ش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رح تفصيلي فعّاليّت‏ها (سازمان‏دهي فعّاليّت‏ها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F2B6-22FC-46B9-BF2C-0CC60202C33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1828800"/>
          <a:ext cx="8305920" cy="47340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14400"/>
                <a:gridCol w="1219320"/>
                <a:gridCol w="761760"/>
                <a:gridCol w="990720"/>
                <a:gridCol w="914400"/>
                <a:gridCol w="990720"/>
                <a:gridCol w="60948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محل تأمين اعتب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ل هزين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شيو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ة پاي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اقدامات پشتيب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جا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زمان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كسي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چيز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ردي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تعریف برنامه ریزی</a:t>
            </a:r>
            <a:r>
              <a:rPr b="1" lang="fa-IR" sz="4400" spc="-1" strike="noStrike">
                <a:solidFill>
                  <a:srgbClr val="04617b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B9AF-6B16-415C-8707-88C533C3CDD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928520"/>
            <a:ext cx="8115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بارت است از تهيه و توزيع و تخصيص 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کانات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دود براي رسيدن به هدف هاي مطلوب، در حداقل زمان و با حداقل هزينه ممكن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فرايند دستيابي به اهداف سازمان اس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2286000" y="4643280"/>
            <a:ext cx="4857840" cy="1236960"/>
          </a:xfrm>
          <a:prstGeom prst="cloudCallout">
            <a:avLst>
              <a:gd name="adj1" fmla="val 162"/>
              <a:gd name="adj2" fmla="val 57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برنامه ريز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6357960" y="4000680"/>
            <a:ext cx="785880" cy="618840"/>
          </a:xfrm>
          <a:prstGeom prst="ellipse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هد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627280" y="4143240"/>
            <a:ext cx="639720" cy="444600"/>
          </a:xfrm>
          <a:prstGeom prst="rect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فعالي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3276720" y="4365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دول زمان‏بندي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ime Tabl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78CB-FE29-4F69-A305-5B1F2F3B927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2120" y="1752120"/>
            <a:ext cx="8076960" cy="4605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مهمترين و متداول‏ترين جدول زمان‏بندي مورد استفاده جدول گانت مي‏باشد كه قدمت آن به يك قرن مي‏رس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ابزار سودمند مديريّتي براي برنامه‏ريزي و كنترل (پايش فعّاليّت‏ها) مي‏باشد كه ترتيب زماني فعّاليّت‏هاي پيش‏بيني (برنامه‏ريزي) شده و فعاّليّت‏هاي انجام‏گرفته را نشان مي‏ده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نمودار ستوني است كه زمان در محور افقي  و فعّاليّت‏ها در محور عمودي آن قرار گرفته‏ان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ستون‏هاي نمودار نشان‏دهندة نتيجة كار در يك مدّت معين است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براي تهية نمودار گانت ابتدا كلية فعّاليّت‏هاي هر استراتژي ليست شده، سپس موعد و مدّت زمان هر فعّاليّت پيش‏بيني مي‏شود و براساس تقدّم زماني، جدول گانت رسم مي‏گرد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درحين اجراي برنامه، فعّاليْت‏هايي كه عملاً انجام گرفته‏اند نيز در جدول ، براي مقايسه (پايش) و انجام اقدامات اصلاحي، مشخص مي</a:t>
            </a:r>
            <a:r>
              <a:rPr b="1" lang="ar-SA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‏شوند 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جدول گانت</a:t>
            </a:r>
            <a:r>
              <a:rPr b="1" i="1" lang="ar-SA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Gantt Chart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1694-2E59-4A3F-81CE-7465EDCE8AE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85800" y="2133720"/>
          <a:ext cx="8153280" cy="34542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914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07" name="Line 75"/>
          <p:cNvSpPr/>
          <p:nvPr/>
        </p:nvSpPr>
        <p:spPr>
          <a:xfrm flipH="1">
            <a:off x="6934320" y="365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Rectangle 76"/>
          <p:cNvGrpSpPr/>
          <p:nvPr/>
        </p:nvGrpSpPr>
        <p:grpSpPr>
          <a:xfrm>
            <a:off x="2651040" y="5761080"/>
            <a:ext cx="4230720" cy="1017720"/>
            <a:chOff x="2651040" y="5761080"/>
            <a:chExt cx="4230720" cy="1017720"/>
          </a:xfrm>
        </p:grpSpPr>
        <p:pic>
          <p:nvPicPr>
            <p:cNvPr id="709" name="Rectangle 76" descr=""/>
            <p:cNvPicPr/>
            <p:nvPr/>
          </p:nvPicPr>
          <p:blipFill>
            <a:blip r:embed="rId17"/>
            <a:stretch/>
          </p:blipFill>
          <p:spPr>
            <a:xfrm>
              <a:off x="2651040" y="5761080"/>
              <a:ext cx="42307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2743200" y="58672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raffic"/>
                </a:rPr>
                <a:t>   </a:t>
              </a:r>
              <a:r>
                <a:rPr b="1" lang="ar-SA" sz="2400" spc="-1" strike="noStrike">
                  <a:solidFill>
                    <a:srgbClr val="0b5395"/>
                  </a:solidFill>
                  <a:latin typeface="Times New Roman"/>
                  <a:ea typeface="Titr Mazar"/>
                </a:rPr>
                <a:t>×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مي‏بايستي انجام شو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انجام شده‏اس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Line 77"/>
          <p:cNvSpPr/>
          <p:nvPr/>
        </p:nvSpPr>
        <p:spPr>
          <a:xfrm flipH="1">
            <a:off x="6172200" y="6477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C563-757D-42B1-B423-131731E2A72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1908000" y="1773360"/>
            <a:ext cx="624852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10080">
            <a:solidFill>
              <a:srgbClr val="0bd0d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b5395"/>
                </a:solidFill>
                <a:uFillTx/>
                <a:latin typeface="Times New Roman"/>
                <a:cs typeface="Times New Roman"/>
              </a:rPr>
              <a:t>ارزشيابي و كنتر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شيابي و كنترل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7512-75DD-4277-8FFB-75EB53220C0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28800" y="192888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80808"/>
                </a:solidFill>
                <a:latin typeface="Times New Roman"/>
                <a:cs typeface="Times New Roman"/>
              </a:rPr>
              <a:t>انطباق نتايج با اهداف برنامه و اقدامات اصلاحي درصورت لزوم در اجزا برنامه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از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Vision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تا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ion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از نظ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ساختار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ucture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سيستم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stem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رفتار </a:t>
            </a: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avior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 بدون تعيين استراتژي نبايد در ساختار، سيستم و رفتار تغيير ايجاد نمود</a:t>
            </a:r>
            <a:r>
              <a:rPr b="1" lang="fa-IR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6939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766B-F534-4951-AF3F-CACA8981661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61760" y="1828800"/>
            <a:ext cx="792468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ارزشيابي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valuation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سنجش ميزان تحقق اهداف (اختصاصي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پايش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ing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نطباق فعّاليّت‏ها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ي در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ح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ل اجرا با استانداردهاي برنام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7BF6-15C4-42C7-9318-0C62AE3B56A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1447920" y="3809880"/>
            <a:ext cx="914400" cy="533520"/>
          </a:xfrm>
          <a:prstGeom prst="rect">
            <a:avLst/>
          </a:prstGeom>
          <a:gradFill rotWithShape="0">
            <a:gsLst>
              <a:gs pos="0">
                <a:srgbClr val="cccecf"/>
              </a:gs>
              <a:gs pos="100000">
                <a:srgbClr val="f9fbfd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"/>
          <p:cNvSpPr/>
          <p:nvPr/>
        </p:nvSpPr>
        <p:spPr>
          <a:xfrm>
            <a:off x="23623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6668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b5b9be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0384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cad0d5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51055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410080" y="3809880"/>
            <a:ext cx="1371600" cy="533520"/>
          </a:xfrm>
          <a:prstGeom prst="rect">
            <a:avLst/>
          </a:prstGeom>
          <a:gradFill rotWithShape="0">
            <a:gsLst>
              <a:gs pos="0">
                <a:srgbClr val="cfd9e2"/>
              </a:gs>
              <a:gs pos="100000">
                <a:srgbClr val="e4eef8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6781680" y="411480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7086600" y="3809880"/>
            <a:ext cx="1066680" cy="533520"/>
          </a:xfrm>
          <a:prstGeom prst="rect">
            <a:avLst/>
          </a:prstGeom>
          <a:gradFill rotWithShape="0">
            <a:gsLst>
              <a:gs pos="0">
                <a:srgbClr val="c6cdd4"/>
              </a:gs>
              <a:gs pos="100000">
                <a:srgbClr val="eaf2fa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1214280" y="28584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راساس مدل زنجيره‏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AutoShape 12"/>
          <p:cNvGrpSpPr/>
          <p:nvPr/>
        </p:nvGrpSpPr>
        <p:grpSpPr>
          <a:xfrm>
            <a:off x="1395360" y="2792520"/>
            <a:ext cx="3762360" cy="938160"/>
            <a:chOff x="1395360" y="2792520"/>
            <a:chExt cx="3762360" cy="938160"/>
          </a:xfrm>
        </p:grpSpPr>
        <p:pic>
          <p:nvPicPr>
            <p:cNvPr id="734" name="AutoShape 12" descr=""/>
            <p:cNvPicPr/>
            <p:nvPr/>
          </p:nvPicPr>
          <p:blipFill>
            <a:blip r:embed="rId1"/>
            <a:stretch/>
          </p:blipFill>
          <p:spPr>
            <a:xfrm>
              <a:off x="1395360" y="2792520"/>
              <a:ext cx="3762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1752480" y="3308400"/>
              <a:ext cx="1828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03000"/>
                  </a:solidFill>
                  <a:latin typeface="Times New Roman"/>
                  <a:cs typeface="Traffic"/>
                </a:rPr>
                <a:t>پاي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AutoShape 13"/>
          <p:cNvGrpSpPr/>
          <p:nvPr/>
        </p:nvGrpSpPr>
        <p:grpSpPr>
          <a:xfrm>
            <a:off x="3986280" y="2792520"/>
            <a:ext cx="4219560" cy="938160"/>
            <a:chOff x="3986280" y="2792520"/>
            <a:chExt cx="4219560" cy="938160"/>
          </a:xfrm>
        </p:grpSpPr>
        <p:pic>
          <p:nvPicPr>
            <p:cNvPr id="737" name="AutoShape 13" descr=""/>
            <p:cNvPicPr/>
            <p:nvPr/>
          </p:nvPicPr>
          <p:blipFill>
            <a:blip r:embed="rId2"/>
            <a:stretch/>
          </p:blipFill>
          <p:spPr>
            <a:xfrm>
              <a:off x="3986280" y="2792520"/>
              <a:ext cx="4219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753160" y="3308400"/>
              <a:ext cx="2057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raffic"/>
                </a:rPr>
                <a:t>ارزشياب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‏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A1C7-C5D9-483F-92B0-D67D8D48489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68360" y="1981080"/>
          <a:ext cx="8447040" cy="4267440"/>
        </p:xfrm>
        <a:graphic>
          <a:graphicData uri="http://schemas.openxmlformats.org/drawingml/2006/table">
            <a:tbl>
              <a:tblPr/>
              <a:tblGrid>
                <a:gridCol w="2111400"/>
                <a:gridCol w="2112840"/>
                <a:gridCol w="1879560"/>
                <a:gridCol w="234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تناو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عم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زما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وسع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‏بار مص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ngle U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ك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جهت‏ د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Directional)</a:t>
                      </a: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لند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ng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استراتژ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trateg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ج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tand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تفصي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خا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pecif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وتاه 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hort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عمليّ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Operation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واع برنامه براساس سطوح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4294-4A92-41BA-9B9D-D9F8ADF59AC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99680" y="1642680"/>
            <a:ext cx="83250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استراتژيك</a:t>
            </a:r>
            <a:r>
              <a:rPr b="1" lang="ar-SA" sz="2600" spc="-1" strike="noStrike" u="sng">
                <a:solidFill>
                  <a:srgbClr val="003300"/>
                </a:solidFill>
                <a:uFillTx/>
                <a:latin typeface="Tw Cen MT"/>
                <a:ea typeface="Jadid"/>
              </a:rPr>
              <a:t> </a:t>
            </a:r>
            <a:r>
              <a:rPr b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Strategic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تعيين اهداف بلندمدّت و حياتي سازمان و طريقه نيل به آن، با توجه به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عوامل محيطي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و با درنظر گرفتن آينده سازمان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تاكتيكي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actic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اتخاذ تصميم‏هاي كوتاه مدّت براي حداكثر بهره‏وري از منابع موجود باتوجه به تحوّلات محيط. دراين نوع برنامه‏ريزي </a:t>
            </a:r>
            <a:r>
              <a:rPr b="1" i="1" lang="ar-SA" sz="22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وسايل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ans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لازم براي تحقق اهداف استراتژيك مشخص مي‏شود و اين كار سبب هماهنگي واحدهاي سازماني مي‏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در اين حالت تلاش جهت حصول به</a:t>
            </a:r>
            <a:r>
              <a:rPr b="1" i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ين نتايج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ست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اثربخشي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عملياتي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peration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عمليات (فعّاليّت‏هاي) لازم جهت نيل‏به اهداف استراتژيك، ازطريق وسايل (تاكتيك‏هاي) تعيين‏شده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در اين حالت تلاش جهت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 انجام دادن كارها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ي‏باشد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كارآيي</a:t>
            </a:r>
            <a:r>
              <a:rPr b="1" i="1" lang="ar-SA" sz="2200" spc="-1" strike="noStrike">
                <a:solidFill>
                  <a:srgbClr val="9e0606"/>
                </a:solidFill>
                <a:latin typeface="Tw Cen MT"/>
                <a:ea typeface="Traff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 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D5C2-DD09-409C-B8B2-DF14F797CE9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1928520"/>
            <a:ext cx="81043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w Cen MT"/>
                <a:ea typeface="Arial"/>
              </a:rPr>
              <a:t>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جام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رنامه ريزي خطوط راهنماي كلي و جهت گيري كلي سازمان را مشخص مي سازد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برنامه ريزي عمليات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ملياتي به فعل درآوردن تصميمات و چهارچوب هاي تعيين شده توسط برنامه ريزي جامع اس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ر برنامه جامع جهت تحقق نيازمند برنامه عملياتي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كيب برنامه ريزي جامع و عملياتي را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تلفيق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ي گويند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6:24:56Z</dcterms:created>
  <dc:creator>DELAVAR</dc:creator>
  <dc:description/>
  <dc:language>en-US</dc:language>
  <cp:lastModifiedBy>banijamali</cp:lastModifiedBy>
  <dcterms:modified xsi:type="dcterms:W3CDTF">2021-05-16T07:45:13Z</dcterms:modified>
  <cp:revision>106</cp:revision>
  <dc:subject/>
  <dc:title>Slide 1</dc:title>
</cp:coreProperties>
</file>