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87D-3050-4C24-B52D-A49D345E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DA9-3BE5-4A52-B19D-745706C3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DB1-9E20-4280-9EC0-99116A2D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E927-5080-4AD8-99F2-DA6CDB54A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BE0A-ABAA-43CD-8225-E7165F3E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931-65FC-4784-9DED-B3CD0E61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6F6-623F-4FFC-8D36-CC53076C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4F9-96E4-4579-97D5-9924462F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2CD4-479E-4C44-BCD6-193E8005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642E-69E9-4D26-ADDD-39EB46D1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B1C-097C-4E77-870A-6294DE51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4AE-4FE4-44CC-B1D1-EF22DD34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740-6269-4E48-A049-B8073543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1B7-E930-447B-94DA-D61F7CF8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15B1-F1BE-43DD-8514-30CB7A89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9C06-0654-4554-968C-D49750FC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1F9-4331-4993-8066-D746FB9A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D198-E2A7-46DD-8367-146139929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699-9E0D-409B-B717-9B76826F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3D2B-C2B7-4467-BD97-3EA6C14A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9749-509F-4E7F-90B6-3336AD44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49F5-49DE-4DE9-9EF9-DBE30C88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3B7-86FF-427A-9797-AFFB2DCF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FC3-6A56-48DA-AED4-73FA6B9C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CEC8-21D6-4C4F-8372-519DEBEB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1D23-263C-4005-A68D-081FFDE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4F97-94FF-4ADB-A7DB-DC06820F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41FF-B863-4970-A3AC-28CA084D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587-DC1A-4D7C-A237-FCE1A25F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277-9176-480E-AA43-819374D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3757-6ED6-4879-8D63-762265E4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E219-4BA8-48B7-A49A-486467B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DB5F-8F00-412A-9941-B109429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AA4-38C2-4D3A-A294-A530F76D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509-A1DE-44A6-BAF0-FCB0225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F478-D66D-4825-AEED-CFBBE83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DC6A-B7A8-43F1-99C0-67B41C0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2E7-E2FC-4C37-A377-5529EDF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49F-668A-4F7C-85B3-02DD83C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8219-87FC-48F6-8720-2D28456A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5E7F-42D8-4FF7-8D60-FE37B26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B464-4802-4B5E-9E34-50A4D35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CDBA-B74F-4750-BF0F-BA7BDD4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D8EE-0F76-411C-9E7F-6E561233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C061-94C6-4D65-9772-29CC260D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E65D-CD40-40DF-85FE-CB4C9C0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A96C-73B1-4800-87D5-016FECB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FF53-60AF-407D-B5AC-5CFA49E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683-887F-4837-96E8-266F3A4AA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BDCB-04B0-41AD-B3F6-911ACA3B0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714680"/>
            <a:ext cx="80722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tle P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of a results paper should state concisel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was ask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don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o 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ou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answers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9680" y="1642680"/>
            <a:ext cx="8433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journals limit the length of the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usually to 250 words or les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Uniform Requirements for Manuscripts Submitted to Biomedical Journ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un-structured abstrac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limit the abstract to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150 words or 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no limit is stated, make your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o longer than the abstracts in recent issu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jour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provide a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verview of the main sto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ew essential -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b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oth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read the pap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do not read the pap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21718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ne paragrap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echniques of continu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the paragraph flow. Use signals to indicate the parts of the abstrac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at you found by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We found that"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1565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the answer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conclude that" or "Thus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something similar. Signal implications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suggest that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estion and what was done can usually be written in one sentence in “the form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determine X, we. ...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 the question and what was done are in separate sentences, use signals such a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asked whether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question)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answer this question, we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was do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964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esent ten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 for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 and the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ast ten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to stat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what was done and what was f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cautious present tense verb for implications (for example, "may mediate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carefu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 to omit the 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not to state the question vaguely, and not to state an implication instead of the answ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00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that the question is specific rather than vague, check the question against the answer: use the same key terms for the independent and dependent variables; keep the same point of view; and, to anticipate the answer , use the same verb in the question as in the answe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give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lue, also give data (for example, mean(SD) and the sample siz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4326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short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noun clu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simple words.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void jargon. Avoid abbrev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ep the abstract sh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less important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00" y="1815840"/>
            <a:ext cx="8358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details [unnecessary details of methods, exact data (give percent change)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, "significantly"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repetition (use a category term in what was done and name the variables in what was found; state "mean ::t SD" only onc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e vo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ssive vo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791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unnecessary words (use "Thus" instead of "We conclude that"; use an adjective or an apostrophe instead of an "of' phrase: 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duct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ngs" instead of "rings of ductus arteriosus,"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rings'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vity" instead of "sensitivity of the rings"; but do not omit "a," "an," or "the" when they are necessa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journal to which you are submitting a paper requests a different form for the abstract, follow the requested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itle pag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main tit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yped in uppercase and lowercase let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main title is more than one lin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e a double 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tween the li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bbreviated vers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title is called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unning head(er)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may be used for identification of the report on subsequent p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30680" y="7142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3280" y="357120"/>
            <a:ext cx="7989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terms that you would look up to find your own paper and that would attract the readers you hope to 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urrent, specific terms, preferably medical subject headings (MeSH), that name important topics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hrases as well as singl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journal asks you to supply only terms that are not in the title of the paper, do 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ecessary, include a term as an indexing term even if the term does not appear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Abs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1976400"/>
            <a:ext cx="8358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, methods, results,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eatures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thing that does not appear in full 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i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: justified? obj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s th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ame of the author appears on a separate line beneath th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nal line of the title page information should b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ate on which the pap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s sub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, course, and datelines should be single-spa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Breath of a Second-Hand Smo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zie Q.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212/Law and Eth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68580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ing auth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/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t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               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ook_signed"/>
          <p:cNvPicPr/>
          <p:nvPr/>
        </p:nvPicPr>
        <p:blipFill>
          <a:blip r:embed="rId1"/>
          <a:stretch/>
        </p:blipFill>
        <p:spPr>
          <a:xfrm>
            <a:off x="7667640" y="58579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its name suggests, abstrac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ab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+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rahere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ull) should sele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pullout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ighlights from each section of the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 Abs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840" y="17856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ction of the abstrac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o provide an overview of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view should present the main story and a few essential details of the paper for readers who rea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and should serve as both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preview and a clear, accurate recapitulation of the main stor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readers who read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, the abstract shoul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ake sense both when read alone and when read with the pap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lue_book"/>
          <p:cNvPicPr/>
          <p:nvPr/>
        </p:nvPicPr>
        <p:blipFill>
          <a:blip r:embed="rId1"/>
          <a:stretch/>
        </p:blipFill>
        <p:spPr>
          <a:xfrm>
            <a:off x="7451640" y="5867280"/>
            <a:ext cx="13431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70468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finding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road context of the wo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or three sent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opic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results (not all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most impor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s with implications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Dr. Kabiri</cp:lastModifiedBy>
  <dcterms:modified xsi:type="dcterms:W3CDTF">2011-10-04T08:12:30Z</dcterms:modified>
  <cp:revision>56</cp:revision>
  <dc:subject/>
  <dc:title>Introduction</dc:title>
</cp:coreProperties>
</file>