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073-BE0F-4A20-B7DB-4DDF7FF6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104F-35D1-4B12-A824-B7FFD5F2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060-29DC-47C5-9E2C-41F2D217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6FF-DC48-49CD-B5B3-EDBCCE0E7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1245-7715-4F8E-9A82-C72129D3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A52C-C67E-4730-B9F3-4A5FD0DC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47B-52F7-4D93-B980-DCCE1EE22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D58D-4139-4EDE-8CB9-C9ED6E0D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4863-5CD2-419A-BC68-AEE550E2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FF4-586F-43FA-B1F4-39BB0451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586-D631-4BE1-8271-13959E7E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155-7B3F-4095-8DFB-6258099C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4594-CCD1-438B-BCE2-499E3F378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0F3D-B4BD-4850-BF86-7C237D58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FCD-4F41-452D-B5B9-1A8F9048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B5EC-E704-4413-98DA-B605C945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9C78-CE21-4AF8-AE10-FAC20D8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0856-F8A5-4034-BE6A-6011F9C9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FDFA-56DD-415C-8C2C-2FDAADD0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1FF-2C2C-420A-884E-AB19D653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54F-B3B0-4E29-A252-BA2C2101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08C-F34E-43AF-B256-EB70538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E03-2D49-4A56-9015-D69FF39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DC2-FA3A-4923-9EF0-1A19EB5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204-F7EC-4503-837E-ED14E74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F9B-F885-4691-A834-8AF0944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6F9F-5EBC-40AB-B203-ACE7AF4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9F7-297C-4F1B-BFB8-30B51B6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C3A2-09D8-455C-B0B6-8A267D3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C49F-2B3E-48F0-84F8-D774958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72E1-E453-4978-9F17-AB7E2000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9EBD-AFB5-4049-9D41-CF4DB140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5592-9B4A-4D6A-8C55-D9095E9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873-6BC8-4F91-80AA-A439FBD1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8D48-9857-414E-BCE3-2134E201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6070-2311-4EB9-822A-E45B7E1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EA08-35AA-4CF4-8453-0804868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3604-0F1D-4B22-9EA1-59178B3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9007-C3D8-4915-8B61-FB262BE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681-C5B7-4DEC-B7E4-7BAC4652C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3CF-EF58-4D99-A178-84C7FCD97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nsort-statement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1856880"/>
            <a:ext cx="7696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to Write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aterial &amp; Methods Sec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14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152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enough details for readers to assess the validity of the results, and repeat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standard techniques is used, give appropriate reference, any modifications should be clearly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drug trial, clear description of trial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o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hape &amp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ions and acrony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they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dely kn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t using them could m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ding ted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 in full in the first in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mmediately by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sion or acronym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“We contacte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ld Health Organization (WHO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the relevant inform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ting and Report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nc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. or 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use the same style for ‘ie’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 unit abbrevi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not be defined (eg mL and m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either side of the symb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participants). There sh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pace either sid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eg 10/5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number and the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0.4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 and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“two authors extracted data”)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fe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passive voice (“data were extracted by two author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ther not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(not P-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SS 1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version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web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 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ss than 10 in 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less used with units (eg 5 mL) or in a list with other numbers (eg 6,12, and 24 month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ut in 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a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rt of a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ths out in full to avoid confusion between different regional date formats (May 2000; 1 May 2000), and express decades as, for example, 1960s (no apostroph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rmaceutical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mmended International Non-proprietary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INN) for all pharmaceutical drugs (and put the specific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 name in brack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ATAB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APITAL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Medline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OP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Scopus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Embase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syc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Psychinfo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NAH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Cinah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ays to present summ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 ratio (R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0.14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95% confidence interval (C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8 to 0.24) (use this option if the RR and C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not been abbreviated earl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x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difference 1.11 hours (95% CI 0.98 to 1.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r 1.02, 95% ci 0.87 to 1.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ader to judge the quality of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ies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petition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study design &amp;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result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decimal places (eg p value = 0.0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ess the number is very small (eg p value = 0.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ORT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lidated Standards of Reporting T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veloped by the CONSORT Group to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llev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s arising from inadequate reporting of randomized controlled tria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RC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site: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nsort-statemen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33520" y="0"/>
            <a:ext cx="8001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WWH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(what, who, where, when, why &amp; how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/Participants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isation/Placebo/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/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 and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methods &amp;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y design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, what, where, why, how,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sion/exclusion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ical &amp; chronological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ments defined? justified? detailed? referen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ze jus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ormations and statistical analyses cl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pecial fe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techniques validated prop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the read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our study from the details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16048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to Write Method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for Interventional Studies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3440" y="67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671120"/>
            <a:ext cx="8429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bjects/patients/animals/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 wer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 for selecting the experimental design of the stu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methods used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ction should be called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thods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animate specime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been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28760" y="2071800"/>
            <a:ext cx="82864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ient / Animals / 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on Cri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re they grouped (cases /contr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ed consent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3T14:16:35Z</dcterms:modified>
  <cp:revision>55</cp:revision>
  <dc:subject/>
  <dc:title>Introduction</dc:title>
</cp:coreProperties>
</file>