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8D5E-CE3B-4534-AC7B-D2F23F9A4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C614-3762-4E92-9CB3-9395944E6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0A7A-5459-4345-BFAA-154452A47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4A4B-89F6-4E5D-8257-F4EC70AEE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14F4-CBDF-4ABD-9023-29A647319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434F-BFAC-4B3B-9C23-B3E457D72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29D2-DB0C-4CD6-A4C8-9653AA89B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DD86-9963-4648-B15F-2FB06BF93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3B64-68BB-41A7-BC52-58D6C0D43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EAAF-5517-4CCD-8923-DD08D5476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F58F-5B30-4F36-A6AD-4B9B70F14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DC3E-5D09-4431-A01C-D4DD30392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CE57-1D89-44B0-BCFD-6AE07C9EE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8215-54B7-4777-999D-F5F69C3E9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E331-A2BD-4083-8D5A-E90109D55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0D7F-DFD3-439B-B025-5343CDE9D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FF1F-D69E-4E71-8A5B-5357CD000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3E6F-DE35-4F82-987F-9AAA3BACC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93FD-3250-48F2-86B0-B44677A66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75D8-4219-4B8F-981B-4308DB9B9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6730-5422-42BD-A607-E53B7D629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BCBB-2DD5-4296-91F4-3EC5EF703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1022-35F9-433D-9E8A-9E6D585F0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4406-F4AD-4A9B-8FC7-A01FC3051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5D99-1FD3-463A-BAC4-B7B7DC770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E413-E136-4F18-8827-05106004A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7C60-D2C4-4235-9531-4FC51B506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D3F9-CEBA-432B-9F79-B0107B5BD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E5A2-07D8-4774-96BC-0846C033B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85DF-E3D8-46F2-8EE0-AD9304E7A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B150-9A5F-4017-B22E-5329C139C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1DAA-5AA2-4C47-BDD4-78851AAF2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030A-C686-405F-9D4B-CC03C2FFB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0668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36D1-2D2B-413D-B995-CF9BEDC53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0668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270E-2D2A-4F4A-B968-71224EA31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EBF1-86E7-4651-BF13-F59276E6D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0668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5B08-8953-4F70-9FC8-90615BE33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0FE9-7149-4DB5-8532-0C85164DC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7F46-31FA-432A-B108-01B8191EE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8F90-FBEB-40C8-B97C-2A1A9D596C7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C369-128F-480C-AC19-90A073F1C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BADA-EFD7-48DD-B5A3-F0C0394D8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1969-C436-4E8A-AD75-769FBB478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3F33A-A585-4DE4-A2F6-B192F2E3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99A09-97A4-451F-B66F-AB8E39D4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AC324-4C63-4F14-8CD3-F9DDE3A0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DA749-C06A-44B0-AA7B-EF200DCB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9F7A-2C2B-47D9-88E5-A69CCFFC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F0A1-C1C1-4E50-91F9-48E0C275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4C64-928F-4E40-A26B-231DE0DD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950B-47C8-4A3F-B70F-6F622683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7A7E-E688-4361-86F5-CA4C3008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7F08-264D-45DD-9F6B-28801B44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0EE2-D411-4739-A00F-0999DF45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0E329-68D8-4FEB-B8F0-B495E89A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036E-4CC5-40A2-881F-F4F10083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8173-0264-4E69-A3E3-7848393E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B9DC-0F34-4012-9619-98BC7A15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BDF9-B14D-4B3E-9CDF-FE8D8DB6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2FC7-8610-4678-922B-04ECBEB6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80484-2EFC-4D49-8A7A-26C680B2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B3682-B532-4AD6-A65A-B089B472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DB282-5828-4057-93F1-2F87479A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272AF-70B2-4D8F-8B1F-B3409B5D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F6E4B-FF9D-4B07-A47C-72F1A341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19EB6-0B3A-4FAD-87CB-FB0B7CEA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24058-DCD5-41A6-BC32-56E7801E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03A0-BD0D-4776-89D4-AB01A759C2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2405-48D9-4D7B-A2A4-3E4C9CD7BD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mauicc.hawaii.edu/unit/pace/images/writing.gif&amp;imgrefurl=http://mauicc.hawaii.edu/unit/pace/writn.html&amp;h=364&amp;w=419&amp;prev=/images%3Fq%3Dwriting%26start%3D100%26svnum%3D10%26hl%3Dzh-CN%26lr%3D%26ie%3DUTF-8%26oe%3DUTF-8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0840" y="2356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Arial"/>
                <a:ea typeface="Arabic Transparent"/>
              </a:rPr>
              <a:t>Writing Resul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680" y="428616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writ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4286160"/>
            <a:ext cx="2414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45D6-3690-40CB-B627-BF86A37B778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 and Figures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ssigned numb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ly and in the sequence that you will refer to them from the te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Table you refer to is Table 1, the next Table 2 and so for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ly, the first Figure is Figure 1, the next Figure 2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 and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498E-7DC7-412B-B3B3-4FBF594DA76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referring to a tab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om the 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"Figure" is abbreviated as Fig.,e.g.,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g.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is never abbreviated, e.g.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able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 and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B005-684D-4806-9C8C-96E02C50596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160" y="1559520"/>
            <a:ext cx="1416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Example 1: Courtesy of Shelley Ball.</a:t>
            </a:r>
            <a:br>
              <a:rPr sz="11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196524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-20520" y="1980360"/>
            <a:ext cx="6551280" cy="33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Example 2: Courtesy of Shelley Ball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population_variation_table_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627B-1A8F-4730-8B3A-0B4B43C0658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DED3-4BAB-4155-9445-A4BC87DAFDD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85438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n we want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stingu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result &amp; make 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min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readers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isual presentations of resul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ncluding graphs, diagrams, photos, drawings, schematics, map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ap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he mos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mon typ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fig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s show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e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tter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relationsh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FC17-5266-415C-B893-BEB762283E0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357120" y="2111400"/>
            <a:ext cx="8572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oid clutter (too many numbers or symbo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hould provide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lear statistical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ertica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(“Y”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xis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outcome/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rizonta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(“X”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xis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exposure/in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me &amp;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def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each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ive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measurement un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f each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155E-7920-4329-9042-6B627298D66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9669-EDE0-4085-A1D3-F509AC75D02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1C2A-A4E9-44AD-8B95-83DB946DBC3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2CC2-79AE-4C8F-A94E-0B70ACE0F64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85880" y="2071440"/>
            <a:ext cx="7958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Simpl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Compl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scribe the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popul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stablish how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comparabl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your groups wer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a mixture of text, tables and figu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ntion units of measure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ntion what numbers, brackets, etc. refer 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, 854 (12.3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ring the p val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2833560" y="27558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2833560" y="2286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EDBD-AB6F-49CD-85CF-E100DFF3CE6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31440" y="20271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mist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nd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and interpretation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igures or t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/materials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-304920" y="-228600"/>
            <a:ext cx="9753840" cy="7315200"/>
            <a:chOff x="-304920" y="-228600"/>
            <a:chExt cx="9753840" cy="7315200"/>
          </a:xfrm>
        </p:grpSpPr>
        <p:pic>
          <p:nvPicPr>
            <p:cNvPr id="181" name="Picture 5" descr=""/>
            <p:cNvPicPr/>
            <p:nvPr/>
          </p:nvPicPr>
          <p:blipFill>
            <a:blip r:embed="rId1"/>
            <a:stretch/>
          </p:blipFill>
          <p:spPr>
            <a:xfrm>
              <a:off x="-304920" y="-228600"/>
              <a:ext cx="975384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6"/>
            <p:cNvSpPr/>
            <p:nvPr/>
          </p:nvSpPr>
          <p:spPr>
            <a:xfrm>
              <a:off x="990720" y="2133720"/>
              <a:ext cx="746748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igure 1. Effect of total alkaloid fraction of methanolic extract on mean survival 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-304920" y="-838080"/>
            <a:ext cx="9753840" cy="7315200"/>
            <a:chOff x="-304920" y="-838080"/>
            <a:chExt cx="9753840" cy="7315200"/>
          </a:xfrm>
        </p:grpSpPr>
        <p:pic>
          <p:nvPicPr>
            <p:cNvPr id="186" name="Picture 5" descr=""/>
            <p:cNvPicPr/>
            <p:nvPr/>
          </p:nvPicPr>
          <p:blipFill>
            <a:blip r:embed="rId1"/>
            <a:stretch/>
          </p:blipFill>
          <p:spPr>
            <a:xfrm>
              <a:off x="-304920" y="-838080"/>
              <a:ext cx="975384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6"/>
            <p:cNvSpPr/>
            <p:nvPr/>
          </p:nvSpPr>
          <p:spPr>
            <a:xfrm>
              <a:off x="0" y="5639040"/>
              <a:ext cx="914400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igure 1. Effect of total alkaloid fraction of methanolic extract of unripe fruit of Solanum pseudocapsicum on mean survival time (MST) in tumor bearing mi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6"/>
          <p:cNvSpPr/>
          <p:nvPr/>
        </p:nvSpPr>
        <p:spPr>
          <a:xfrm>
            <a:off x="609480" y="1295280"/>
            <a:ext cx="815364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0" y="144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32C3-6E42-4846-8702-890BD53F719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thing to avoid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present the same data 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able and Fig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this is considered redundant and a waste of space and energ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ich form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est show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and go through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report raw data values when they can be summarize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s means, perc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tc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EC2B-7C3E-4C6E-9ABE-2ABCA4F476B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44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44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89120" y="2138400"/>
            <a:ext cx="782136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big words that you do not really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(without statistical evid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incidence and pre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frequency, rate, proportion,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2116080"/>
            <a:ext cx="78915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only enoug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pre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lead the reader from one experiment to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lengthy analysis and comparison to the work of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eed to follow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ronology of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, provide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gical progres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ell a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Mitra"/>
              </a:rPr>
              <a:t>گزارش نتايج آما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28760" y="1928880"/>
            <a:ext cx="83390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نوشتن تعداد فراواني همراه با درصدها وقتي تعداد نمونه اندك اس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عدم نياز به نوشتن فرمول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ها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ی حجم نمونه و آزمون‌های آما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ارائه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پارامترهايی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كه آزمون شده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اند مانند ميانگين, نسبت يا درصد, ضريب همبستگي, حتي اگر آزمون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ها معني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دار نشده باشن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نوشتن شاخص آزمون و مقدار آن همراه با درجه آزادي و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tra"/>
              </a:rPr>
              <a:t>p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نوشتن مقداردقي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tra"/>
              </a:rPr>
              <a:t>p valu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Mitra"/>
              </a:rPr>
              <a:t> براي آزمون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هاي معني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دار وغيرمعني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دار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Mitra"/>
              </a:rPr>
              <a:t>(تا دو رقم اعشا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تعريف كردن علائمي كه براي نتايج معني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دار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ب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ه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كار مي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رو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Mitra"/>
              </a:rPr>
              <a:t>(مانند ستاره) و ب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ه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كار بردن علائم مشاب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نوشتن اعداد به‌صورت گرد شده با درنظرگرفتن دقت داده‌هاي اوليه (ميانگين تا يك رقم اعشار و انحراف معيار و خطاي معيار تا دو رقم اعشار بيشتر از داده‌هاي خا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درج درصدها تا يك رقم اعشار (گاهي حتي نياز  به ارقام اعشاري هم نيست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نوشتن شاخص‌هايي مانن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tra"/>
              </a:rPr>
              <a:t>t ,r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 تا دو رقم اعشا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>
            <a:off x="144792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Mitra"/>
              </a:rPr>
              <a:t>گزارش نتايج آما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3192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-value in a nut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"/>
          <p:cNvSpPr/>
          <p:nvPr/>
        </p:nvSpPr>
        <p:spPr>
          <a:xfrm>
            <a:off x="2035080" y="4495680"/>
            <a:ext cx="1125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"/>
          <p:cNvSpPr/>
          <p:nvPr/>
        </p:nvSpPr>
        <p:spPr>
          <a:xfrm flipV="1">
            <a:off x="2597040" y="3420720"/>
            <a:ext cx="9720" cy="1684440"/>
          </a:xfrm>
          <a:prstGeom prst="line">
            <a:avLst/>
          </a:prstGeom>
          <a:ln w="1260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698400" y="4267080"/>
            <a:ext cx="16923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 &lt; 0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a statistically significant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754280" y="5105520"/>
            <a:ext cx="18428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Tahoma"/>
              </a:rPr>
              <a:t>p = 0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r 1 in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sult fairly unlikely to be due to ch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1435680" y="3279600"/>
            <a:ext cx="7836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0                                  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2508120" y="1968480"/>
            <a:ext cx="6559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Could the result have occurred by cha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2174760" y="2340000"/>
            <a:ext cx="19702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he result is </a:t>
            </a:r>
            <a:r>
              <a:rPr b="1" lang="en-GB" sz="1600" spc="-1" strike="noStrike" u="sng">
                <a:solidFill>
                  <a:srgbClr val="0066ff"/>
                </a:solidFill>
                <a:uFillTx/>
                <a:latin typeface="Tahoma"/>
              </a:rPr>
              <a:t>unlikely</a:t>
            </a:r>
            <a:r>
              <a:rPr b="1" lang="en-GB" sz="16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o be due to ch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6783480" y="2340000"/>
            <a:ext cx="18255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he result is </a:t>
            </a:r>
            <a:r>
              <a:rPr b="1" lang="en-GB" sz="1600" spc="-1" strike="noStrike" u="sng">
                <a:solidFill>
                  <a:srgbClr val="0066ff"/>
                </a:solidFill>
                <a:uFillTx/>
                <a:latin typeface="Tahoma"/>
              </a:rPr>
              <a:t>likely</a:t>
            </a:r>
            <a:r>
              <a:rPr b="1" lang="en-GB" sz="16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o be due to ch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2"/>
          <p:cNvGrpSpPr/>
          <p:nvPr/>
        </p:nvGrpSpPr>
        <p:grpSpPr>
          <a:xfrm>
            <a:off x="2311560" y="2999880"/>
            <a:ext cx="6072120" cy="406440"/>
            <a:chOff x="2311560" y="2999880"/>
            <a:chExt cx="6072120" cy="406440"/>
          </a:xfrm>
        </p:grpSpPr>
        <p:sp>
          <p:nvSpPr>
            <p:cNvPr id="216" name="Line 13"/>
            <p:cNvSpPr/>
            <p:nvPr/>
          </p:nvSpPr>
          <p:spPr>
            <a:xfrm>
              <a:off x="2311560" y="3203640"/>
              <a:ext cx="607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4"/>
            <p:cNvSpPr/>
            <p:nvPr/>
          </p:nvSpPr>
          <p:spPr>
            <a:xfrm>
              <a:off x="8383680" y="3121200"/>
              <a:ext cx="0" cy="17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5"/>
            <p:cNvSpPr/>
            <p:nvPr/>
          </p:nvSpPr>
          <p:spPr>
            <a:xfrm>
              <a:off x="2311560" y="3127320"/>
              <a:ext cx="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6"/>
            <p:cNvSpPr/>
            <p:nvPr/>
          </p:nvSpPr>
          <p:spPr>
            <a:xfrm flipV="1">
              <a:off x="5340960" y="299988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17"/>
          <p:cNvSpPr/>
          <p:nvPr/>
        </p:nvSpPr>
        <p:spPr>
          <a:xfrm>
            <a:off x="2088360" y="5470560"/>
            <a:ext cx="320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2749680" y="4284720"/>
            <a:ext cx="17287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 &gt; 0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not a statistically significant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>
            <a:off x="4003560" y="2895480"/>
            <a:ext cx="2673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0"/>
          <p:cNvSpPr/>
          <p:nvPr/>
        </p:nvSpPr>
        <p:spPr>
          <a:xfrm>
            <a:off x="4497480" y="5105520"/>
            <a:ext cx="18428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 =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r 1 i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sult quite likely to be due to ch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4901400" y="5470560"/>
            <a:ext cx="320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2"/>
          <p:cNvSpPr/>
          <p:nvPr/>
        </p:nvSpPr>
        <p:spPr>
          <a:xfrm flipV="1">
            <a:off x="5340240" y="396216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fidence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terval (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914400" y="4300560"/>
            <a:ext cx="7543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 range within which the true size of effect (never exactly known) lies, with a given degree of assurance (usually 9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4"/>
          <p:cNvGrpSpPr/>
          <p:nvPr/>
        </p:nvGrpSpPr>
        <p:grpSpPr>
          <a:xfrm>
            <a:off x="3165480" y="2624040"/>
            <a:ext cx="2628720" cy="182520"/>
            <a:chOff x="3165480" y="2624040"/>
            <a:chExt cx="2628720" cy="182520"/>
          </a:xfrm>
        </p:grpSpPr>
        <p:sp>
          <p:nvSpPr>
            <p:cNvPr id="229" name="Oval 5"/>
            <p:cNvSpPr/>
            <p:nvPr/>
          </p:nvSpPr>
          <p:spPr>
            <a:xfrm>
              <a:off x="4424040" y="2624040"/>
              <a:ext cx="182880" cy="182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6"/>
            <p:cNvSpPr/>
            <p:nvPr/>
          </p:nvSpPr>
          <p:spPr>
            <a:xfrm>
              <a:off x="3165480" y="2715840"/>
              <a:ext cx="262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Line 7"/>
          <p:cNvSpPr/>
          <p:nvPr/>
        </p:nvSpPr>
        <p:spPr>
          <a:xfrm flipV="1">
            <a:off x="2462040" y="2776320"/>
            <a:ext cx="633600" cy="14475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 flipV="1">
            <a:off x="5838480" y="2776320"/>
            <a:ext cx="631800" cy="14475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heck list for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eline data provi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y and other endpoints clear and comple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the text complement figures and t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measures of uncertainty mentioned? (SD, SE, C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cs of Writing-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0040" y="200016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most logical sequence to present the data (not necessarily the order in which you did the experi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report the data - do not include interpretation or comparison to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uplication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elines for Writing Result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udy as it was Condu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680" y="2000160"/>
            <a:ext cx="805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the dates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schematic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characteristics of each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 if the sample is represent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 if randomization was success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duration and nature of follow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observations based on judgment, provide assessment of 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delines for Writing Results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udy 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the results for all primary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 statistical finding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actu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tra"/>
              </a:rPr>
              <a:t>p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95% CI 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the main findings in figures or table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ou don’t need to also report them in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 confou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600" y="428400"/>
            <a:ext cx="72644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 Few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irst time you use an abbreviation, define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you give the commercial source for a reagent, the first time you cite the source include the location of the company (city and state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sure the subject and verb agree in every sent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ntract. or exclamation point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 Few Rules -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redundancy within the manu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not to use “it” or “they” - be specifi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jar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horter sentences are frequently much more effective than a long, complex 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” is plural not singular, i.e., “the data are…” NOT “ the data is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F393-6271-40B0-B8B9-CA6447C507E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nd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 not comp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resent data with previously published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text of the Results secti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cis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bject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ssive voi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likely dominate here, but you can use the active voice al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 Few Rules - continu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ize people’s names, i.e., Golgi appar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, ever plagiarize! (even from yourself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umbers when expressing measurements, except when the number would begin a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2760840" y="685800"/>
            <a:ext cx="392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ew York"/>
              </a:rPr>
              <a:t>Questions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question-mark1a.jpg"/>
          <p:cNvPicPr/>
          <p:nvPr/>
        </p:nvPicPr>
        <p:blipFill>
          <a:blip r:embed="rId1"/>
          <a:stretch/>
        </p:blipFill>
        <p:spPr>
          <a:xfrm>
            <a:off x="2666880" y="1563840"/>
            <a:ext cx="38102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42680" y="2933280"/>
            <a:ext cx="73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بزنید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!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B Mitra"/>
              </a:rPr>
              <a:t> Email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اگر میل داشتی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99720" y="4266720"/>
            <a:ext cx="799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abiri@tums.ac.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8A73-F227-4391-B669-BC9585D54C3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Males (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180.5 ± 5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m; n=34) averaged 12.5 cm taller than females (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168 ± 7.6 c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n=34) in the AY 1995 pool of Biology majors (two-sample t-test, t = 5.78, 33 d.f., p &lt; 0.001)."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j0283860"/>
          <p:cNvPicPr/>
          <p:nvPr/>
        </p:nvPicPr>
        <p:blipFill>
          <a:blip r:embed="rId1"/>
          <a:stretch/>
        </p:blipFill>
        <p:spPr>
          <a:xfrm>
            <a:off x="1295280" y="4572000"/>
            <a:ext cx="2667240" cy="1523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4484-0CDE-4B60-A1AA-F11EF708C39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 and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1680" y="1928520"/>
            <a:ext cx="768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using a table to presen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arge amoun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data/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refer to all tables in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gu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graphically represent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signific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Stand alone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otals would reach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 not repe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bles and Figures 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: e.g., there were no significant associat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: e.g. there was a three fold increase in the risk of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 this table in a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ap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Content Placeholder 3" descr="Table.jpg"/>
          <p:cNvPicPr/>
          <p:nvPr/>
        </p:nvPicPr>
        <p:blipFill>
          <a:blip r:embed="rId1"/>
          <a:stretch/>
        </p:blipFill>
        <p:spPr>
          <a:xfrm>
            <a:off x="457200" y="2201760"/>
            <a:ext cx="82296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4140-AEBF-481D-AD27-B841EC976B7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211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able or Figure must include a brief description of the results being presented and other necessary information in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tles &amp; lege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able Tit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bo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able; as tables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ad from top to bott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gure Titles go bel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gure; as figures are usuall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iewed from bottom to 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 and Figures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it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9:18:51Z</dcterms:created>
  <dc:creator>ha</dc:creator>
  <dc:description/>
  <dc:language>en-US</dc:language>
  <cp:lastModifiedBy>Payam Kabiri</cp:lastModifiedBy>
  <dcterms:modified xsi:type="dcterms:W3CDTF">2016-12-04T05:15:10Z</dcterms:modified>
  <cp:revision>56</cp:revision>
  <dc:subject/>
  <dc:title>Introduction</dc:title>
</cp:coreProperties>
</file>