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238-5AF8-46A0-923E-BCD593A82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9D5-F4B1-40C7-AA19-596CAE6E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338-640A-42BD-8D69-9FD18B6966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AFE4-086C-43F9-866C-078358AB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5CA0-2CE5-4A00-997F-AA7DB3CB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7CE-01E5-4097-9659-C2B38098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94C-9EED-45EA-8EF9-1F39DE1E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C43-4FA9-4DCE-B838-7BF2DD32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D937-1EAA-4831-BA2B-09615AA6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424-7195-4D63-8C96-51D6102E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95DF-8D20-4689-8357-5ED07463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669-895A-439F-8965-518866C1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5BB-58AC-4FF5-8E18-0C5C65CE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99C2-6BBA-4423-BB53-2892A99C4D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A3D5-4465-4BF8-A494-F75142B8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7311-4D3F-4C7A-920D-4ECD05F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8CDD-483B-4A4B-9330-7FA3D65E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2C75-7806-4A13-9F60-C16E1EB4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F75F-F8CC-4C43-A0C4-612AC12F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B30A-A00D-41D5-AF81-AAE66388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9262-2A90-438B-961A-1D435FC7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F479-6F7B-4E1B-AA72-A3C1C8D7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5DD-911D-4811-8A29-8EAAC15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203C-A0FD-4FB3-8A15-2960DED1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901-9874-40E3-A00A-04A6445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E44B-3267-45C3-A8EA-71D236E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22F6-8B92-48AF-9984-A5813497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4110-16E4-4138-895E-AA2C37D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E0BF-9E98-4614-B38F-AA4F99F2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093E-91CD-4342-9D71-33620F9B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4DEF-F3DA-40A5-A366-75CFC3B4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38C6-3530-435C-8552-C4B01AEF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7425-4579-4C3A-9B30-31BF779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90E1-AEB7-4C8A-B32F-A5DB95A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0EDD-F73F-4F22-9FE3-0E456AFF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BA2D-44D0-4467-9EDF-9BFF467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6E69-C13F-49E4-9908-723F0EE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25DD-C28D-4BAB-8DB3-F656DE3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E5F5-1E74-4047-A0AF-02E632FFB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C214-AACB-475D-A123-E5AD8FDDD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urnemouth.ac.uk/library/using/guide_to_citing_internet_sour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176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y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1520" y="2050920"/>
            <a:ext cx="8335800" cy="19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s the time for all good men to come to the aid of their country.(Alpay &amp; Russell, 2002)  Four score and seven years ago our forefathers brought forth a new nation conceived in liberty and dedicated to the proposition that all men are created equal.(Balen &amp; Jewesson, 200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62120" y="4129200"/>
            <a:ext cx="81072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ay, L., &amp; Russell, A. (2002). Information technology training in primary care: the nurses' voice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mput Inform Nurs, 2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4), 136-14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en, R. M., &amp; Jewesson, P. J. (2004). Pharmacist computer skills and needs assessment survey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J Med Internet Res, 6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1), e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85723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for about 30 (25-35)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ent review pap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ppropri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decrease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copy of every re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anuscript and make sure the referenced paper says what you say it does!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n’t use abs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-read the reference list especially carefully 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of your reviewers may be ci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1 or 2 references p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ppropriat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ver self-c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extbooks &amp; conference abstr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ferencing to thesis &amp; disser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using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ferences list of you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carefully, balance author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Note or other bibliograph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 Important Referenc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0040" y="2214360"/>
            <a:ext cx="77248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uthor-Dat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Harvard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Numeric Sty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Vancouver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-Date Style sys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te your sources within your text by giving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uthor’s surname(s), year of publ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(when appropriate) page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ry to popular perception, violent crime has been shown to be decreasing (Johnson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mes and Peters (2003) have argued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-Date Styl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eference List 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7964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references are listed in author/dat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lphabet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LAND, M., 2002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uide to citing Internet sour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online]. Poole: Bournemouth University. Available from: 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bournemouth.ac.uk/library/using/guide_to_citing_internet_sourc.htm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Accessed 4 November 2002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XFORD ENGLISH DICTIONARY, 1989. 2nd ed. Oxford: Clarendon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SCO, 1993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eral information programme and UNISI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Paris: UNESCO, (PGI-93/WS/22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SEMAN, S., ed., 1967. 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telligence and 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Harmondsworth: Pengu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eric system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480" y="210348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itation in the text is given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rack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son (1) and Milne (2) take the view that… but other authorities (3) argu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s are list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rd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ibliography, &amp; cited by that number each time they are referred to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eric system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eference List 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204624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ICSON, E.E., 1991. 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apocalyptic vision of Mikhail Bulgakov's ‘The Master and Margarita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ew York: Edwin Mellen, p.1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NE, L., 1977 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The Master and Margarita’: a comedy of victor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irmingham: University of Birmingham, pp.62-3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RATT, A., 1987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tween two worlds: a critical introduction to ‘The Master and Margarita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Oxford: Clarendon Press, p.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ference number points to a single referenc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ncou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819144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s the time for all good men to come to the aid of their country.</a:t>
            </a:r>
            <a:r>
              <a:rPr b="0" lang="en-US" sz="23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Four score and seven years ago our forefathers brought forth a new nation conceived in liberty and dedicated to the proposition that all men are created equal.</a:t>
            </a:r>
            <a:r>
              <a:rPr b="0" lang="en-US" sz="23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006800"/>
            <a:ext cx="815328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ay L, Russell A. Information technology training in primary care: the nurses' voice. Comput Inform Nurs.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2;20(4):136-14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en RM, Jewesson PJ. Pharmacist computer skills and needs assessment survey. J Med Internet Res.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 29 2004;6(1):e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6:54:37Z</dcterms:modified>
  <cp:revision>40</cp:revision>
  <dc:subject/>
  <dc:title>Introduction</dc:title>
</cp:coreProperties>
</file>