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48D7-DB07-4738-9E47-17C4C000B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51CE-D5ED-4CBD-8021-02DF91C0F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D4A7-F10F-45F1-AD8A-20935A1F4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6E61-9A88-4C61-9A5F-EF4D7C3D7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3164-576A-447E-924A-BA528833E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CCD9-0BA7-47BF-B204-57102E67E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270F-E36C-46ED-8D52-54DB2C11E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31D2-0F33-4137-A5E2-C381184E4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BCA6-4D05-4F6D-93F7-5F973B7FD5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26D2-75B6-4376-B094-D627F1DC3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8F88-FDAC-47F4-B991-3CB63F1A3A47}" type="slidenum">
              <a:rPr b="0" lang="fa-I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8577-C14B-450D-B973-47E149B94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C7C7-857C-43EF-B880-61DDA0B0A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FF6A-614C-43D6-85D9-BFF08AEB8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0B0A-8F0B-4D17-8CA7-BB7EA31DB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A1A5-4121-4A4A-BEAF-5A425C600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4950-7FFC-470E-A7FB-74F561663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79A3-8D62-40C9-A85B-F045B21B9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026B-42F9-4090-8E14-998FAD94F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2B85-C6DE-4D3E-8E08-4E1019278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55BF-378B-4196-A895-131957202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09FF-F9E2-4AD5-9FFC-3DC84176D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017A-4271-4404-8953-EB557902E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0757-D073-442E-A9E1-400A094CD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19FFC-EFE7-4472-8CC5-ED1C4B1A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CEAB6-9296-48AC-8614-C5473A3E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CAFEB-FA44-4CA5-BC3A-B76CFDF2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C4B0C-3735-43D5-9B64-0AFD1F9C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78AD-21A7-40C7-9933-3500A36B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2E17-0259-4CF6-941E-D6BD00FE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A279-BFD7-4EC7-854B-EF6A5D83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221B-D93B-43FD-963C-91320536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BC1A-83E3-4DEB-944C-917CB5FE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7D60-6D6B-4C22-BCED-D0C2156F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2B07-4F22-40E0-8D72-CB6CBF99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74C61-03AB-4D3E-8987-7346284E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9EFD-08A7-49E4-AF1A-7125B08C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79CF-478A-43AD-8954-1D0A23B4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4808-E66C-408F-9CC8-05CBC30B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CB4B-8F26-45AD-9E65-4985F1E0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016C-D6DC-4C03-B3BB-C3E9CB47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F7B7A-DCF0-4A44-B5A5-D41BF6DD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74A9A-CF81-4F97-901E-84D8AD70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0F077-C473-4303-A0D2-CA3CDC10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B4B23-0D09-4E6C-9E37-B1A2E9DC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63292-59BB-46C2-A996-D3C5B6A2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F83B6-2D3A-4CA7-A94B-7BEA75E4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A72AE-596D-42A2-9838-87A6CE77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53B6-0C69-42A5-9E88-9C4E44A7A1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BEAE-B6D4-4DB8-A4B8-E76130C920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05040" y="2356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Notes About Tit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66680" y="428616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am Kabiri, MD. P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ment of Epidemiology &amp; Bio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hran Universi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come Again !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Content Placeholder 7" descr="13.gif"/>
          <p:cNvPicPr/>
          <p:nvPr/>
        </p:nvPicPr>
        <p:blipFill>
          <a:blip r:embed="rId1"/>
          <a:stretch/>
        </p:blipFill>
        <p:spPr>
          <a:xfrm>
            <a:off x="361800" y="1643040"/>
            <a:ext cx="83440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Content Placeholder 8" descr="23929-3.jpg"/>
          <p:cNvPicPr/>
          <p:nvPr/>
        </p:nvPicPr>
        <p:blipFill>
          <a:blip r:embed="rId1"/>
          <a:stretch/>
        </p:blipFill>
        <p:spPr>
          <a:xfrm>
            <a:off x="642960" y="2286000"/>
            <a:ext cx="77533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in suggestions for titl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ise and preci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Informative and descrip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Not misleading or unrepresenta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Specific – for example, include type of study and numbers (if larg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Words appropriate for classific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Interesting not d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Finally chec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accurat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Is it in any way misleading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Does it contain essential key words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Is it interes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ive (State what paper covers, not what it s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ve (Good to start writing wi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48744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Mitra"/>
              </a:rPr>
              <a:t>عنوان مقا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2230200"/>
            <a:ext cx="769608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just" rtl="1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"/>
                <a:cs typeface="Mitra"/>
              </a:rPr>
              <a:t>عنوان اصلی</a:t>
            </a: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Mitra"/>
              </a:rPr>
              <a:t>	</a:t>
            </a: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Mitra"/>
              </a:rPr>
              <a:t>	</a:t>
            </a: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Mitr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itra"/>
              </a:rPr>
              <a:t>Main Tit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itra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just" rtl="1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"/>
                <a:cs typeface="Mitra"/>
              </a:rPr>
              <a:t>عنوان مکرری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nning Tit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227664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How to Write </a:t>
            </a:r>
            <a:br>
              <a:rPr sz="6000"/>
            </a:b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Introduction Section</a:t>
            </a: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066680" y="4286160"/>
            <a:ext cx="777240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am Kabiri, MD. P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ment of Epidemiology &amp; Bio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hran Universi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2960" y="200016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, concise description of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kground to th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vious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at work is de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your research will be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the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3 to 4 para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2556000" y="404640"/>
            <a:ext cx="4105080" cy="1008360"/>
          </a:xfrm>
          <a:prstGeom prst="rect">
            <a:avLst/>
          </a:prstGeom>
          <a:solidFill>
            <a:srgbClr val="9999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aragraph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What we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356000" y="1557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2484360" y="2708280"/>
            <a:ext cx="4176720" cy="100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aragraph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What we don’t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556000" y="5229360"/>
            <a:ext cx="4032000" cy="107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aragraph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Why we did this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4390920" y="39765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5480" y="164304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Mitra"/>
              </a:rPr>
              <a:t>Existing state of knowled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Mitra"/>
              </a:rPr>
              <a:t>Gaps in knowledge which research will fil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Mitra"/>
              </a:rPr>
              <a:t>State what you Intend to do &amp; the purpose of artic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Mitra"/>
              </a:rPr>
              <a:t>Give pertinent referen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Mitra"/>
              </a:rPr>
              <a:t>Summarize the rationale for study or observ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fine specialized terms or abbreviations you want to us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48744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Mitra"/>
              </a:rPr>
              <a:t>عنوان مقا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1680" y="2142720"/>
            <a:ext cx="811512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just" rtl="1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Mitra"/>
              </a:rPr>
              <a:t> عنوان مقاله را هزاران نفر مي‌خوانند، درحالي که تعداد اندکي کل مقاله را بررسي مي‌کنند. عنوان مقاله در صفحه محتواي مجله و نيز در اندکس‌هاي پزشکي توسط بسياري خوانده مي‌شو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r>
              <a:rPr b="0" lang="fa-IR" sz="3600" spc="-1" strike="noStrike">
                <a:solidFill>
                  <a:srgbClr val="000000"/>
                </a:solidFill>
                <a:latin typeface="Arial"/>
                <a:cs typeface="Mitra"/>
              </a:rPr>
              <a:t>عنوان مانند تابلوي يک مغازه است و يا محصول يک کارخانه يا مزرعه است و لذا بايد جذاب باشد، تا افراد را براي خواندن مقاله جذب کن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erted pyram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xidative stress plays an important role in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LDL particles are oxidized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tioxidants are important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Paraoxonas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make it a review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 not include methods, results and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put down every all previous studies &amp; their data g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explain pathophysiology irrelevant to your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eck list for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it clear why you did the stud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es your study add to knowled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criticism justified and gent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be left 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998800" y="685800"/>
            <a:ext cx="34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ew York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G:\Users\Mine\Desktop\question-mark2a.jpg"/>
          <p:cNvPicPr/>
          <p:nvPr/>
        </p:nvPicPr>
        <p:blipFill>
          <a:blip r:embed="rId1"/>
          <a:stretch/>
        </p:blipFill>
        <p:spPr>
          <a:xfrm>
            <a:off x="2500200" y="1643040"/>
            <a:ext cx="41277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42680" y="2933280"/>
            <a:ext cx="734868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بزنید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!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B Mitra"/>
              </a:rPr>
              <a:t> Email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اگر میل داشتی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999720" y="4266720"/>
            <a:ext cx="7991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abiri@tums.ac.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&amp; most of the times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nly part of an arti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readers and editor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e and 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elements that advertises the paper’s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form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be helpful to choose the titl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en the paper is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8744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Mitra"/>
              </a:rPr>
              <a:t>عنوان مقا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8400" y="2214360"/>
            <a:ext cx="825804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"/>
                <a:cs typeface="Mitra"/>
              </a:rPr>
              <a:t>عنوان مقاله بايد با حداقل تعداد کلمات و درعين‌حال به‌طور کافي بيان‌گر محتواي مقاله باشد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Mitra"/>
              </a:rPr>
              <a:t> کلمه‌هاي کوتاه انتخاب شو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Mitra"/>
              </a:rPr>
              <a:t> مبهم نبوده، دقيق باش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Mitra"/>
              </a:rPr>
              <a:t> کلمه‌هاي اختصاصي بکار رو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Mitra"/>
              </a:rPr>
              <a:t> کلمه‌ها آشنا باش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11"/>
          <p:cNvPicPr/>
          <p:nvPr/>
        </p:nvPicPr>
        <p:blipFill>
          <a:blip r:embed="rId1"/>
          <a:stretch/>
        </p:blipFill>
        <p:spPr>
          <a:xfrm>
            <a:off x="395280" y="4437000"/>
            <a:ext cx="18730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ception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Content Placeholder 3" descr="1.jpg"/>
          <p:cNvPicPr/>
          <p:nvPr/>
        </p:nvPicPr>
        <p:blipFill>
          <a:blip r:embed="rId1"/>
          <a:stretch/>
        </p:blipFill>
        <p:spPr>
          <a:xfrm>
            <a:off x="428760" y="1857240"/>
            <a:ext cx="828180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0040" y="171468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Short and sim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State subject, not conclu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Include study desig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Include time and place if necessa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Begin with a keywo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Avoid abbrevi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ove empty phrases such as “ A study of…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Subtitles (notice number of words) “Exercise and Coronary Heart Disease: Framingham Offspring Study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571320" y="1857240"/>
            <a:ext cx="81961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itra"/>
              </a:rPr>
              <a:t>بهتر است که عنوان با </a:t>
            </a:r>
            <a:r>
              <a:rPr b="0" lang="fa-IR" sz="3200" spc="-1" strike="noStrike">
                <a:solidFill>
                  <a:srgbClr val="ff0000"/>
                </a:solidFill>
                <a:latin typeface="Arial"/>
                <a:cs typeface="Mitra"/>
              </a:rPr>
              <a:t>کلمات کليدی و اصلی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tra"/>
              </a:rPr>
              <a:t>Keyword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) شروع شود. به‌عبارت ديگر بهتر است که عنوان شامل کلمات کليدی و اصلی باشد که بوسيله تعدادی حروف ربط درکنار يکديگر قرار گرفته‌اند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 Aortic Stenosis ,Von Willebrand Factor , and Bleeding 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"Acquired Von Willebrand syndrome in Aortic Stenosi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"Risk of Bacterial Meningitis in Children with Cochlear Im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487440"/>
            <a:ext cx="91440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Mitra"/>
              </a:rPr>
              <a:t>عنوان مقا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just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itra"/>
              </a:rPr>
              <a:t>گاهی اوقات بهتر است که عنوان مقاله به صورت </a:t>
            </a:r>
            <a:r>
              <a:rPr b="0" lang="fa-IR" sz="3200" spc="-1" strike="noStrike">
                <a:solidFill>
                  <a:srgbClr val="ff0000"/>
                </a:solidFill>
                <a:latin typeface="Arial"/>
                <a:cs typeface="Mitra"/>
              </a:rPr>
              <a:t>سوالی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 مطرح شود که باعث ترغيب خواننده گردد. اصولا طرح عنوان مقاله به صورت سوال، يکی از الگوهای عنوان نويسی می‌باش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" Do Bisphosphonates Make Children’s Bones Better or Brittle ?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" Use It or Lose It –Do Effortful Mental Activities Protect against Dementia?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" Behind the Research : Death by Voluntary Dehydration –What the Caregivers Say ?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48744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Mitra"/>
              </a:rPr>
              <a:t>عنوان مقا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s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13840" y="1785960"/>
            <a:ext cx="85726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 New England Journal of Medicin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c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scrip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not declarativ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 Lanc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c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forma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 Annals of Internal Medicin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A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ie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possible while conveying essential features of the article’s cont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 BMJ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Keep them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9:18:51Z</dcterms:created>
  <dc:creator>ha</dc:creator>
  <dc:description/>
  <dc:language>en-US</dc:language>
  <cp:lastModifiedBy>Payam Kabiri</cp:lastModifiedBy>
  <dcterms:modified xsi:type="dcterms:W3CDTF">2016-03-10T07:02:24Z</dcterms:modified>
  <cp:revision>46</cp:revision>
  <dc:subject/>
  <dc:title>Introduction</dc:title>
</cp:coreProperties>
</file>