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274-59E6-40ED-9AE2-E515EBD4F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DDA-9BAF-4899-AAAA-37234C5B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8F4-BC9B-4525-9934-98EEBCA5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EC1-2D4E-4ACD-A2C6-09F34F3D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9A85-9E58-493B-8029-14A2E231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BC9A-1FE0-4803-86FC-9AD73E7F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88D5-11F6-4079-A586-644C8BBE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5E97-678F-4C0D-B99C-2A581C7D9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865-3D62-4675-8366-CBA150BE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6F91-33AD-4BD6-AAB1-8A1411BB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CFE4-EE38-4D14-91BB-8246E315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A1CB-B0D1-442E-92EB-29086604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93D-6800-4C84-B4B3-9204D6CB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C434-CE6C-453D-B6EE-154C353B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FDCB-FDCF-47A9-88EE-C61E711A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A474-D0BC-4A42-B916-86C79EC7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857-A48D-49C8-8346-E1631371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5AE-D5CB-4D82-9013-EDC43A51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AB7C-4F7B-4750-8BB5-75C6F306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0EB2-A8DE-4EBA-9CE1-C0A963F7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0C7-CE84-433C-B40D-4FE9F00AB9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5A0-ADE9-4905-A9AF-D85C1844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0BE-5B31-4923-AECA-3812023F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55C-D6BC-4FBF-BE17-50D5232E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9B2-C007-4B31-BD78-99F664B5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C0C5-311C-43AD-99EE-F4B6254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F8B5-8860-43FF-8800-D933474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24B1-6E1B-4BDA-95FE-FC2257AA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929C-4605-48DB-9644-DE355454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098D-282E-43AD-AE36-1BB4193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46D-EE69-4140-ABDF-0535D64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CEF8-C1FB-4BAF-A17B-3956E9D4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1C73-AF5A-4BA0-BE41-EF90179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BC7D-F336-4F96-9431-484E18F8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0E1F-8327-4039-B585-5A05231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953F-D433-4355-B763-802105A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22E1-AA22-47B4-87BB-2C9FA4B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5D42-49A6-467A-A787-C80EBBAC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9CD-E392-4A7E-A08C-B550932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C19F-08CD-4FCD-9515-C75ACB04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D30-E3D7-4ACA-A328-802B9B89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387-7220-4010-8A35-95041AD4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A99E-4D69-4579-BBA0-ABF71C63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EFA0-8C62-49CA-9E73-538F720B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125C-E65E-4538-A944-D6AC489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2529-48BD-4964-B53E-FAD014D5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FF78-6CD0-4080-8C6B-4014661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4857-5D28-4699-B8F9-3ED258D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90F8-E899-4DF9-B9CF-727C214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707-F065-4613-850A-DF695FEAB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D6A-6955-485C-AC9C-B07A15632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 Discussion S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mplication of your finding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generalize your results beyo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s of the type of participants included in you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isappointing papers are those in which the conclusions are not backed up by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be too tentative if you found a strong association between the exposure and outcomes that you were investig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r results suggest that vitamin consumption could be associated with a decreased risk of respiratory illn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Discussion no longer than necessary to state, support, explain, and defend the answers to the questions and present any other necessary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or 8 paragraphs maximum of three or four sentenc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sistent with target journal’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mai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relevant important previou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results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doubts, weaknesses, and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results provide answers to your testable hypothe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how do you interpret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findings agree with what others have sh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do they suggest an alternative explanation or perhaps a unforeseen design flaw in your experiment (or theirs?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our conclusions, what is our new understanding of the problem you investigated and outlined in the Introduction?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eaknesses, shortcomings. Be fair: this will build trust. Don’t over-criticize yourself, don’t go to unnecessary details.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arranted, what would be the next step in your study, e.g., what experiments would you do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rse of Introduction (pyram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discussion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every key finding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finding in terms of what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is study is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e  results concur/ disagree with current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us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ut future directions/ continued knowled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4DE-7DF7-404F-ADF1-08AE4B8F09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362320" y="1857240"/>
            <a:ext cx="451476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927000" y="754200"/>
            <a:ext cx="73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Writ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B192-51BB-4830-AC11-3650DE6B54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4112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ever possible in this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 your points cle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per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kay, but too much use of the first person may actually distract the reader from the main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AFAE-FF43-4B4D-9207-5C9DE6A708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0040" y="17856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your experiment to make it 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w questions did this experiment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ad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ta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your experimental design, di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cuss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x it for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89A1-378D-485B-982A-9B27F5B60D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28760" y="1857240"/>
            <a:ext cx="83055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o write Briefly &amp; summarize your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cations of your results for other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 findings in light of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ncile findings with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your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6160" y="806400"/>
            <a:ext cx="81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nction of Discussion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graphs in Dis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999800"/>
            <a:ext cx="79581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st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ce broa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e majo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nd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it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st 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es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1547640" y="620640"/>
            <a:ext cx="6120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did this study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500720" y="165420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14520" y="2311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rength &amp; weaknesses of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547640" y="4030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3 to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How results support or refute current litera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547640" y="5724360"/>
            <a:ext cx="61912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nal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mpact on current thinking o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00720" y="337032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00720" y="5076720"/>
            <a:ext cx="341280" cy="609840"/>
          </a:xfrm>
          <a:prstGeom prst="downArrow">
            <a:avLst>
              <a:gd name="adj1" fmla="val 50000"/>
              <a:gd name="adj2" fmla="val 44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id this study 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summary of what you really found and why it wa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will add to current knowledge or chang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hrases to begin wit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sults from this study showed that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 results indicate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we found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960" y="1978200"/>
            <a:ext cx="769932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ste entire sentences restating your results; if you need to remind the reader of the result to be discussed, use "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dge Sent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 that relate the result to the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4846680"/>
          <a:ext cx="6553080" cy="13255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"The slow response of the lead-exposed neurons relative to controls suggests that...[interpretation]".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graph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ength &amp; weaknes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3410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earch is ever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hance, bias, or confounding may have influenced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minimized this po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earch is better than what has gon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3 to n-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e with current litera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ults agree or disagree with other studies and with other related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highly relevant and scientifically valid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 to the literature need to be both focused and 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1-24T08:43:10Z</dcterms:modified>
  <cp:revision>45</cp:revision>
  <dc:subject/>
  <dc:title>Introduction</dc:title>
</cp:coreProperties>
</file>