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EBA-87DF-49C0-A8BD-4383D307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8107-BBCA-4771-8FE9-A231E2DDD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9E6-8EF9-4426-97F3-B11F5C07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3373-80A0-4A0A-BF0F-106FF7904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F450-0BEE-41FB-9144-E0E83B33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F80-B2A2-43E9-8A33-03589A4C7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251-E080-456C-8632-CBF969AA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090-9905-4D91-9613-5F3F5BEC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7CCC-AA62-4702-9BEC-8B01363A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BC57-5451-4774-B1D1-AE4E134A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33C8-EB79-4658-B51D-C1207ED7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2F5C-C3F3-4AA2-B780-94D8D157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44DA-AA1F-48F9-B41C-3A9FD0042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867-B542-44EC-99D4-EDB5BA44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B691-877B-496C-A981-6256D4DC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5A39-E850-4B44-A6C0-230D3828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7EA1-AB2F-4511-BFE1-3D91721F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A3AF-F742-4CB5-8E90-2779B3F4A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E0E5-77A6-460B-9DCA-2F831523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0229-29AE-48DD-ABE4-7864972156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A7C-3755-4D60-B5AB-95FF0E43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D1F-D2A9-47AE-A707-F9929F62F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E2F-8954-42EE-B571-5907AC0E6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40A6-BCD1-4330-9819-27EC2D25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AEB-62A6-4746-BC0B-D8F13D83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C43-D2F8-4E09-8247-9B7D6401F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2B3-3AA9-47DD-8986-F3E08A376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BE17-9788-4719-8960-9E6C27F4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FFFF-084D-4E8D-B1BD-9C0CB353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ublishing Addic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93F1-371E-4164-A807-5B1DF834B99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9AC3-1216-4DDB-ADF8-668699CC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23C2-BA61-4C01-8C0F-775AC858B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0B36-A820-4F0A-89E2-55E2EB47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5177-6B1D-454A-B9C0-F2B4E32E0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9F72-D9EC-40BB-8352-9C7294CF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EEF2-6F16-4B42-926F-8A995F808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DC1-1616-4501-BB5F-0984D6C2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D99-074D-49B3-87F7-C7EACE3E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E2F-91A3-4EE9-8D02-24DAD79F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DE3-8DD9-4328-A1AE-097B3E23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50DF-4E93-43B4-B1E1-44A96E3F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1D0-0A01-4471-9ACF-576EFC231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6C83-C59F-4BBE-AD63-D92810A5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285D-6F71-4D52-A679-B73E429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1244-825A-4F89-8903-4B54996D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87E5-D1EF-40EE-AEF5-DC899608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6BC-92BD-44E1-A701-BA154871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67F1-C694-496F-956F-BE1AB04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CE06-0CB3-46FE-BBB6-64FEB3F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11F-5D87-4D1B-B622-DD533F2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AA6-6413-4398-B318-0CF5CCC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383C-55EE-4F69-98F3-9A926C68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DB7-7B20-4037-A46F-C6A44F2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B758-B555-45B0-ADD9-C2AE0BE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C6D3-D317-4C38-949D-200CD50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BAF2-0EEA-402A-843D-BF4B9F4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E0D2-D7CB-4CD9-BAAB-E0AB98CE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2F5A-5D83-4C02-8881-A620A1C3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6BD-AFE6-4F6D-BA52-128A1B9E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AD2-9119-47A3-AABB-0A3DBDF2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8699-02C6-4930-8E05-561B2B51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C8DD-2D49-45D8-8652-F01BAF21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508D-9ED5-4033-9DCD-8F3F14A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0DDE-33E9-4F79-B6E4-1AA8D916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6B53-4E0F-4FB9-9303-155701F0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460F-4999-4D8F-9D23-6F87B78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D04B-D9A4-47C5-B281-19B1A44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12B1-65CD-4074-A8D3-9ACD526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66F8-A76D-4834-9282-7BD7597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CE2D-87B4-4218-BDB4-F31A5AAB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FC1E-498F-4426-801F-D76CC752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F6EE-7730-41E3-8717-3BF1FB72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9D0C-396D-4327-B09E-87785A27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DCCF-0D5A-46E5-A7AA-BB75BD0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4AD1-B5A3-4BCA-85C0-63D5556F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C95F-1944-4FAC-A22D-EB95F1C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2593-48E3-4B8D-9E7B-AB8B610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15A5-CFBF-48E6-A873-5B2CBAD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299F-A644-431E-8F9A-A1FCE1D43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EB62-1D0E-4475-B493-9DA76D059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D922-5110-4F26-9E56-B7597C4C4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jcr.clarivate.com/" TargetMode="External"/><Relationship Id="rId2" Type="http://schemas.openxmlformats.org/officeDocument/2006/relationships/hyperlink" Target="https://jcr.clarivate.com/" TargetMode="External"/><Relationship Id="rId3" Type="http://schemas.openxmlformats.org/officeDocument/2006/relationships/hyperlink" Target="https://jcr.clarivate.com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800" y="1857240"/>
            <a:ext cx="76960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Where to Publis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 our Research Pap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400" y="1785600"/>
            <a:ext cx="83055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by Elsevier Science Publishers, Nether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of Journ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uropean in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aur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own 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Cover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ong on Pharmaceutical and Clinical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Index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s, Editorials, Research Articles from 1974 or 1981 onwards (depending on method of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 with MEDLINE estimated at between 25 and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% of References contain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pdated Weekly and is about 4 weeks 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mbase &amp; Med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pproximately 50%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verage: Medline 1966-; Embase 1984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rminology differs e.g. back pain/back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mits –differences; Medline has more e.g. Publication type - R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600" y="685440"/>
            <a:ext cx="85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 versions of electron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2055600"/>
            <a:ext cx="89154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ndex Medicu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MEDL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cerpta Medic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MB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cience Citation Inde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eb of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3962520"/>
          <a:ext cx="8153280" cy="2498760"/>
        </p:xfrm>
        <a:graphic>
          <a:graphicData uri="http://schemas.openxmlformats.org/drawingml/2006/table">
            <a:tbl>
              <a:tblPr/>
              <a:tblGrid>
                <a:gridCol w="4076640"/>
                <a:gridCol w="2036880"/>
                <a:gridCol w="203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d 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87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6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Citation 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1080"/>
            <a:ext cx="84009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abase name pro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nstitute of Scientific Inform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ous in our country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S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name now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rivate Analytics, No ISI availab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of Sciences is the same database that we calculate the Journa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gle Sch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http://scholar.google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journal is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means it should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vice ve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onf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I Master list Journa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of Science indexed ab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4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ur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549000"/>
            <a:ext cx="8389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Journal Impact Fac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760" y="1928520"/>
            <a:ext cx="8143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primarily invented to screen thos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igh qualit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urnals into be includ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SI Web of Sc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verage citation frequency for articles published in a jour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ow many tim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 average, during the study year the articles that appeared in the 2 preceding years of that journal received citations in othe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ISI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ed journal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95440" y="1143000"/>
            <a:ext cx="7162560" cy="1523880"/>
            <a:chOff x="1495440" y="1143000"/>
            <a:chExt cx="7162560" cy="1523880"/>
          </a:xfrm>
        </p:grpSpPr>
        <p:sp>
          <p:nvSpPr>
            <p:cNvPr id="198" name="Rectangle 3"/>
            <p:cNvSpPr/>
            <p:nvPr/>
          </p:nvSpPr>
          <p:spPr>
            <a:xfrm>
              <a:off x="149544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388296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627048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1" name="Object 2"/>
          <p:cNvGraphicFramePr/>
          <p:nvPr/>
        </p:nvGraphicFramePr>
        <p:xfrm>
          <a:off x="6524640" y="1571760"/>
          <a:ext cx="712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1571760"/>
                    <a:ext cx="712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7"/>
          <p:cNvSpPr/>
          <p:nvPr/>
        </p:nvSpPr>
        <p:spPr>
          <a:xfrm>
            <a:off x="210492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61952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98184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1495440" y="4967280"/>
            <a:ext cx="5562360" cy="533520"/>
            <a:chOff x="1495440" y="4967280"/>
            <a:chExt cx="5562360" cy="533520"/>
          </a:xfrm>
        </p:grpSpPr>
        <p:graphicFrame>
          <p:nvGraphicFramePr>
            <p:cNvPr id="207" name="Object 3"/>
            <p:cNvGraphicFramePr/>
            <p:nvPr/>
          </p:nvGraphicFramePr>
          <p:xfrm>
            <a:off x="1495440" y="4967280"/>
            <a:ext cx="45396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95440" y="4967280"/>
                      <a:ext cx="453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Text Box 12"/>
            <p:cNvSpPr/>
            <p:nvPr/>
          </p:nvSpPr>
          <p:spPr>
            <a:xfrm>
              <a:off x="2104920" y="5051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ource paper – published in 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13" descr=""/>
          <p:cNvPicPr/>
          <p:nvPr/>
        </p:nvPicPr>
        <p:blipFill>
          <a:blip r:embed="rId5"/>
          <a:stretch/>
        </p:blipFill>
        <p:spPr>
          <a:xfrm>
            <a:off x="1495440" y="5614920"/>
            <a:ext cx="39384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104920" y="565956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ited reference – published 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1495440" y="6186600"/>
            <a:ext cx="5334120" cy="457200"/>
            <a:chOff x="1495440" y="6186600"/>
            <a:chExt cx="5334120" cy="457200"/>
          </a:xfrm>
        </p:grpSpPr>
        <p:pic>
          <p:nvPicPr>
            <p:cNvPr id="213" name="Picture 16" descr=""/>
            <p:cNvPicPr/>
            <p:nvPr/>
          </p:nvPicPr>
          <p:blipFill>
            <a:blip r:embed="rId6"/>
            <a:stretch/>
          </p:blipFill>
          <p:spPr>
            <a:xfrm>
              <a:off x="1495440" y="6186600"/>
              <a:ext cx="393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7"/>
            <p:cNvSpPr/>
            <p:nvPr/>
          </p:nvSpPr>
          <p:spPr>
            <a:xfrm>
              <a:off x="2104920" y="6231240"/>
              <a:ext cx="47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ited reference – published in 2016 or 20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1571760" y="4562640"/>
            <a:ext cx="2214360" cy="368280"/>
            <a:chOff x="1571760" y="4562640"/>
            <a:chExt cx="2214360" cy="368280"/>
          </a:xfrm>
        </p:grpSpPr>
        <p:grpSp>
          <p:nvGrpSpPr>
            <p:cNvPr id="216" name="Group 19"/>
            <p:cNvGrpSpPr/>
            <p:nvPr/>
          </p:nvGrpSpPr>
          <p:grpSpPr>
            <a:xfrm>
              <a:off x="1571760" y="4643280"/>
              <a:ext cx="309600" cy="142560"/>
              <a:chOff x="1571760" y="4643280"/>
              <a:chExt cx="309600" cy="142560"/>
            </a:xfrm>
          </p:grpSpPr>
          <p:sp>
            <p:nvSpPr>
              <p:cNvPr id="217" name="Line 20"/>
              <p:cNvSpPr/>
              <p:nvPr/>
            </p:nvSpPr>
            <p:spPr>
              <a:xfrm>
                <a:off x="1576800" y="4643280"/>
                <a:ext cx="30456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571760" y="4785840"/>
                <a:ext cx="30492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22"/>
            <p:cNvSpPr/>
            <p:nvPr/>
          </p:nvSpPr>
          <p:spPr>
            <a:xfrm>
              <a:off x="2185920" y="45626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3"/>
          <p:cNvSpPr/>
          <p:nvPr/>
        </p:nvSpPr>
        <p:spPr>
          <a:xfrm>
            <a:off x="6296040" y="7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Immediac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3705120" y="327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ac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3" descr=""/>
          <p:cNvPicPr/>
          <p:nvPr/>
        </p:nvPicPr>
        <p:blipFill>
          <a:blip r:embed="rId7"/>
          <a:stretch/>
        </p:blipFill>
        <p:spPr>
          <a:xfrm>
            <a:off x="7881840" y="164304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4" descr=""/>
          <p:cNvPicPr/>
          <p:nvPr/>
        </p:nvPicPr>
        <p:blipFill>
          <a:blip r:embed="rId8"/>
          <a:stretch/>
        </p:blipFill>
        <p:spPr>
          <a:xfrm>
            <a:off x="4848120" y="160020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5" descr=""/>
          <p:cNvPicPr/>
          <p:nvPr/>
        </p:nvPicPr>
        <p:blipFill>
          <a:blip r:embed="rId9"/>
          <a:stretch/>
        </p:blipFill>
        <p:spPr>
          <a:xfrm>
            <a:off x="2381400" y="1571760"/>
            <a:ext cx="590400" cy="685800"/>
          </a:xfrm>
          <a:prstGeom prst="rect">
            <a:avLst/>
          </a:prstGeom>
          <a:ln w="0">
            <a:noFill/>
          </a:ln>
        </p:spPr>
      </p:pic>
      <p:cxnSp>
        <p:nvCxnSpPr>
          <p:cNvPr id="225" name="AutoShape 46"/>
          <p:cNvCxnSpPr/>
          <p:nvPr/>
        </p:nvCxnSpPr>
        <p:spPr>
          <a:xfrm flipH="1" rot="16200000">
            <a:off x="7345800" y="963360"/>
            <a:ext cx="153000" cy="1081800"/>
          </a:xfrm>
          <a:prstGeom prst="curvedConnector5">
            <a:avLst>
              <a:gd name="adj1" fmla="val -586320"/>
              <a:gd name="adj2" fmla="val 50000"/>
              <a:gd name="adj3" fmla="val -586320"/>
            </a:avLst>
          </a:prstGeom>
          <a:ln w="10152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226" name="AutoShape 47"/>
          <p:cNvCxnSpPr/>
          <p:nvPr/>
        </p:nvCxnSpPr>
        <p:spPr>
          <a:xfrm flipH="1" rot="16200000">
            <a:off x="6597720" y="929880"/>
            <a:ext cx="2160" cy="3139200"/>
          </a:xfrm>
          <a:prstGeom prst="curvedConnector5">
            <a:avLst>
              <a:gd name="adj1" fmla="val 61600000"/>
              <a:gd name="adj2" fmla="val 49994"/>
              <a:gd name="adj3" fmla="val 61600000"/>
            </a:avLst>
          </a:prstGeom>
          <a:ln w="10152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7" name="AutoShape 48"/>
          <p:cNvCxnSpPr/>
          <p:nvPr/>
        </p:nvCxnSpPr>
        <p:spPr>
          <a:xfrm flipH="1" rot="16200000">
            <a:off x="5444280" y="-222480"/>
            <a:ext cx="2160" cy="5444280"/>
          </a:xfrm>
          <a:prstGeom prst="curvedConnector5">
            <a:avLst>
              <a:gd name="adj1" fmla="val 104500000"/>
              <a:gd name="adj2" fmla="val 50000"/>
              <a:gd name="adj3" fmla="val 104500000"/>
            </a:avLst>
          </a:prstGeom>
          <a:ln w="10152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8" name="AutoShape 49"/>
          <p:cNvCxnSpPr/>
          <p:nvPr/>
        </p:nvCxnSpPr>
        <p:spPr>
          <a:xfrm flipH="1" flipV="1" rot="5400000">
            <a:off x="4578480" y="-1064160"/>
            <a:ext cx="123120" cy="7149240"/>
          </a:xfrm>
          <a:prstGeom prst="curvedConnector5">
            <a:avLst>
              <a:gd name="adj1" fmla="val -1625806"/>
              <a:gd name="adj2" fmla="val 50000"/>
              <a:gd name="adj3" fmla="val -162580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29" name="Text Box 50"/>
          <p:cNvSpPr/>
          <p:nvPr/>
        </p:nvSpPr>
        <p:spPr>
          <a:xfrm>
            <a:off x="357120" y="3633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ed ½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680" y="1143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168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28400" y="1143000"/>
            <a:ext cx="152640" cy="1523880"/>
            <a:chOff x="428400" y="1143000"/>
            <a:chExt cx="152640" cy="1523880"/>
          </a:xfrm>
        </p:grpSpPr>
        <p:sp>
          <p:nvSpPr>
            <p:cNvPr id="233" name="Line 28"/>
            <p:cNvSpPr/>
            <p:nvPr/>
          </p:nvSpPr>
          <p:spPr>
            <a:xfrm flipH="1">
              <a:off x="428400" y="1143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28400" y="1295280"/>
              <a:ext cx="152640" cy="304920"/>
              <a:chOff x="428400" y="1295280"/>
              <a:chExt cx="152640" cy="304920"/>
            </a:xfrm>
          </p:grpSpPr>
          <p:sp>
            <p:nvSpPr>
              <p:cNvPr id="235" name="Line 30"/>
              <p:cNvSpPr/>
              <p:nvPr/>
            </p:nvSpPr>
            <p:spPr>
              <a:xfrm>
                <a:off x="428760" y="129528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1"/>
              <p:cNvSpPr/>
              <p:nvPr/>
            </p:nvSpPr>
            <p:spPr>
              <a:xfrm flipH="1">
                <a:off x="428400" y="14475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2"/>
            <p:cNvGrpSpPr/>
            <p:nvPr/>
          </p:nvGrpSpPr>
          <p:grpSpPr>
            <a:xfrm>
              <a:off x="428400" y="1904760"/>
              <a:ext cx="152640" cy="304560"/>
              <a:chOff x="428400" y="1904760"/>
              <a:chExt cx="152640" cy="304560"/>
            </a:xfrm>
          </p:grpSpPr>
          <p:sp>
            <p:nvSpPr>
              <p:cNvPr id="238" name="Line 33"/>
              <p:cNvSpPr/>
              <p:nvPr/>
            </p:nvSpPr>
            <p:spPr>
              <a:xfrm flipH="1" flipV="1">
                <a:off x="428400" y="19047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V="1">
                <a:off x="428760" y="20570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5"/>
            <p:cNvGrpSpPr/>
            <p:nvPr/>
          </p:nvGrpSpPr>
          <p:grpSpPr>
            <a:xfrm>
              <a:off x="428400" y="1599840"/>
              <a:ext cx="152640" cy="304560"/>
              <a:chOff x="428400" y="1599840"/>
              <a:chExt cx="152640" cy="304560"/>
            </a:xfrm>
          </p:grpSpPr>
          <p:sp>
            <p:nvSpPr>
              <p:cNvPr id="241" name="Line 36"/>
              <p:cNvSpPr/>
              <p:nvPr/>
            </p:nvSpPr>
            <p:spPr>
              <a:xfrm flipH="1" flipV="1">
                <a:off x="428400" y="15998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7"/>
              <p:cNvSpPr/>
              <p:nvPr/>
            </p:nvSpPr>
            <p:spPr>
              <a:xfrm flipV="1">
                <a:off x="428760" y="17524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8"/>
            <p:cNvGrpSpPr/>
            <p:nvPr/>
          </p:nvGrpSpPr>
          <p:grpSpPr>
            <a:xfrm>
              <a:off x="428400" y="2209680"/>
              <a:ext cx="152640" cy="304560"/>
              <a:chOff x="428400" y="2209680"/>
              <a:chExt cx="152640" cy="304560"/>
            </a:xfrm>
          </p:grpSpPr>
          <p:sp>
            <p:nvSpPr>
              <p:cNvPr id="244" name="Line 39"/>
              <p:cNvSpPr/>
              <p:nvPr/>
            </p:nvSpPr>
            <p:spPr>
              <a:xfrm flipH="1" flipV="1">
                <a:off x="428400" y="2209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40"/>
              <p:cNvSpPr/>
              <p:nvPr/>
            </p:nvSpPr>
            <p:spPr>
              <a:xfrm flipV="1">
                <a:off x="428760" y="236196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428760" y="2514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42"/>
          <p:cNvSpPr/>
          <p:nvPr/>
        </p:nvSpPr>
        <p:spPr>
          <a:xfrm>
            <a:off x="647640" y="15238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Previous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ula &amp;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33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re is a journal, published some papers in 2016 &amp; 201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1680" y="3571920"/>
          <a:ext cx="7786440" cy="1503360"/>
        </p:xfrm>
        <a:graphic>
          <a:graphicData uri="http://schemas.openxmlformats.org/drawingml/2006/table">
            <a:tbl>
              <a:tblPr/>
              <a:tblGrid>
                <a:gridCol w="4000320"/>
                <a:gridCol w="1285920"/>
                <a:gridCol w="1285920"/>
                <a:gridCol w="1214280"/>
              </a:tblGrid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otal Papers Publi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itations Achieved in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285920" y="5610240"/>
            <a:ext cx="61070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6760" y="2214360"/>
            <a:ext cx="8458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in the current JCR year to articles published in the previou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yea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umber of artic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the previous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ations in 201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icles published in 2016 +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2016 + 2017 Paper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6"/>
          <p:cNvSpPr/>
          <p:nvPr/>
        </p:nvSpPr>
        <p:spPr>
          <a:xfrm>
            <a:off x="1371600" y="52452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session’s Cont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09640" y="198108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مجلات علوم پزشکي، تقسيم‌بندي و انو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معرفي انواع نمايه‌نامه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نمايه‌نامه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نمايه‌نام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Med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ضريب اثر مج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tra"/>
              </a:rPr>
              <a:t>Impact Factor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و بازيابي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مجلات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دسترسي با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tra"/>
              </a:rPr>
              <a:t>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بانک اطلاعات نشريات داخ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انتخاب مجله مناس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1520" y="428400"/>
            <a:ext cx="8670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Journal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71520" y="2373120"/>
            <a:ext cx="8415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ournal Impact Facto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calculated for those journals only which are indexed &amp; includ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Web of Sci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bases, NOT more,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SI Indexing              Having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cep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4"/>
          <p:cNvCxnSpPr/>
          <p:nvPr/>
        </p:nvCxnSpPr>
        <p:spPr>
          <a:xfrm flipH="1" flipV="1">
            <a:off x="4056840" y="4742640"/>
            <a:ext cx="14295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lg"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Find Impact Fac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47140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atabase which contain the Journal Impact Factors i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ournal Citation Repor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breviated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JC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fro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urnal Citation Re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hrough IS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Excel Datasheets, prepared especially for this ma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our related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ournals Impact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00200" y="2595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lick Here for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atest IF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owse By Jou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eft box of the brought page, select your subject categori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the              at the butto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4"/>
          <a:stretch/>
        </p:blipFill>
        <p:spPr>
          <a:xfrm>
            <a:off x="4316400" y="4714920"/>
            <a:ext cx="941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29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4691160" y="2122560"/>
            <a:ext cx="3657600" cy="9144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00b084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481120" y="2351160"/>
            <a:ext cx="3048120" cy="48564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29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880920" y="1741320"/>
            <a:ext cx="1524240" cy="1905120"/>
          </a:xfrm>
          <a:prstGeom prst="foldedCorner">
            <a:avLst>
              <a:gd name="adj" fmla="val 12500"/>
            </a:avLst>
          </a:prstGeom>
          <a:solidFill>
            <a:srgbClr val="e7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Manu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804960" y="6858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en Access M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83640" y="521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2481120" y="2808360"/>
            <a:ext cx="4800600" cy="533160"/>
          </a:xfrm>
          <a:custGeom>
            <a:avLst/>
            <a:gdLst>
              <a:gd name="textAreaLeft" fmla="*/ 915480 w 4800600"/>
              <a:gd name="textAreaRight" fmla="*/ 3103560 w 48006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39" hR="21600" stAng="10800000" swAng="-5400000"/>
                <a:lnTo>
                  <a:pt x="9845" y="21600"/>
                </a:lnTo>
                <a:arcTo wR="8239" hR="21600" stAng="5400000" swAng="-1612984"/>
                <a:lnTo>
                  <a:pt x="19945" y="12986"/>
                </a:lnTo>
                <a:lnTo>
                  <a:pt x="17280" y="0"/>
                </a:lnTo>
                <a:lnTo>
                  <a:pt x="11305" y="12986"/>
                </a:lnTo>
                <a:lnTo>
                  <a:pt x="14822" y="12986"/>
                </a:lnTo>
                <a:arcTo wR="8239" hR="21600" stAng="3787016" swAng="1484631"/>
                <a:lnTo>
                  <a:pt x="9042" y="21497"/>
                </a:lnTo>
                <a:arcTo wR="8239" hR="21600" stAng="5528353" swAng="5271647"/>
                <a:close/>
              </a:path>
              <a:path fill="darkenLess" w="21600" h="21600">
                <a:moveTo>
                  <a:pt x="0" y="0"/>
                </a:moveTo>
                <a:arcTo wR="8239" hR="21600" stAng="10800000" swAng="-5400000"/>
                <a:lnTo>
                  <a:pt x="9845" y="21600"/>
                </a:lnTo>
                <a:arcTo wR="8239" hR="21600" stAng="5400000" swAng="128353"/>
                <a:lnTo>
                  <a:pt x="9042" y="21497"/>
                </a:lnTo>
                <a:arcTo wR="8239" hR="21600" stAng="5528353" swAng="5271647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4005360" y="318924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2473200" y="357012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Author pays small amount of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or rather, institution pays on author’s be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7"/>
          <p:cNvGrpSpPr/>
          <p:nvPr/>
        </p:nvGrpSpPr>
        <p:grpSpPr>
          <a:xfrm>
            <a:off x="2295000" y="4906800"/>
            <a:ext cx="5672520" cy="1266840"/>
            <a:chOff x="2295000" y="4906800"/>
            <a:chExt cx="5672520" cy="1266840"/>
          </a:xfrm>
        </p:grpSpPr>
        <p:sp>
          <p:nvSpPr>
            <p:cNvPr id="276" name="Rectangle 8"/>
            <p:cNvSpPr/>
            <p:nvPr/>
          </p:nvSpPr>
          <p:spPr>
            <a:xfrm>
              <a:off x="4309920" y="4906800"/>
              <a:ext cx="36576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Verdana"/>
                </a:rPr>
                <a:t>Everyone has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Verdana"/>
                </a:rPr>
                <a:t>All use is fair use</a:t>
              </a:r>
              <a:r>
                <a:rPr b="0" lang="en-GB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2295000" y="4982760"/>
              <a:ext cx="1726200" cy="1190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</a:rPr>
                <a:t>OP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</a:rPr>
                <a:t>C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pen Access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Med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bMed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blic Library of Sc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Journal of Medical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Open Access achiev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oM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the business model: removing subscription charges and introducing article processing charges, whilst allowing authors to keep the copyright to their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le processing charge of £1000-2000 per published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ver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lour charges or other ‘hidden’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further financed by some advertising, BioMed Central’s Institutional Membership Program and value-added subscript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 Access publishing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0964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one` with Internet access can freely read the papers, no need to worry about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Visibility = Maximum impa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 Central’s papers average &gt;200 downloads per article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hance of being c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ystem for submission, peer review and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day of 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age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without delay in PubMed and deposited without embargo in PubMed Central and other secur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304920" y="520236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</a:rPr>
              <a:t>Full Peer Review • Immediate Publication • Ope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Documents and Settings\janv\Desktop\BMC.Front.logo.tif"/>
          <p:cNvPicPr/>
          <p:nvPr/>
        </p:nvPicPr>
        <p:blipFill>
          <a:blip r:embed="rId1"/>
          <a:srcRect l="0" t="5435" r="0" b="0"/>
          <a:stretch/>
        </p:blipFill>
        <p:spPr>
          <a:xfrm>
            <a:off x="1828800" y="808200"/>
            <a:ext cx="54039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dical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400,000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0,000 Active Jou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Active &amp; Valid Biomedical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Millions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ioMed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ringer-Nature publisher sinc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out 200 open access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y already having impac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stigious publ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, pressure on Thomson/ISI for inclusion in the journal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icle processing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000-2000 € (depending on the jour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e still free (the newest, 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doaj.org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Content Placeholder 6" descr="1.jpg"/>
          <p:cNvPicPr/>
          <p:nvPr/>
        </p:nvPicPr>
        <p:blipFill>
          <a:blip r:embed="rId1"/>
          <a:stretch/>
        </p:blipFill>
        <p:spPr>
          <a:xfrm>
            <a:off x="380880" y="2133720"/>
            <a:ext cx="8456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estions to answer in choosing a journal for paper sub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8400" y="2060640"/>
            <a:ext cx="839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or international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ud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taba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dexes Jou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disciplinary 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pecial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ourn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ournal’s conten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rea/scop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ces o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ccepta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pact fac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ctical matter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ime to publ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Pub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Content Placeholder 3" descr="0.gif"/>
          <p:cNvPicPr/>
          <p:nvPr/>
        </p:nvPicPr>
        <p:blipFill>
          <a:blip r:embed="rId1"/>
          <a:stretch/>
        </p:blipFill>
        <p:spPr>
          <a:xfrm>
            <a:off x="490680" y="1947960"/>
            <a:ext cx="8153280" cy="4190760"/>
          </a:xfrm>
          <a:prstGeom prst="rect">
            <a:avLst/>
          </a:prstGeom>
          <a:ln w="0">
            <a:noFill/>
          </a:ln>
        </p:spPr>
      </p:pic>
      <p:sp>
        <p:nvSpPr>
          <p:cNvPr id="294" name="Rounded Rectangle 4"/>
          <p:cNvSpPr/>
          <p:nvPr/>
        </p:nvSpPr>
        <p:spPr>
          <a:xfrm>
            <a:off x="719280" y="2500200"/>
            <a:ext cx="1523880" cy="100008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ider practical aspe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99680" y="2209680"/>
            <a:ext cx="8286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quency &amp; public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er reviewed &amp;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cceptance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ulk of articles in 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ccepta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5640" y="7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or Another Languag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factor (English journals typically 3.0, single other language about 0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 English speaking colleague, not a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journals will help with copyediting but reviewers need readable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langu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nternational audience: English is probably the language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: Publish in several languages (with editors’ per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national audiences: publish in the language of the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the following for Ministry of Health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ved Journals: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ttp://journals.research.ac.i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ider your chances of being accep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42960" y="2214720"/>
            <a:ext cx="8143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ance rates: English language: 15 - 95%,      non-English: 25 -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: many journals do not know their acceptance rates or do not want to st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ance depends on quality and style of the article and administrative resources of the journal (some journals may help with text and language edi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09480" y="6248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13360" y="6031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ider, but do not be fooled by, the Journal Impact Factor (JI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IF is determined by the frequency at which articles in that journal were 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impact journals have more prestige, but JIF depends on other things, like number of co-authors and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English journals are at a 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mber of databases indexing the journal will determine who sees abstract of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ee where a journal is index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in which database a journal is indexed &amp; where we can find its full text, search your journal name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ource Fin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ttp://rsf.research.ac.i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mprehensive OR Core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9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d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ubjects Specified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nd choosing an appropriate journal to 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to look for the jour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agues’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ranian Medical Journals Database at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ournals.research.ac.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378000" y="1628640"/>
            <a:ext cx="8388000" cy="5172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2124000" y="4221000"/>
            <a:ext cx="719280" cy="360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mprehensive OR Core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5640" y="2471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of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81080"/>
            <a:ext cx="84009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abase name pro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nstitute of Scientific Inform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ous in our country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S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name now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rivate Analytics, No ISI availab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of Sciences is the same database that we calculate the Journa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Datab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bjects Specified Databa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40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Pharmaceutical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ych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14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tional Library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aphic Dat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55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ver 29,000,0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s of both clinical and preclinical stu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database known 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MED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citations and abstracts for studies that have been published recently but not yet inde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ject 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Specialties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 of References contain Abs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b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id 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lsevier Medline, … all are the same &amp; have the same database content but different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x Medi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same, different generation of Me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3:40:56Z</dcterms:modified>
  <cp:revision>104</cp:revision>
  <dc:subject/>
  <dc:title>Introduction</dc:title>
</cp:coreProperties>
</file>