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wmf" ContentType="image/x-wmf"/>
  <Override PartName="/ppt/media/image7.png" ContentType="image/png"/>
  <Override PartName="/ppt/media/image8.jpeg" ContentType="image/jpeg"/>
  <Override PartName="/ppt/media/image10.wmf" ContentType="image/x-wmf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AAA3-2FD3-4C11-895D-650301D04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6FC4-C3DD-43AF-9D3A-995079E0F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F35F-406C-4D85-A2AA-9A99B57D71F3}" type="slidenum">
              <a:rPr b="0" lang="fa-I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5F3D-AF2E-402F-A2C6-71F8F326E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9F9D-94BB-408F-A278-9EF99F0CF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1583-E8FC-451B-8EAA-BFA561BCB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135D-3630-4CB9-AADC-96E14AB6A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AAE1-E500-4328-81F3-E9C889CC2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8EB7-9D3C-432A-9DE1-F952C86E7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F496-35AB-4006-9AFB-C5BBEBA81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62DD-D6F1-4C81-848E-8864D788635C}" type="slidenum">
              <a:rPr b="0" lang="fa-I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1CB3-5D89-4BAE-9647-DC6DF0124650}" type="slidenum">
              <a:rPr b="0" lang="fa-I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080A-5FA3-4002-B47F-161BEA07C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CDC8-94F5-4308-9220-95A853F58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BD17-D50C-4568-BC16-85F726CEE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F086-6F1D-4A64-A204-335DC751C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6980-3FE3-44C8-998C-9B2156B46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0AF0-5F09-47DB-8C88-5540BD629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4CA5-2C79-439C-A747-AEBF8FDA7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0D22-3495-44F4-8833-05825F80696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760320" y="684360"/>
            <a:ext cx="2745000" cy="20588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2971800"/>
            <a:ext cx="5486400" cy="54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59A0-F6B2-400D-BA90-DF047C44E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4694-997E-4ECF-9417-5F1DA2ACF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0D9D-A3A5-44FB-BB57-2AC799D02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CE1C-4069-4B58-9B3D-EEA454A0A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40B5-DA1E-4467-A2E1-BD7B1CF4D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080B-D543-42AA-8BE2-63BABF412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557E-E128-4451-ACF0-934B188E4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49DB-FFF6-4039-8BF3-02B7E87AD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18BC-B682-4762-B648-64CF505C5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70AA-AD9A-404A-B48E-A8C30DAD0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474F-00AF-43BA-AC46-94718DE1A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57E7-CA70-47A4-BA6A-6514004AF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A6D6-7134-49A0-911B-E80797777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E415-96CB-494B-A99C-FEC2A0B01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F950-7074-4866-BA36-F8EB7B3AA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8DF02-FC39-467F-8BF6-B97F04403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83293-18F9-4C58-BC9C-2C251AEA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EA270-8E22-43E9-A450-02AAC5597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C1FA8-D88C-4977-B1AE-2C216F81F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EAF6-8A3D-420F-B9A3-96564B9C4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7342-6BFD-4DE0-8975-0F75513E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A051-2B4A-4217-A62E-5A80B6F7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CC9C-E09B-41E6-83D8-911A4BDF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30D9-9A90-4B03-A6BB-8EC2A826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FBD5-AC79-46CA-8D75-ED762309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0DDC-3014-4D30-AFC2-288EEB2E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12A8D-99E3-47E4-B8A1-C9222F90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3B8F-82F2-4721-967E-1D59FA67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7A5B-E798-40DA-A4ED-1430E19C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FA879-B684-4A3D-ABF2-35CB509A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D0C9-5708-41C6-925E-3B98D1359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C417-52D4-4837-B0E1-D2240F8CC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B5C8D-4DCA-4D6C-AB87-952DCF14B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D745C-768B-4103-9737-FF1C6E0F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C18EB-53F7-4D3B-951E-D91E5F6A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41FB4-96E0-4676-B217-FFB886BA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AE8FE-F07C-4D1A-83DD-72D0ABF0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29A75-F78E-439F-A8F3-CF79A4FA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F872F-61CF-4B8B-8312-FFD494B4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4A46B-A1C5-4392-AD34-83EAD936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BDCEB-F749-4AA6-BE34-CA2A5A8A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263BA-DD95-4893-B4BE-52B9B568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D3B8D-8931-49C2-B2FA-9F2556E0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1D9A3-9572-44F3-BFED-499EC99C6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56ADC-401C-420E-AABD-7BE38EBFE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7C060-5117-4CDC-8A37-6E62E8C3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AA84B-6946-4590-8505-799F455E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7E55F-1F62-48DB-A144-5F25BC02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F09C2-CBB7-422B-819D-50386159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0A876-52E4-40FC-B531-02C7895F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541F3-AEFF-40E9-944F-CC517646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912D-2D4B-45D5-B674-3682185673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0F7B-B400-4E37-BB5D-893203195B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1CB0-B95B-4318-9401-504DDD95BA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71720" y="2356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cientific Writing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in Medical Scien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066680" y="4286160"/>
            <a:ext cx="77724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am Kabiri, MD. Ph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demi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artment of Epidemiology &amp; Bio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ool of Public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hran University of Medical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93720" y="5713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“Scientific Writing”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28400" y="1857240"/>
            <a:ext cx="807228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ientific wri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o convey ideas and facts about scientific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understand and criticize each other's work through their artic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ientific wri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uld be intelligible to readers at the first reading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5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0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Publis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99680" y="1928520"/>
            <a:ext cx="70405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nowledge contribu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s scientific rig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lows feedback (improves work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motes care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cument produ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cument impact on field/repu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ertises your lab for future traine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mproves chances of  fund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ulfills an obligation (public monie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aluating an Academic Person though his/her CV Pap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284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pa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e of pub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of jou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on in list of auth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Cartoon researcher intimidated by a long CV"/>
          <p:cNvPicPr/>
          <p:nvPr/>
        </p:nvPicPr>
        <p:blipFill>
          <a:blip r:embed="rId1"/>
          <a:stretch/>
        </p:blipFill>
        <p:spPr>
          <a:xfrm>
            <a:off x="5483160" y="2514600"/>
            <a:ext cx="32036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rt of Scientific Writ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25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ublish or Perish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s in Scientific 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00040" y="17856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poli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jour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instructions to authors/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raf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26640" y="60912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s firs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37404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32"/>
          <p:cNvGrpSpPr/>
          <p:nvPr/>
        </p:nvGrpSpPr>
        <p:grpSpPr>
          <a:xfrm>
            <a:off x="609480" y="1600200"/>
            <a:ext cx="7925040" cy="4724280"/>
            <a:chOff x="609480" y="1600200"/>
            <a:chExt cx="7925040" cy="4724280"/>
          </a:xfrm>
        </p:grpSpPr>
        <p:sp>
          <p:nvSpPr>
            <p:cNvPr id="201" name="AutoShape 33"/>
            <p:cNvSpPr/>
            <p:nvPr/>
          </p:nvSpPr>
          <p:spPr>
            <a:xfrm>
              <a:off x="609480" y="1600200"/>
              <a:ext cx="7925040" cy="4724280"/>
            </a:xfrm>
            <a:prstGeom prst="rect">
              <a:avLst/>
            </a:prstGeom>
            <a:noFill/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34"/>
            <p:cNvSpPr/>
            <p:nvPr/>
          </p:nvSpPr>
          <p:spPr>
            <a:xfrm>
              <a:off x="1432080" y="1752480"/>
              <a:ext cx="6445440" cy="672120"/>
            </a:xfrm>
            <a:prstGeom prst="rightArrow">
              <a:avLst>
                <a:gd name="adj1" fmla="val 50000"/>
                <a:gd name="adj2" fmla="val 284672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36"/>
            <p:cNvSpPr/>
            <p:nvPr/>
          </p:nvSpPr>
          <p:spPr>
            <a:xfrm>
              <a:off x="666720" y="1904760"/>
              <a:ext cx="78516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37"/>
            <p:cNvSpPr/>
            <p:nvPr/>
          </p:nvSpPr>
          <p:spPr>
            <a:xfrm>
              <a:off x="683280" y="3253320"/>
              <a:ext cx="1565640" cy="5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UDIES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XPERI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38"/>
            <p:cNvSpPr/>
            <p:nvPr/>
          </p:nvSpPr>
          <p:spPr>
            <a:xfrm>
              <a:off x="914040" y="3988800"/>
              <a:ext cx="1248480" cy="5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RITE 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BM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39"/>
            <p:cNvSpPr/>
            <p:nvPr/>
          </p:nvSpPr>
          <p:spPr>
            <a:xfrm>
              <a:off x="762480" y="4612320"/>
              <a:ext cx="1530360" cy="5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WRITE 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SUBM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40"/>
            <p:cNvSpPr/>
            <p:nvPr/>
          </p:nvSpPr>
          <p:spPr>
            <a:xfrm>
              <a:off x="1211760" y="5279400"/>
              <a:ext cx="61776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41"/>
            <p:cNvSpPr/>
            <p:nvPr/>
          </p:nvSpPr>
          <p:spPr>
            <a:xfrm>
              <a:off x="919080" y="5732640"/>
              <a:ext cx="131724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UBLISHED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42"/>
            <p:cNvSpPr/>
            <p:nvPr/>
          </p:nvSpPr>
          <p:spPr>
            <a:xfrm rot="16200000">
              <a:off x="4340520" y="2347560"/>
              <a:ext cx="1002240" cy="993600"/>
            </a:xfrm>
            <a:custGeom>
              <a:avLst/>
              <a:gdLst>
                <a:gd name="textAreaLeft" fmla="*/ 640440 w 1002240"/>
                <a:gd name="textAreaRight" fmla="*/ 1002600 w 1002240"/>
                <a:gd name="textAreaTop" fmla="*/ 28800 h 993600"/>
                <a:gd name="textAreaBottom" fmla="*/ 964800 h 9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01"/>
                    <a:pt x="10800" y="2001"/>
                  </a:cubicBezTo>
                  <a:lnTo>
                    <a:pt x="10800" y="8799"/>
                  </a:lnTo>
                  <a:cubicBezTo>
                    <a:pt x="10800" y="9800"/>
                    <a:pt x="5400" y="10800"/>
                    <a:pt x="0" y="10800"/>
                  </a:cubicBezTo>
                  <a:cubicBezTo>
                    <a:pt x="5400" y="10800"/>
                    <a:pt x="10800" y="11801"/>
                    <a:pt x="10800" y="12801"/>
                  </a:cubicBezTo>
                  <a:lnTo>
                    <a:pt x="10800" y="19599"/>
                  </a:lnTo>
                  <a:cubicBezTo>
                    <a:pt x="10800" y="206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43"/>
            <p:cNvSpPr/>
            <p:nvPr/>
          </p:nvSpPr>
          <p:spPr>
            <a:xfrm rot="16200000">
              <a:off x="3296520" y="2505960"/>
              <a:ext cx="283320" cy="394200"/>
            </a:xfrm>
            <a:custGeom>
              <a:avLst/>
              <a:gdLst>
                <a:gd name="textAreaLeft" fmla="*/ 181080 w 283320"/>
                <a:gd name="textAreaRight" fmla="*/ 283680 w 283320"/>
                <a:gd name="textAreaTop" fmla="*/ 45360 h 394200"/>
                <a:gd name="textAreaBottom" fmla="*/ 348840 h 39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3992"/>
                    <a:pt x="10800" y="7983"/>
                  </a:cubicBezTo>
                  <a:lnTo>
                    <a:pt x="10800" y="2817"/>
                  </a:lnTo>
                  <a:cubicBezTo>
                    <a:pt x="10800" y="6809"/>
                    <a:pt x="5400" y="10800"/>
                    <a:pt x="0" y="10800"/>
                  </a:cubicBezTo>
                  <a:cubicBezTo>
                    <a:pt x="5400" y="10800"/>
                    <a:pt x="10800" y="14792"/>
                    <a:pt x="10800" y="18783"/>
                  </a:cubicBezTo>
                  <a:lnTo>
                    <a:pt x="10800" y="13617"/>
                  </a:lnTo>
                  <a:cubicBezTo>
                    <a:pt x="10800" y="17609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44"/>
            <p:cNvSpPr/>
            <p:nvPr/>
          </p:nvSpPr>
          <p:spPr>
            <a:xfrm>
              <a:off x="3420360" y="2845800"/>
              <a:ext cx="0" cy="56556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45"/>
            <p:cNvSpPr/>
            <p:nvPr/>
          </p:nvSpPr>
          <p:spPr>
            <a:xfrm>
              <a:off x="2939400" y="3411360"/>
              <a:ext cx="130212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4-24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month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46"/>
            <p:cNvSpPr/>
            <p:nvPr/>
          </p:nvSpPr>
          <p:spPr>
            <a:xfrm>
              <a:off x="4860000" y="2845800"/>
              <a:ext cx="0" cy="135864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47"/>
            <p:cNvSpPr/>
            <p:nvPr/>
          </p:nvSpPr>
          <p:spPr>
            <a:xfrm>
              <a:off x="4275360" y="4266720"/>
              <a:ext cx="118944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2-4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month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48"/>
            <p:cNvSpPr/>
            <p:nvPr/>
          </p:nvSpPr>
          <p:spPr>
            <a:xfrm rot="16200000">
              <a:off x="5679000" y="2515680"/>
              <a:ext cx="283320" cy="374400"/>
            </a:xfrm>
            <a:custGeom>
              <a:avLst/>
              <a:gdLst>
                <a:gd name="textAreaLeft" fmla="*/ 181080 w 283320"/>
                <a:gd name="textAreaRight" fmla="*/ 283680 w 283320"/>
                <a:gd name="textAreaTop" fmla="*/ 24840 h 374400"/>
                <a:gd name="textAreaBottom" fmla="*/ 349560 h 37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307"/>
                    <a:pt x="10800" y="4614"/>
                  </a:cubicBezTo>
                  <a:lnTo>
                    <a:pt x="10800" y="6186"/>
                  </a:lnTo>
                  <a:cubicBezTo>
                    <a:pt x="10800" y="8493"/>
                    <a:pt x="5400" y="10800"/>
                    <a:pt x="0" y="10800"/>
                  </a:cubicBezTo>
                  <a:cubicBezTo>
                    <a:pt x="5400" y="10800"/>
                    <a:pt x="10800" y="13107"/>
                    <a:pt x="10800" y="15414"/>
                  </a:cubicBezTo>
                  <a:lnTo>
                    <a:pt x="10800" y="16986"/>
                  </a:lnTo>
                  <a:cubicBezTo>
                    <a:pt x="10800" y="19293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49"/>
            <p:cNvSpPr/>
            <p:nvPr/>
          </p:nvSpPr>
          <p:spPr>
            <a:xfrm>
              <a:off x="5820120" y="2845800"/>
              <a:ext cx="0" cy="192420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50"/>
            <p:cNvSpPr/>
            <p:nvPr/>
          </p:nvSpPr>
          <p:spPr>
            <a:xfrm>
              <a:off x="5189400" y="4879800"/>
              <a:ext cx="118944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2-4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month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51"/>
            <p:cNvSpPr/>
            <p:nvPr/>
          </p:nvSpPr>
          <p:spPr>
            <a:xfrm rot="16200000">
              <a:off x="6072120" y="2570400"/>
              <a:ext cx="1002240" cy="547920"/>
            </a:xfrm>
            <a:custGeom>
              <a:avLst/>
              <a:gdLst>
                <a:gd name="textAreaLeft" fmla="*/ 640440 w 1002240"/>
                <a:gd name="textAreaRight" fmla="*/ 1002600 w 1002240"/>
                <a:gd name="textAreaTop" fmla="*/ 14040 h 547920"/>
                <a:gd name="textAreaBottom" fmla="*/ 533880 h 5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52"/>
            <p:cNvSpPr/>
            <p:nvPr/>
          </p:nvSpPr>
          <p:spPr>
            <a:xfrm rot="16200000">
              <a:off x="7238880" y="2515680"/>
              <a:ext cx="283320" cy="374400"/>
            </a:xfrm>
            <a:custGeom>
              <a:avLst/>
              <a:gdLst>
                <a:gd name="textAreaLeft" fmla="*/ 181080 w 283320"/>
                <a:gd name="textAreaRight" fmla="*/ 283680 w 283320"/>
                <a:gd name="textAreaTop" fmla="*/ 25920 h 374400"/>
                <a:gd name="textAreaBottom" fmla="*/ 348480 h 37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389"/>
                    <a:pt x="10800" y="4778"/>
                  </a:cubicBezTo>
                  <a:lnTo>
                    <a:pt x="10800" y="6022"/>
                  </a:lnTo>
                  <a:cubicBezTo>
                    <a:pt x="10800" y="8411"/>
                    <a:pt x="5400" y="10800"/>
                    <a:pt x="0" y="10800"/>
                  </a:cubicBezTo>
                  <a:cubicBezTo>
                    <a:pt x="5400" y="10800"/>
                    <a:pt x="10800" y="13189"/>
                    <a:pt x="10800" y="15578"/>
                  </a:cubicBezTo>
                  <a:lnTo>
                    <a:pt x="10800" y="16822"/>
                  </a:lnTo>
                  <a:cubicBezTo>
                    <a:pt x="10800" y="1921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53"/>
            <p:cNvSpPr/>
            <p:nvPr/>
          </p:nvSpPr>
          <p:spPr>
            <a:xfrm>
              <a:off x="6574320" y="2845800"/>
              <a:ext cx="0" cy="237744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54"/>
            <p:cNvSpPr/>
            <p:nvPr/>
          </p:nvSpPr>
          <p:spPr>
            <a:xfrm>
              <a:off x="7397280" y="2845800"/>
              <a:ext cx="0" cy="282996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55"/>
            <p:cNvSpPr/>
            <p:nvPr/>
          </p:nvSpPr>
          <p:spPr>
            <a:xfrm>
              <a:off x="5951520" y="5261040"/>
              <a:ext cx="118944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2-4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month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56"/>
            <p:cNvSpPr/>
            <p:nvPr/>
          </p:nvSpPr>
          <p:spPr>
            <a:xfrm>
              <a:off x="6789960" y="5718600"/>
              <a:ext cx="118944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2-4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month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57"/>
            <p:cNvSpPr/>
            <p:nvPr/>
          </p:nvSpPr>
          <p:spPr>
            <a:xfrm>
              <a:off x="7548120" y="2743200"/>
              <a:ext cx="832680" cy="541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4-44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nths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58"/>
            <p:cNvSpPr/>
            <p:nvPr/>
          </p:nvSpPr>
          <p:spPr>
            <a:xfrm rot="16200000">
              <a:off x="1824480" y="2506320"/>
              <a:ext cx="518760" cy="394200"/>
            </a:xfrm>
            <a:custGeom>
              <a:avLst/>
              <a:gdLst>
                <a:gd name="textAreaLeft" fmla="*/ 331560 w 518760"/>
                <a:gd name="textAreaRight" fmla="*/ 519120 w 518760"/>
                <a:gd name="textAreaTop" fmla="*/ 29880 h 394200"/>
                <a:gd name="textAreaBottom" fmla="*/ 364320 h 39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638"/>
                    <a:pt x="10800" y="5275"/>
                  </a:cubicBezTo>
                  <a:lnTo>
                    <a:pt x="10800" y="5525"/>
                  </a:lnTo>
                  <a:cubicBezTo>
                    <a:pt x="10800" y="8163"/>
                    <a:pt x="5400" y="10800"/>
                    <a:pt x="0" y="10800"/>
                  </a:cubicBezTo>
                  <a:cubicBezTo>
                    <a:pt x="5400" y="10800"/>
                    <a:pt x="10800" y="13438"/>
                    <a:pt x="10800" y="16075"/>
                  </a:cubicBezTo>
                  <a:lnTo>
                    <a:pt x="10800" y="16325"/>
                  </a:lnTo>
                  <a:cubicBezTo>
                    <a:pt x="10800" y="18963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59"/>
            <p:cNvSpPr/>
            <p:nvPr/>
          </p:nvSpPr>
          <p:spPr>
            <a:xfrm>
              <a:off x="627120" y="2975040"/>
              <a:ext cx="279684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TOCOL/IRB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2-4 month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60"/>
            <p:cNvSpPr/>
            <p:nvPr/>
          </p:nvSpPr>
          <p:spPr>
            <a:xfrm>
              <a:off x="3736440" y="5419080"/>
              <a:ext cx="1407240" cy="298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EST GU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Rectangle 2"/>
          <p:cNvSpPr/>
          <p:nvPr/>
        </p:nvSpPr>
        <p:spPr>
          <a:xfrm>
            <a:off x="785880" y="5191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6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the gestational period for a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linical scienc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ublication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Types of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ary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ary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0040" y="207144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ve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5"/>
          <p:cNvSpPr/>
          <p:nvPr/>
        </p:nvSpPr>
        <p:spPr>
          <a:xfrm>
            <a:off x="571680" y="2221560"/>
            <a:ext cx="807228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s (Overview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Traditio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Review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Narr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review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Systemat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Reviews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Meta-analy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del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 analy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ic analys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view Ar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ary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different research output are expected from research propos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 Pa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-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7699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Types of Medical artic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74560" y="2014560"/>
            <a:ext cx="777240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Original Ar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Review Ar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Case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ditor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Communication (short pap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tter to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sonal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ter to Edi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ck to th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the problem, issue or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the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 your comment, solution, view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a strong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limit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itori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for your readership (broad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controversial and thought provo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ng subtle is often more pow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 communication (pap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ly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ise 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 data and discuss it shor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a few tables or fig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words lim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your paper a paper, a brief or a research let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400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ier to get letters &amp; briefs accepted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make you indexed easier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whether you should submit it as a brief or letter firs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se Re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Medical history of a single patient in a story form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Lots of information given which may not be seen in a trial or a survey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Often written and published fast compared to studi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To be used as an educational source &amp; tool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e.g. Thalidomid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Articles &amp;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ary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3" descr="vac_pyramid2b"/>
          <p:cNvPicPr/>
          <p:nvPr/>
        </p:nvPicPr>
        <p:blipFill>
          <a:blip r:embed="rId1"/>
          <a:stretch/>
        </p:blipFill>
        <p:spPr>
          <a:xfrm>
            <a:off x="1363680" y="2550960"/>
            <a:ext cx="6416640" cy="346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1409760" y="816120"/>
            <a:ext cx="677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Hierarchy of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571680" y="1928880"/>
            <a:ext cx="585756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stematic reviews &amp; meta-analy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ndomised controlled t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hort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se-control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oss sectional surv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se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t opi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ecd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4" descr="ladder"/>
          <p:cNvPicPr/>
          <p:nvPr/>
        </p:nvPicPr>
        <p:blipFill>
          <a:blip r:embed="rId1"/>
          <a:stretch/>
        </p:blipFill>
        <p:spPr>
          <a:xfrm>
            <a:off x="6572160" y="2143080"/>
            <a:ext cx="1976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imSun"/>
              </a:rPr>
              <a:t>Hierarchy of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pyramid12"/>
          <p:cNvPicPr/>
          <p:nvPr/>
        </p:nvPicPr>
        <p:blipFill>
          <a:blip r:embed="rId1"/>
          <a:stretch/>
        </p:blipFill>
        <p:spPr>
          <a:xfrm>
            <a:off x="1600200" y="2103480"/>
            <a:ext cx="6248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raditional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M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14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87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troduct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thod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sult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scuss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4"/>
          <p:cNvPicPr/>
          <p:nvPr/>
        </p:nvPicPr>
        <p:blipFill>
          <a:blip r:embed="rId1"/>
          <a:stretch/>
        </p:blipFill>
        <p:spPr>
          <a:xfrm>
            <a:off x="609480" y="0"/>
            <a:ext cx="8382240" cy="68454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4"/>
          <p:cNvSpPr/>
          <p:nvPr/>
        </p:nvSpPr>
        <p:spPr>
          <a:xfrm rot="16200000">
            <a:off x="-3429000" y="278604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opted from: “Islam and Science: the data gap”, Nature, 2006, 444(7115):26-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85840" y="571680"/>
            <a:ext cx="82152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Basic Structure of an Arti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S)Summary           (Structured Abstra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) Introduction       (What Question was asked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M)Method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(How was it Studied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R)Result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(What was Found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A)Analysis           (How data was analysed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D)Discuss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What Do the Findings Mean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Components of an Arti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troduc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 did you sta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od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t did you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ult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t did you fi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cuss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t does it all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A61A-00EA-49E8-9903-1950C8613FE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654120" y="2895480"/>
            <a:ext cx="8285040" cy="166536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4"/>
          <p:cNvSpPr/>
          <p:nvPr/>
        </p:nvSpPr>
        <p:spPr>
          <a:xfrm>
            <a:off x="403920" y="838080"/>
            <a:ext cx="85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owtie” Model For a Scientific Pap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1102680" y="4654440"/>
            <a:ext cx="73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oad Idea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fic Idea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oad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6"/>
          <p:cNvSpPr/>
          <p:nvPr/>
        </p:nvSpPr>
        <p:spPr>
          <a:xfrm>
            <a:off x="2971800" y="4870440"/>
            <a:ext cx="863640" cy="1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7"/>
          <p:cNvSpPr/>
          <p:nvPr/>
        </p:nvSpPr>
        <p:spPr>
          <a:xfrm>
            <a:off x="5924520" y="4870440"/>
            <a:ext cx="719280" cy="1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8"/>
          <p:cNvSpPr/>
          <p:nvPr/>
        </p:nvSpPr>
        <p:spPr>
          <a:xfrm>
            <a:off x="272880" y="3573360"/>
            <a:ext cx="1403640" cy="4320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0"/>
          <p:cNvSpPr/>
          <p:nvPr/>
        </p:nvSpPr>
        <p:spPr>
          <a:xfrm>
            <a:off x="7588080" y="3657600"/>
            <a:ext cx="1479600" cy="4572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full paper may contain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99960" y="1500120"/>
            <a:ext cx="7958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s and Affil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nowledgmen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ial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Understand the type of manuscript you are writ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Re-evaluate your projec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Plan the sections and subsections you n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-Match your content to your readers’ knowled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-Keep information specific rather than gener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-Write in plain language. Keep your sentences shor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-Use tables, diagrams, flowcharts and graph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der of writ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der of writ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More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7856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4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Arial"/>
              </a:rPr>
              <a:t>Hall GM, ed. </a:t>
            </a:r>
            <a:r>
              <a:rPr b="1" lang="nb-NO" sz="2200" spc="-1" strike="noStrike">
                <a:solidFill>
                  <a:srgbClr val="000000"/>
                </a:solidFill>
                <a:latin typeface="Arial"/>
              </a:rPr>
              <a:t>How to write a paper.</a:t>
            </a:r>
            <a:r>
              <a:rPr b="0" lang="nb-NO" sz="2200" spc="-1" strike="noStrike">
                <a:solidFill>
                  <a:srgbClr val="000000"/>
                </a:solidFill>
                <a:latin typeface="Arial"/>
              </a:rPr>
              <a:t> London: BMJ Publishing Group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4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vanced Writ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Floresita V.Bustamante, SAM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4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ssentials of Writing Biomedical Research Pape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Zei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4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200" spc="-1" strike="noStrike">
                <a:solidFill>
                  <a:srgbClr val="000000"/>
                </a:solidFill>
                <a:latin typeface="Arial"/>
              </a:rPr>
              <a:t>Scientific Writing Easy when you know how</a:t>
            </a:r>
            <a:r>
              <a:rPr b="0" lang="nb-NO" sz="2200" spc="-1" strike="noStrike">
                <a:solidFill>
                  <a:srgbClr val="000000"/>
                </a:solidFill>
                <a:latin typeface="Arial"/>
              </a:rPr>
              <a:t>. Peat J. BMJ Publishing Group. 200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4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Arial"/>
              </a:rPr>
              <a:t>The Vancouver Group. </a:t>
            </a:r>
            <a:r>
              <a:rPr b="1" lang="nb-NO" sz="2200" spc="-1" strike="noStrike">
                <a:solidFill>
                  <a:srgbClr val="000000"/>
                </a:solidFill>
                <a:latin typeface="Arial"/>
              </a:rPr>
              <a:t>Uniform requirements for manuscripts submitted to biomedial journals. 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www.icmj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2998800" y="685800"/>
            <a:ext cx="344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New York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4" descr="question-mark1a.jpg"/>
          <p:cNvPicPr/>
          <p:nvPr/>
        </p:nvPicPr>
        <p:blipFill>
          <a:blip r:embed="rId1"/>
          <a:stretch/>
        </p:blipFill>
        <p:spPr>
          <a:xfrm>
            <a:off x="2666880" y="1563840"/>
            <a:ext cx="381024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42680" y="2933280"/>
            <a:ext cx="7348680" cy="12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ffffff"/>
                </a:solidFill>
                <a:latin typeface="Arial"/>
                <a:cs typeface="B Mitra"/>
              </a:rPr>
              <a:t>بزنید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ea typeface="B Mitra"/>
              </a:rPr>
              <a:t> 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ea typeface="B Mitra"/>
              </a:rPr>
              <a:t>!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B Mitra"/>
              </a:rPr>
              <a:t> Email 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cs typeface="B Mitra"/>
              </a:rPr>
              <a:t>اگر میل داشتی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9720" y="4266720"/>
            <a:ext cx="7991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abiri@tums.ac.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B Nazanin"/>
              </a:rPr>
              <a:t>اينفوگراف وضعيت علمي ايران در دنيا براساس مقالات سال 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B Nazanin"/>
              </a:rPr>
              <a:t>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Content Placeholder 4" descr="Info.bmp"/>
          <p:cNvPicPr/>
          <p:nvPr/>
        </p:nvPicPr>
        <p:blipFill>
          <a:blip r:embed="rId1"/>
          <a:stretch/>
        </p:blipFill>
        <p:spPr>
          <a:xfrm>
            <a:off x="500040" y="1785960"/>
            <a:ext cx="82152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B Nazanin"/>
              </a:rPr>
              <a:t>اينفوگراف </a:t>
            </a:r>
            <a:r>
              <a:rPr b="1" lang="fa-IR" sz="4000" spc="-1" strike="noStrike">
                <a:solidFill>
                  <a:srgbClr val="ff0000"/>
                </a:solidFill>
                <a:latin typeface="Arial"/>
                <a:cs typeface="B Nazanin"/>
              </a:rPr>
              <a:t>وضعيت توليد مقاله و </a:t>
            </a:r>
            <a:r>
              <a:rPr b="1" lang="fa-IR" sz="4000" spc="-1" strike="noStrike">
                <a:solidFill>
                  <a:srgbClr val="ff0000"/>
                </a:solidFill>
                <a:latin typeface="Arial"/>
                <a:ea typeface="B Nazanin"/>
              </a:rPr>
              <a:t>1</a:t>
            </a:r>
            <a:r>
              <a:rPr b="1" lang="fa-IR" sz="4000" spc="-1" strike="noStrike">
                <a:solidFill>
                  <a:srgbClr val="ff0000"/>
                </a:solidFill>
                <a:latin typeface="Arial"/>
                <a:ea typeface="B Nazanin"/>
              </a:rPr>
              <a:t>% مقالات پراستناد برتر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B Nazanin"/>
              </a:rPr>
              <a:t> در دنيا درسال </a:t>
            </a:r>
            <a:r>
              <a:rPr b="1" lang="fa-IR" sz="4000" spc="-1" strike="noStrike">
                <a:solidFill>
                  <a:srgbClr val="ff0000"/>
                </a:solidFill>
                <a:latin typeface="Arial"/>
                <a:ea typeface="B Nazanin"/>
              </a:rPr>
              <a:t>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Content Placeholder 3" descr="N.jpg"/>
          <p:cNvPicPr/>
          <p:nvPr/>
        </p:nvPicPr>
        <p:blipFill>
          <a:blip r:embed="rId1"/>
          <a:stretch/>
        </p:blipFill>
        <p:spPr>
          <a:xfrm>
            <a:off x="214200" y="2000160"/>
            <a:ext cx="8766360" cy="4376880"/>
          </a:xfrm>
          <a:prstGeom prst="rect">
            <a:avLst/>
          </a:prstGeom>
          <a:ln w="0">
            <a:noFill/>
          </a:ln>
        </p:spPr>
      </p:pic>
      <p:sp>
        <p:nvSpPr>
          <p:cNvPr id="175" name="TextBox 4"/>
          <p:cNvSpPr/>
          <p:nvPr/>
        </p:nvSpPr>
        <p:spPr>
          <a:xfrm>
            <a:off x="-71280" y="6488280"/>
            <a:ext cx="92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opted from: Van Noorden, R. "366 days: 2012 in review."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92.7429 (2012): 32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5"/>
          <p:cNvSpPr/>
          <p:nvPr/>
        </p:nvSpPr>
        <p:spPr>
          <a:xfrm rot="16200000">
            <a:off x="-2958840" y="3101760"/>
            <a:ext cx="62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omson Reuters/Essential Science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Mitra"/>
              </a:rPr>
              <a:t>رشد 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Mitra"/>
              </a:rPr>
              <a:t>11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Mitra"/>
              </a:rPr>
              <a:t> برابري شمار مقالات ايران در مقايسه با ميانگين جها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Content Placeholder 5" descr="33.jpg"/>
          <p:cNvPicPr/>
          <p:nvPr/>
        </p:nvPicPr>
        <p:blipFill>
          <a:blip r:embed="rId1"/>
          <a:stretch/>
        </p:blipFill>
        <p:spPr>
          <a:xfrm>
            <a:off x="457200" y="1928880"/>
            <a:ext cx="8229600" cy="4643280"/>
          </a:xfrm>
          <a:prstGeom prst="rect">
            <a:avLst/>
          </a:prstGeom>
          <a:ln w="0">
            <a:noFill/>
          </a:ln>
        </p:spPr>
      </p:pic>
      <p:sp>
        <p:nvSpPr>
          <p:cNvPr id="179" name="TextBox 6"/>
          <p:cNvSpPr/>
          <p:nvPr/>
        </p:nvSpPr>
        <p:spPr>
          <a:xfrm>
            <a:off x="6286680" y="6357960"/>
            <a:ext cx="27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18ff"/>
                </a:solidFill>
                <a:latin typeface="Arial"/>
              </a:rPr>
              <a:t>www.science-metrix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ounded Rectangle 7"/>
          <p:cNvSpPr/>
          <p:nvPr/>
        </p:nvSpPr>
        <p:spPr>
          <a:xfrm>
            <a:off x="7286760" y="4857840"/>
            <a:ext cx="1071360" cy="2858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B Nazanin"/>
              </a:rPr>
              <a:t>وضعيت </a:t>
            </a:r>
            <a:r>
              <a:rPr b="1" lang="fa-IR" sz="4000" spc="-1" strike="noStrike">
                <a:solidFill>
                  <a:srgbClr val="ff0000"/>
                </a:solidFill>
                <a:latin typeface="Arial"/>
                <a:cs typeface="B Nazanin"/>
              </a:rPr>
              <a:t>توليد علم جهان 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B Nazanin"/>
              </a:rPr>
              <a:t>در سال </a:t>
            </a:r>
            <a:r>
              <a:rPr b="1" lang="fa-IR" sz="4000" spc="-1" strike="noStrike">
                <a:solidFill>
                  <a:srgbClr val="ff0000"/>
                </a:solidFill>
                <a:latin typeface="Arial"/>
                <a:ea typeface="B Nazanin"/>
              </a:rPr>
              <a:t>2011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B Nazanin"/>
              </a:rPr>
              <a:t> ميلاد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57200" y="1878120"/>
          <a:ext cx="8229600" cy="46227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سرانه توليد هزار دلار </a:t>
                      </a:r>
                      <a:r>
                        <a:rPr b="1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جمعيت (ميليون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درصد تولي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تعداد مقالات </a:t>
                      </a:r>
                      <a:r>
                        <a:rPr b="1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رتبه توليد عل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کشو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46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312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22/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3102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آمريک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4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1339/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10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1426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چين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36/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62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6/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90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انگلستا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40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81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82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آلما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42/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127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683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ژاپ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39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4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57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فرانسه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45/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34/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3/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499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کاناد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33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60/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3/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474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ايتاالي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ea typeface="B Mitr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ea typeface="B Mitra"/>
                        </a:rPr>
                        <a:t>73/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ea typeface="B Mitra"/>
                        </a:rPr>
                        <a:t>1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ea typeface="B Mitra"/>
                        </a:rPr>
                        <a:t>197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ea typeface="B Mitr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cs typeface="B Mitra"/>
                        </a:rPr>
                        <a:t>ترکي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ea typeface="B Mitra"/>
                        </a:rPr>
                        <a:t>5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ea typeface="B Mitra"/>
                        </a:rPr>
                        <a:t>75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ea typeface="B Mitra"/>
                        </a:rPr>
                        <a:t>1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ea typeface="B Mitra"/>
                        </a:rPr>
                        <a:t>175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ea typeface="B Mitr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cs typeface="B Mitra"/>
                        </a:rPr>
                        <a:t>ايرا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B Nazanin"/>
              </a:rPr>
              <a:t>وضعيت </a:t>
            </a:r>
            <a:r>
              <a:rPr b="1" lang="fa-IR" sz="4000" spc="-1" strike="noStrike">
                <a:solidFill>
                  <a:srgbClr val="ff0000"/>
                </a:solidFill>
                <a:latin typeface="Arial"/>
                <a:cs typeface="B Nazanin"/>
              </a:rPr>
              <a:t>توليد علم جهان 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B Nazanin"/>
              </a:rPr>
              <a:t>در سال 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B Nazanin"/>
              </a:rPr>
              <a:t>2011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B Nazanin"/>
              </a:rPr>
              <a:t> ميلادي به ازاي هر </a:t>
            </a:r>
            <a:r>
              <a:rPr b="1" lang="fa-IR" sz="4000" spc="-1" strike="noStrike">
                <a:solidFill>
                  <a:srgbClr val="ff0000"/>
                </a:solidFill>
                <a:latin typeface="Arial"/>
                <a:cs typeface="B Nazanin"/>
              </a:rPr>
              <a:t>يکصدهزار نفر جمعي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57200" y="1878120"/>
          <a:ext cx="8186760" cy="4622760"/>
        </p:xfrm>
        <a:graphic>
          <a:graphicData uri="http://schemas.openxmlformats.org/drawingml/2006/table">
            <a:tbl>
              <a:tblPr/>
              <a:tblGrid>
                <a:gridCol w="1636560"/>
                <a:gridCol w="1638360"/>
                <a:gridCol w="1449360"/>
                <a:gridCol w="1825920"/>
                <a:gridCol w="163656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سرانه توليد هزار دلار </a:t>
                      </a:r>
                      <a:r>
                        <a:rPr b="1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توليد مقاله در هرصدهزار نفر جمعي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رتبه توليد عل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رتبه سرانه  توليد مقاله به ازاي هرصدهزار نف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کشو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67/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271/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سوئي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55/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211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دانمار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48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196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سوئ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82/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184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نرو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46/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175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هلن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44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170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فنلان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54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169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استرالي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46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99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آمريک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ea typeface="B Mitr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ea typeface="B Mitra"/>
                        </a:rPr>
                        <a:t>26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ea typeface="B Mitr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ea typeface="B Mitra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cs typeface="B Mitra"/>
                        </a:rPr>
                        <a:t>ترکي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ea typeface="B Mitra"/>
                        </a:rPr>
                        <a:t>5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ea typeface="B Mitra"/>
                        </a:rPr>
                        <a:t>23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ea typeface="B Mitr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ea typeface="B Mitr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cs typeface="B Mitra"/>
                        </a:rPr>
                        <a:t>ايرا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Mitra"/>
              </a:rPr>
              <a:t>مقايسه فراواني مقالات و ارجاعات صورت‌گرفته به مقالات منتشرشده دانشگاه علوم پزشکي تهران و دانشگاه تهران با دانشگاه‌های رتبه يکصدم و دويستم دنيا در مجموعه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itra"/>
              </a:rPr>
              <a:t>Scop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itra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  <a:ea typeface="Mitra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Mitra"/>
              </a:rPr>
              <a:t>در رتبه‌بندی سال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Mitra"/>
              </a:rPr>
              <a:t>2009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Mitra"/>
              </a:rPr>
              <a:t> تايم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itra"/>
              </a:rPr>
              <a:t>THS-Q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14240" y="2000160"/>
          <a:ext cx="7801200" cy="4143600"/>
        </p:xfrm>
        <a:graphic>
          <a:graphicData uri="http://schemas.openxmlformats.org/drawingml/2006/table">
            <a:tbl>
              <a:tblPr/>
              <a:tblGrid>
                <a:gridCol w="881280"/>
                <a:gridCol w="880920"/>
                <a:gridCol w="932040"/>
                <a:gridCol w="1033200"/>
                <a:gridCol w="1032120"/>
                <a:gridCol w="915840"/>
                <a:gridCol w="1521000"/>
                <a:gridCol w="604800"/>
              </a:tblGrid>
              <a:tr h="2207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Mitra"/>
                        </a:rPr>
                        <a:t>نسبت ارجاع به مقال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Mitra"/>
                        </a:rPr>
                        <a:t>نسبت ارجاع به عضو هيئت علم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Mitra"/>
                        </a:rPr>
                        <a:t>تعداد اعضاي هيئت علم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Mitra"/>
                        </a:rPr>
                        <a:t>تعداد ارجاعات به مقالات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5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 ساله اخير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Scop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Mitra"/>
                        </a:rPr>
                        <a:t>تعداد مقالات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5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 ساله در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Scop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Mitra"/>
                        </a:rPr>
                        <a:t>کشو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Mitra"/>
                        </a:rPr>
                        <a:t>نام دانشگا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Mitra"/>
                        </a:rPr>
                        <a:t>رتبه دانشگا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Mitra"/>
                        </a:rPr>
                        <a:t>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10/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85/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7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663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62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Mitra"/>
                        </a:rPr>
                        <a:t>آمريک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Mitra"/>
                        </a:rPr>
                        <a:t>دانشگاه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6/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37/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374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61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Mitra"/>
                        </a:rPr>
                        <a:t>هلن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Mitra"/>
                        </a:rPr>
                        <a:t>دانشگاه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w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3/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0/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43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20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5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Mitra"/>
                        </a:rPr>
                        <a:t>اندونز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Mitra"/>
                        </a:rPr>
                        <a:t>دانشگاه اندونز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2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2/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9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32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310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113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Mitra"/>
                        </a:rPr>
                        <a:t>اير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Mitra"/>
                        </a:rPr>
                        <a:t>دانشگاه علوم پزشکي تهران و دانشگاه تهر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3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19:18:51Z</dcterms:created>
  <dc:creator>ha</dc:creator>
  <dc:description/>
  <dc:language>en-US</dc:language>
  <cp:lastModifiedBy>Payam Kabiri</cp:lastModifiedBy>
  <dcterms:modified xsi:type="dcterms:W3CDTF">2019-08-02T16:57:02Z</dcterms:modified>
  <cp:revision>60</cp:revision>
  <dc:subject/>
  <dc:title>Introduction</dc:title>
</cp:coreProperties>
</file>