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5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camera.wav" ContentType="audio/x-wav"/>
  <Override PartName="/ppt/media/image10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23D-113E-4629-85E2-B35AF51B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A16-8FC1-443D-8F40-A3492D41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F0292-890A-492F-8313-6C03ED29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C8A55-261F-46BD-9339-FA014A09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9A18B-B5DE-4F84-B244-57698D41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C889D-10EB-40B2-8971-5AE84516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935EE-484D-44AA-B065-0CF42146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B732C-832F-49EB-AD07-7562F729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C5AA6-C7DA-46CF-92EA-0AC2B3F2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B047C-54DA-44D7-AD00-4675F950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CCFF8-019C-421D-A23D-5CC5CAF6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9700A-AFB7-49FC-8410-6DB5A335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CD4-B4D3-4A41-AAEA-508A6586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ED407-973B-4A72-BE7E-EA7CD0B0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9854B-56FE-4599-B6F6-F8229744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495FF-D0B0-4985-B42F-2D4F47A4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4832A-0865-4BC9-AB6A-F2CFCD5E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BEEDB-64DB-4DEA-B51A-74B156A2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233F6-1182-411F-B709-EF062C82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01BFD-EB94-4932-B927-55BB84F9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2811B-12D8-4929-874C-415E7EBA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61B82-F639-4A63-A3B1-70EF9712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B5794-6C43-4DE4-8523-B3DBFCC4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CD7-1DCF-4361-91A6-F8488447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33227-B058-442B-93E8-9B7BA23E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4F3A-22C4-44BC-BE39-A960802A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AF7D-5246-4B74-B0A6-8005D262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5E4C-629F-4F33-9CE9-B2284D17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90CE-C097-4DF0-850F-5FAE9626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6726-A8FB-49AC-B494-5FC4DF57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331D-1FDF-4D81-BB13-40B29FDC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7F64-9E63-4A9F-8EDA-C66E4C09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EC3-9118-408D-B081-B728805E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6E40-9E1A-4D25-9ECE-9D2841EA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35DB-4883-4A38-85FB-3D908749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2DBB-4FC9-432E-A77E-FA4E78E5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4D60-8740-4694-B17A-5F7ABC89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26EF-19B8-4395-8074-F2D999D7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E7488-F6B0-4599-9C86-5FB2FA2F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83334-CA79-4C48-8D58-68EDAF2C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49A11-3E54-4306-BE50-128E2A7D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35C20-C58D-4484-B5D5-46FC6F47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B357C-E5DC-4F6B-8F3F-D07DF3FE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B2FD-BA97-462F-B636-595B1E60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CB822-2DDC-4939-B82E-036D47F2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47EBA-9569-4C54-B146-9DAC6023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5203F-CE7F-4BCB-AD20-92CE5100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A3D7C-7C5E-41FA-AD34-C45D4B8A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6434E-263F-4478-A545-0DD21BE1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304DA-F56E-439E-8CE7-E170D5B0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E200E-6905-4A1B-ABD5-CC7754E0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5AC075-6265-4165-A2DB-FD174686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EACDEC-1CF1-416B-B34D-22FB7B8C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ACBF7E-D4DE-4BC7-A94A-BBF42B85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873-8C99-4827-B924-2359F715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F80F4-5A20-483D-8E4A-F53D09CB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5137A4-77F9-4B31-A538-8FD4A2A3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3790F-78DA-4321-A18E-14728A73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B94D8D-28DC-4B5F-9A18-1C3FEDFE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D5DC6-CFA7-4F0B-9A40-CDCBB3EB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19E867-02EB-4985-A7B9-1075CAB6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717E4-A7EC-4E1A-B601-92FB5B2A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74B889-BA36-43B2-81E7-CCE3AE07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1D39F6-042B-4C7B-9A65-01C673A6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820F2-D924-4802-BB45-D1905FAC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375-EC6D-4EC7-8023-21FAF26E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D53C5-6496-4266-8421-B798EA82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68B44-27D4-4EAA-B192-13FA2158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F253A-274D-4071-A4B0-6C864844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CBF21-9BB6-4E12-8141-04469D82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1BBD2-2AC3-4267-8A9D-EAE99E96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36A38-6E61-4B25-A547-90A0CC33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5F170-8620-4B52-8AB0-D40B1D52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AD0C3-5CC7-4585-80B7-A19285C8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7ED86-C8D5-43B6-9BFF-C432BBEE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74BB5-FE5E-445B-B191-B0AF0D4D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113-AC24-49CD-8ECB-6C9BA013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D14BC-26A5-44DF-861D-058C0B56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708EC-1210-4CB3-B5DF-9E049854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E8E0F-9010-4D90-9712-BAA98584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8C7A7-336A-4257-8D11-CD5B75BC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7164A-31CD-454E-9FA8-27EF3CBB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2F3C1-5A6D-44C3-835D-A8A867F5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462D2-42DB-453B-8697-64EC7F81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BE947-1B24-4143-83B5-93CD0E5F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87DDA-8FFA-4422-B7D6-C061BD0E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2712A-4976-481A-AD2F-9F66A602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B48-FFA5-4922-997A-6DAA2A1A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C976B-2BF1-41DB-8890-FAF04F7D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E1950-D8BD-4442-8186-D786FC4E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658B2-D6F8-4749-85AF-148765B9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FBC94E-863D-441C-95E1-356F3734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EC2CE-2FEC-440C-BA0A-2D5EC801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D49024-5F5D-43B4-B3A8-A7A38C46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10889-CE2C-4DD8-8FBA-5686F711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E18B5E-9AFD-4BED-8495-33C0F5A1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29E07-EEEC-45D6-AE6E-C6410F85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EABEA-9DFD-4711-836D-291768A9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ACB-C905-4F28-8DD3-C34B64DE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F8945-8FDB-42B1-8C23-1A03015E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56FE3A-7494-44A1-8855-1BD45BB6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31DC87-835E-4DF8-BF84-F6B99F50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750235-608C-4C55-9B5E-46DC4898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BDF983-ABB6-4B3F-B734-AD191A82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3F2FC-40F7-4772-A7A4-E3271253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A798F-0501-40C5-8B55-A8644A27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5D3A8-0614-463D-BAAF-5413B06F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86073-2B85-4657-9F94-5FBD69E6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2F84E-FD58-4FF3-9EBA-56EE0D04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DDE-63F9-4E08-AE17-AAD92086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970A6-69FB-48AF-B49C-3E18F2EE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4BDFF-7373-45F1-A075-CFE0F7E1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B0914-2C02-42F6-8B61-F261A2F8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89D0D-53FA-448C-8259-CC54698F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40EE6-9DDD-4AFD-9855-C5FB84FE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67C46-E674-4AFE-8415-2F3ABE20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E752E-B7A8-4DF2-B94D-BBA41462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C9F4B-95B1-4DA9-AED5-12F7D5E5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9169E-106F-4CBE-949B-A8301C56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D6388-A9A0-408E-BDA0-8861A1E6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478A-76DF-4851-AD67-79CB1C41022C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B478-04AA-4DC9-B1AC-EBE4219E7FFB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0518-5F1B-47F2-A578-CFB9C9DC4602}" type="slidenum">
              <a:rPr b="1" lang="fa-IR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65FF-BAB4-4B12-8C5B-69BFCD8FDB3C}" type="slidenum">
              <a:rPr b="1" lang="fa-I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5E7E-287F-4494-9E94-3E46C5AD6388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47F9-4B6C-4C98-8783-69EA37564698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C41C-1D29-4664-94B3-643F2B89F7E5}" type="slidenum">
              <a:rPr b="1" lang="fa-IR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9B87-7ED0-4285-B18A-7355CFE5BAAB}" type="slidenum">
              <a:rPr b="1" lang="fa-I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7E9B-E83E-4169-83BE-2DEEC1D6C081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41CF-5934-4AAE-AE9D-23638049A916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camera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audio" Target="../media/camera.wav"/><Relationship Id="rId23" Type="http://schemas.openxmlformats.org/officeDocument/2006/relationships/audio" Target="../media/type.wav"/><Relationship Id="rId24" Type="http://schemas.openxmlformats.org/officeDocument/2006/relationships/audio" Target="../media/camera.wav"/><Relationship Id="rId25" Type="http://schemas.openxmlformats.org/officeDocument/2006/relationships/audio" Target="../media/type.wav"/><Relationship Id="rId26" Type="http://schemas.openxmlformats.org/officeDocument/2006/relationships/audio" Target="../media/camera.wav"/><Relationship Id="rId27" Type="http://schemas.openxmlformats.org/officeDocument/2006/relationships/audio" Target="../media/type.wav"/><Relationship Id="rId28" Type="http://schemas.openxmlformats.org/officeDocument/2006/relationships/audio" Target="../media/camera.wav"/><Relationship Id="rId29" Type="http://schemas.openxmlformats.org/officeDocument/2006/relationships/audio" Target="../media/type.wav"/><Relationship Id="rId30" Type="http://schemas.openxmlformats.org/officeDocument/2006/relationships/audio" Target="../media/camera.wav"/><Relationship Id="rId31" Type="http://schemas.openxmlformats.org/officeDocument/2006/relationships/audio" Target="../media/type.wav"/><Relationship Id="rId32" Type="http://schemas.openxmlformats.org/officeDocument/2006/relationships/audio" Target="../media/camera.wav"/><Relationship Id="rId33" Type="http://schemas.openxmlformats.org/officeDocument/2006/relationships/audio" Target="../media/type.wav"/><Relationship Id="rId34" Type="http://schemas.openxmlformats.org/officeDocument/2006/relationships/audio" Target="../media/type.wav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6.png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428760" y="61437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75FD-D96C-4BC2-91AF-B30EB3E75A2A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357200" y="1356840"/>
            <a:ext cx="6429600" cy="225756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برنامه ریزی استراتژیک </a:t>
            </a:r>
            <a:br>
              <a:rPr sz="4400"/>
            </a:b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مراحل و متدها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ارتباط برنامه جامع و عملیاتی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357F-06FC-4456-BF85-5AD39B9D8DC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ابع ارزشها، ايدئولوژي، سياستها و استراتژي هاي حاكم بر سازمان است و بر عهده سياست مداران و مديران ارشد سازمان است و برنامه ريزي عملياتي در سطح مديريت اجرايي سازمان مطرح مي 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 پي حل مسايل اساسي، رشد و توسعه سازمان است. و برنامه ريزي عملياتي با هدف يا هدفهاي مشخص، محدود، عيني و دست يافتني، تنها متوجه بهترين كارآيي در خدمت يا توليد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وجه منافعي است كه احتمالا در آينده نصيب سازمان خواهد شد. و برنامه ريزي عملياتي متوجه منافع فعلي و در معرض ديد و يقين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D923-3CFA-42A2-9F1F-AA4C278559C5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971640" y="404640"/>
          <a:ext cx="7383240" cy="6259680"/>
        </p:xfrm>
        <a:graphic>
          <a:graphicData uri="http://schemas.openxmlformats.org/drawingml/2006/table">
            <a:tbl>
              <a:tblPr/>
              <a:tblGrid>
                <a:gridCol w="3095640"/>
                <a:gridCol w="3097080"/>
                <a:gridCol w="1190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دراز مد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استراتژ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خصوصی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سته است و براساس برنامه هاي كوتاه مدت و طرح هاي داخل آن سيستم تدوين و توسعه مي ياب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از است و همانطور كه  جامعه تغيير مي كند سازمان نيز بايد تغيير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ض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طرح نهايي برنامه و تحليل داخلي آن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رايند برنامه ريزي، تعيين ماموريت، وضعيت محيط خارجي، ظرفيت سازي، آموزش كاركنان و جامع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مركز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داره، بخش، برنامه ريز يا افراد متخصص و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رفه أي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گروه كوچكي از برنامه ريزان و شركت وسيع افراد ذينفع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نامه ريزي 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درون سازماني، روشهاي برنامه ريزي درون سازماني است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برون سازماني، ارزشهاي سازماني و اقدامات پيشگامان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اكيد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ر اهداف دراز مدت و كوتاه مدت از حال تا پنج سال اينده تمركز دا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ئوال مي كند چه تصميماتي براساس درك موقعيت چند سال آينده متناسب با وضعيت حال اتخاذ مي گرد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آينده نگ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موعه أي از اطلاعات مرتبط بهم و مفصل سازماني و برنامه واحدهاي مختلف سازماني و نمايندگيهاي مربوط و توانايي انها و توانايي بودجه هاي جار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صميم گيري خلاق و بصيرت آميز، اين كه چگونه سازمان را براساس محيط در حال تغيير آينده هدايت كرد و كدام فرآيند سازماني قادر به اتخاذ بهترين تصميم و پيش بيني آينده است و مي توان براساس توافق همگاني عمل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توار است 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اسا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</a:tbl>
          </a:graphicData>
        </a:graphic>
      </p:graphicFrame>
      <p:sp>
        <p:nvSpPr>
          <p:cNvPr id="488" name="Rectangle 36"/>
          <p:cNvSpPr/>
          <p:nvPr/>
        </p:nvSpPr>
        <p:spPr>
          <a:xfrm>
            <a:off x="0" y="697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ويژگي‏هاي برنامه‏ريز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383C-14B8-4285-951B-1CDA9ACFCB6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85840" y="171468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تاثير عوامل خارجي توجه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نده‏نگ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عي برنامة بلندمدّت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يريت عالي مسئول آن 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مينة اساسي براي تمامي برنامه‏هاي ديگر در سطوح سازماني را ترسيم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جب هدايت تمامي سازمان مي‏ش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‏علت تجسم بهتر و دقيق آينده، امكان رسيدن به‏اهداف بيشت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ون برنامه‏ريزي عملياتي قابل اجرا ن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a2c00"/>
                </a:solidFill>
                <a:latin typeface="Times New Roman"/>
                <a:cs typeface="Times New Roman"/>
              </a:rPr>
              <a:t>در واقع برنامه‏ريزي استراتژيك به دو سوال پاسخ مي‏ده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6231960" y="5638680"/>
            <a:ext cx="22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496e00"/>
              </a:buClr>
              <a:buSzPct val="110000"/>
              <a:buFont typeface="Wingdings 2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ه بايد بكن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/>
          <p:cNvSpPr/>
          <p:nvPr/>
        </p:nvSpPr>
        <p:spPr>
          <a:xfrm>
            <a:off x="4724280" y="5791320"/>
            <a:ext cx="1600200" cy="152280"/>
          </a:xfrm>
          <a:prstGeom prst="leftArrow">
            <a:avLst>
              <a:gd name="adj1" fmla="val 50000"/>
              <a:gd name="adj2" fmla="val 262707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728160" y="56386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هد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5268240" y="6172200"/>
            <a:ext cx="33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buClr>
                <a:srgbClr val="496e00"/>
              </a:buClr>
              <a:buSzPct val="110000"/>
              <a:buFont typeface="Wingdings 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گونه بايد انجام ده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/>
          <p:cNvSpPr/>
          <p:nvPr/>
        </p:nvSpPr>
        <p:spPr>
          <a:xfrm>
            <a:off x="4724280" y="6324480"/>
            <a:ext cx="762120" cy="152640"/>
          </a:xfrm>
          <a:prstGeom prst="leftArrow">
            <a:avLst>
              <a:gd name="adj1" fmla="val 50000"/>
              <a:gd name="adj2" fmla="val 124823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3429720" y="6172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ستراتژ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مراحل فرآيند </a:t>
            </a:r>
            <a:r>
              <a:rPr b="1" lang="fa-IR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برنامه ریزی </a:t>
            </a: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9E59-B967-408F-A816-6A4A5574349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85520" y="2214360"/>
            <a:ext cx="7777080" cy="2514600"/>
          </a:xfrm>
          <a:prstGeom prst="rect">
            <a:avLst/>
          </a:prstGeom>
          <a:gradFill rotWithShape="0">
            <a:gsLst>
              <a:gs pos="0">
                <a:srgbClr val="fdfdc1"/>
              </a:gs>
              <a:gs pos="100000">
                <a:srgbClr val="fbfb99"/>
              </a:gs>
            </a:gsLst>
            <a:lin ang="2700000"/>
          </a:gradFill>
          <a:ln w="38160">
            <a:solidFill>
              <a:srgbClr val="333300"/>
            </a:solidFill>
            <a:miter/>
          </a:ln>
        </p:spPr>
        <p:txBody>
          <a:bodyPr anchor="ctr">
            <a:normAutofit/>
          </a:bodyPr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حليل، شناخت و هدف‏گذار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دوين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جراي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Implement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رزشيابي و كنترل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فرآيند مديريّت استراتژيك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5246-1F05-4F0D-9DFB-DE4EBC7F671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>
            <a:hlinkClick r:id="rId1" action="ppaction://hlinksldjump"/>
          </p:cNvPr>
          <p:cNvSpPr/>
          <p:nvPr/>
        </p:nvSpPr>
        <p:spPr>
          <a:xfrm>
            <a:off x="228600" y="1600200"/>
            <a:ext cx="609480" cy="6094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اف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و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5335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152280" y="2362320"/>
            <a:ext cx="76212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س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ذي‏نفع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91440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19051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2057400" y="2362320"/>
            <a:ext cx="15238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فلسفه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نقش و مأموريّ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هّدات و ارزش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"/>
          <p:cNvSpPr/>
          <p:nvPr/>
        </p:nvSpPr>
        <p:spPr>
          <a:xfrm>
            <a:off x="35812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3733920" y="2362320"/>
            <a:ext cx="167616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كل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رقابت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داخ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1"/>
          <p:cNvSpPr/>
          <p:nvPr/>
        </p:nvSpPr>
        <p:spPr>
          <a:xfrm>
            <a:off x="54100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5562720" y="2362320"/>
            <a:ext cx="228600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فرصت‏ها و تهديد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نقاط قوّت و ضع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سائل استراتژي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3"/>
          <p:cNvSpPr/>
          <p:nvPr/>
        </p:nvSpPr>
        <p:spPr>
          <a:xfrm>
            <a:off x="78487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8001000" y="2362320"/>
            <a:ext cx="10666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raffic"/>
              </a:rPr>
              <a:t>تجزيه و تحلي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raffic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15"/>
          <p:cNvCxnSpPr>
            <a:stCxn id="514" idx="2"/>
            <a:endCxn id="516" idx="0"/>
          </p:cNvCxnSpPr>
          <p:nvPr/>
        </p:nvCxnSpPr>
        <p:spPr>
          <a:xfrm rot="5400000">
            <a:off x="4409640" y="-552600"/>
            <a:ext cx="438840" cy="78112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Rectangle 16"/>
          <p:cNvSpPr/>
          <p:nvPr/>
        </p:nvSpPr>
        <p:spPr>
          <a:xfrm>
            <a:off x="152280" y="358128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مجد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أموريت 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هدا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>
            <a:off x="12952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14479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نظيم گزينه‏ها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ختلف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28954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0"/>
          <p:cNvSpPr/>
          <p:nvPr/>
        </p:nvSpPr>
        <p:spPr>
          <a:xfrm>
            <a:off x="30481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و انتخ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يك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1"/>
          <p:cNvSpPr/>
          <p:nvPr/>
        </p:nvSpPr>
        <p:spPr>
          <a:xfrm>
            <a:off x="44956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4648320" y="3581280"/>
            <a:ext cx="12952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ساز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در آيند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3"/>
          <p:cNvSpPr/>
          <p:nvPr/>
        </p:nvSpPr>
        <p:spPr>
          <a:xfrm>
            <a:off x="594360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4"/>
          <p:cNvSpPr/>
          <p:nvPr/>
        </p:nvSpPr>
        <p:spPr>
          <a:xfrm>
            <a:off x="6095880" y="3352680"/>
            <a:ext cx="1295640" cy="1295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اولو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خصيص منا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صلاح ساخت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خط مش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و سبك رهب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AutoShape 25"/>
          <p:cNvCxnSpPr>
            <a:stCxn id="526" idx="2"/>
          </p:cNvCxnSpPr>
          <p:nvPr/>
        </p:nvCxnSpPr>
        <p:spPr>
          <a:xfrm rot="5400000">
            <a:off x="4137840" y="976320"/>
            <a:ext cx="448560" cy="72014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27" name="Line 26"/>
          <p:cNvSpPr/>
          <p:nvPr/>
        </p:nvSpPr>
        <p:spPr>
          <a:xfrm>
            <a:off x="76212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7"/>
          <p:cNvSpPr/>
          <p:nvPr/>
        </p:nvSpPr>
        <p:spPr>
          <a:xfrm>
            <a:off x="1066680" y="2362320"/>
            <a:ext cx="83844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چشم‏اندا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8"/>
          <p:cNvSpPr/>
          <p:nvPr/>
        </p:nvSpPr>
        <p:spPr>
          <a:xfrm>
            <a:off x="7543800" y="3581280"/>
            <a:ext cx="8380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فعّال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22860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جــر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0"/>
          <p:cNvSpPr/>
          <p:nvPr/>
        </p:nvSpPr>
        <p:spPr>
          <a:xfrm>
            <a:off x="121932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371600" y="502920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حصول نتاي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2"/>
          <p:cNvSpPr/>
          <p:nvPr/>
        </p:nvSpPr>
        <p:spPr>
          <a:xfrm>
            <a:off x="251460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266688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شي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2971800" y="3352680"/>
            <a:ext cx="0" cy="167652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5"/>
          <p:cNvSpPr/>
          <p:nvPr/>
        </p:nvSpPr>
        <p:spPr>
          <a:xfrm>
            <a:off x="8534520" y="3276720"/>
            <a:ext cx="0" cy="160020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>
            <a:off x="2590920" y="4800600"/>
            <a:ext cx="0" cy="129528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8"/>
          <p:cNvSpPr/>
          <p:nvPr/>
        </p:nvSpPr>
        <p:spPr>
          <a:xfrm>
            <a:off x="152280" y="4876920"/>
            <a:ext cx="28195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9"/>
          <p:cNvSpPr/>
          <p:nvPr/>
        </p:nvSpPr>
        <p:spPr>
          <a:xfrm flipH="1">
            <a:off x="228600" y="22860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0"/>
          <p:cNvSpPr/>
          <p:nvPr/>
        </p:nvSpPr>
        <p:spPr>
          <a:xfrm>
            <a:off x="3461400" y="1913760"/>
            <a:ext cx="275940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حليل، شناخت و هدف‏گذ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1"/>
          <p:cNvSpPr/>
          <p:nvPr/>
        </p:nvSpPr>
        <p:spPr>
          <a:xfrm>
            <a:off x="2786400" y="5871240"/>
            <a:ext cx="71856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كنتر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2"/>
          <p:cNvSpPr/>
          <p:nvPr/>
        </p:nvSpPr>
        <p:spPr>
          <a:xfrm>
            <a:off x="739152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AutoShape 43"/>
          <p:cNvCxnSpPr/>
          <p:nvPr/>
        </p:nvCxnSpPr>
        <p:spPr>
          <a:xfrm>
            <a:off x="3048120" y="4876560"/>
            <a:ext cx="54871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3" name="Text Box 44"/>
          <p:cNvSpPr/>
          <p:nvPr/>
        </p:nvSpPr>
        <p:spPr>
          <a:xfrm>
            <a:off x="4467600" y="4652280"/>
            <a:ext cx="16696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دوين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AutoShape 45"/>
          <p:cNvCxnSpPr/>
          <p:nvPr/>
        </p:nvCxnSpPr>
        <p:spPr>
          <a:xfrm>
            <a:off x="152280" y="6019560"/>
            <a:ext cx="2439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5" name="Text Box 46"/>
          <p:cNvSpPr/>
          <p:nvPr/>
        </p:nvSpPr>
        <p:spPr>
          <a:xfrm>
            <a:off x="540000" y="5871240"/>
            <a:ext cx="17794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اجـراي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36A7-71D6-4E01-B14F-5F45CEBA344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1908000" y="206064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77d9e8"/>
          </a:solidFill>
          <a:ln w="9360">
            <a:solidFill>
              <a:srgbClr val="0000ff"/>
            </a:solidFill>
            <a:miter/>
          </a:ln>
          <a:effectLst>
            <a:outerShdw dist="153753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حليل، شناخت و هدف‏گذ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4617b"/>
                </a:solidFill>
                <a:uFillTx/>
                <a:latin typeface="Tw Cen MT"/>
                <a:cs typeface="2  Esfehan"/>
              </a:rPr>
              <a:t>تحليل، شناخت و هدف‏گذار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E819-9DED-4EBE-B232-5E280C2AB94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99680" y="185688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80680" indent="-580680" algn="just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وضع موجو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مسائل استراتژيك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عوامل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فرصت‏ها و تهديدهاي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نقاط قوّت و ضعف درون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فرصت‏ها و تهديدهاي محيطي و نقاط قوّت و ضعف دروني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SWOT Analysis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ارزيابي مجدد مأموريت و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نظيم گزينه‏هاي مختلف استراتژ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ذينفع‏ها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akeholders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6EB0-6D1F-4465-AC59-2BE906E69E3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14240" y="200016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spcBef>
                <a:spcPts val="700"/>
              </a:spcBef>
              <a:buClr>
                <a:srgbClr val="080808"/>
              </a:buClr>
              <a:buSzPct val="120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w Cen MT"/>
                <a:ea typeface="Traffic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رد، گروه يا سازمان كه مي‏تواند بر سازمان تاثير گذارد و يا از آن تاثير بپذيرد و علاوه‏ بر اين‏كه در فرايند مديريت استراتژيك مي‏بايستي علائق آن‏ها در نظر گرفته شود، در فرايند برنامه‏ريزي استراتژيك نيز مي‏بايستي مشاركت داشته باش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ه ترتيب زي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شناسائي هم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اهميّت هر‏يك از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شخص كردن ديدگاه‏ها، معيار رضايت و اهداف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أثير آن‏ها بر برنامه‏هاي اجرائ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شناسائی مشتریان و نیازهای آنها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82AC-9865-4BF5-9C76-8A951645576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به سئوالات ذیل پاسخ دهید</a:t>
            </a:r>
            <a:r>
              <a:rPr b="1" lang="fa-IR" sz="2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خدمات را مصرف یا دریافت می کن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از عملکرد سازمان سود می برند ؟ 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خارج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داخل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کرد مناسب سازمان از نظر مشتریان چیست؟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یا سازمان دیگری وجود دارد که نیاز مشتریان را رفع کند؟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76a3"/>
                </a:solidFill>
                <a:uFillTx/>
                <a:latin typeface="Times New Roman"/>
                <a:cs typeface="Times New Roman"/>
              </a:rPr>
              <a:t>چشم‏انداز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FAFD-5D6A-4331-ACB5-314EB957D73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28240" y="1785960"/>
            <a:ext cx="86295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100" spc="-1" strike="noStrike" u="sng">
                <a:solidFill>
                  <a:srgbClr val="0076a3"/>
                </a:solidFill>
                <a:uFillTx/>
                <a:latin typeface="Tw Cen MT"/>
                <a:cs typeface="Titr"/>
              </a:rPr>
              <a:t>تعريف:</a:t>
            </a:r>
            <a:r>
              <a:rPr b="0" lang="ar-SA" sz="2100" spc="-1" strike="noStrike">
                <a:solidFill>
                  <a:srgbClr val="0076a3"/>
                </a:solidFill>
                <a:latin typeface="Tw Cen MT"/>
                <a:ea typeface="Titr Mazar"/>
              </a:rPr>
              <a:t> </a:t>
            </a:r>
            <a:r>
              <a:rPr b="1" lang="ar-SA" sz="21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شم‏انداز يعني آن‏چه كه در آرزوي دست‏يافتن به آن مي‏باشيم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شم‏انداز حالت آرماني داشته و كمّي نمي‏باشد و به سوال زير پاسخ مي‏ده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ctr" rtl="1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3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28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آن‏چه مي‏خواهيم بشويم 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در بيان آن بايستي سه موضوع در نظر گرفته شو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قص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توجي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فايد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ضمناً موارد زير در نوشتن چشم‏انداز مي‏بايستي رعايت گردد</a:t>
            </a:r>
            <a:r>
              <a:rPr b="1" lang="fa-IR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آرزو روشن براي آينده در نظر گرفته شو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چالش‏برانگيز و معني‏دا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حكم ولي انعطاف‏پذي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ساده، كوتاه و به‏يادماندني باشد</a:t>
            </a:r>
            <a:r>
              <a:rPr b="1" i="1" lang="fa-IR" sz="2100" spc="-1" strike="noStrike">
                <a:solidFill>
                  <a:srgbClr val="0076a3"/>
                </a:solidFill>
                <a:latin typeface="Tw Cen MT"/>
                <a:ea typeface="Traffic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) </a:t>
            </a: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ديريّت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B09F-4908-4FD8-B6A2-38214EF25DE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Oval 3"/>
          <p:cNvGrpSpPr/>
          <p:nvPr/>
        </p:nvGrpSpPr>
        <p:grpSpPr>
          <a:xfrm>
            <a:off x="658800" y="2041560"/>
            <a:ext cx="7497720" cy="3152880"/>
            <a:chOff x="658800" y="2041560"/>
            <a:chExt cx="7497720" cy="3152880"/>
          </a:xfrm>
        </p:grpSpPr>
        <p:pic>
          <p:nvPicPr>
            <p:cNvPr id="444" name="Oval 3" descr=""/>
            <p:cNvPicPr/>
            <p:nvPr/>
          </p:nvPicPr>
          <p:blipFill>
            <a:blip r:embed="rId1"/>
            <a:stretch/>
          </p:blipFill>
          <p:spPr>
            <a:xfrm>
              <a:off x="658800" y="2041560"/>
              <a:ext cx="749772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97120" y="2517840"/>
              <a:ext cx="5226120" cy="21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فرآيند انجام كارها به‏طور اثربخش و كار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2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به‏وسيله ديگر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        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دورنما </a:t>
            </a:r>
            <a:r>
              <a:rPr b="0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636640"/>
            <a:ext cx="34290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c931c"/>
                </a:solidFill>
                <a:latin typeface="Tw Cen MT"/>
                <a:ea typeface="Arial"/>
              </a:rPr>
              <a:t>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دامه رسالت و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چشم انداز به آینده ای است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که سازمان آرزو دار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500720" y="1700280"/>
          <a:ext cx="4038480" cy="3889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دورنم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رسال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ابل تغیی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اب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ینده آرمان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لسفه وجود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عده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عهد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D9D1-967E-4388-BAA9-09D905E84E6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ویژگی</a:t>
            </a:r>
            <a:r>
              <a:rPr b="1" lang="en-US" sz="4400" spc="-1" strike="noStrike">
                <a:solidFill>
                  <a:srgbClr val="0076a3"/>
                </a:solidFill>
                <a:latin typeface="Tw Cen MT"/>
              </a:rPr>
              <a:t> 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چشم انداز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5915-3E34-4CAA-A901-35E26384556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928880"/>
            <a:ext cx="82580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خلاص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درک، ساده و روش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لهام بخش و چالشی، آرمانی و ترغیب کننده برای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باور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راستای رسال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نقطه تفاهم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انعطا 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توصیف کننده خدمات آیند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نحوه تهیه چشم انداز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D7D4-000F-4D9E-95EC-296FC61028A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571680" y="1915920"/>
            <a:ext cx="8115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a50021"/>
                </a:solidFill>
                <a:latin typeface="Tw Cen MT"/>
                <a:ea typeface="Arial"/>
              </a:rPr>
              <a:t>    </a:t>
            </a: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گرش عمیق اعضا بیان شود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1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در آینده بدنبال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2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چه تصمیماتی در آینده دار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3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آینده مطلوب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4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چه تصویری نسبت به مشتریان داری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5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کیفیت زندگی مشتریان چگونه ارتقا می یاب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6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بزرگترین فرصت ها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ission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403A-4653-415D-BD32-D7FA23403DE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13880" y="1785960"/>
            <a:ext cx="800604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تعريف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رسالت يا مأموريّت معرّف علّت وجودي سازمان مي‏باشد و به دو سوال زير پاسخ مي‏ده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ه مي‏كنيم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ه خواهيم كرد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ة مأموريّت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Mission Statement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 2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9061c"/>
                </a:solidFill>
                <a:latin typeface="Times New Roman"/>
                <a:cs typeface="Times New Roman"/>
              </a:rPr>
              <a:t>در واقع بيانية مأموريّت مشروعيّت ايجاد و ادامة حيات سازمان را تبيين مي‏كند</a:t>
            </a:r>
            <a:r>
              <a:rPr b="1" lang="fa-IR" sz="2000" spc="-1" strike="noStrike">
                <a:solidFill>
                  <a:srgbClr val="0906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مثلأ</a:t>
            </a:r>
            <a:r>
              <a:rPr b="1" lang="ar-SA" sz="2000" spc="-1" strike="noStrike">
                <a:solidFill>
                  <a:srgbClr val="422db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443d08"/>
                </a:solidFill>
                <a:latin typeface="Times New Roman"/>
                <a:cs typeface="Times New Roman"/>
              </a:rPr>
              <a:t>مأموريّت سازمان‏هاي بهداشتي و درماني، حفظ و ارتقا وضع سلامت جامعه مي‏باشد</a:t>
            </a:r>
            <a:r>
              <a:rPr b="1" lang="fa-IR" sz="2000" spc="-1" strike="noStrike">
                <a:solidFill>
                  <a:srgbClr val="443d08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ه مأموريّت شامل اجزا زير مي‏باش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زمينة فعّاليّ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ت اهداف اصل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ارزش‏ها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Values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، باورها و نگرش (فلسفة سازماني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2198-1036-4BDD-A031-97DEA8A744B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762120" y="2209320"/>
            <a:ext cx="795816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فلسفة سازماني 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Organization Philosophy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Traff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منعكس كنن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ه</a:t>
            </a:r>
            <a:r>
              <a:rPr b="1" lang="ar-SA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باورها و ارزش‏ها و نگرش‏هاي اصلي سازمان است كه راهنمايي براي تصميم‏گيري مديران سازماني مي‏باش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6429240" y="4572000"/>
            <a:ext cx="2367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مات يا محصو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حدودة جغرافياي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143000" y="4714920"/>
            <a:ext cx="44956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طه‏نظرات درارتباط با رشد و توسعة كش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سازما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اط قوي درو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6609240" y="392904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443d08"/>
                </a:solidFill>
                <a:uFillTx/>
                <a:latin typeface="Times New Roman"/>
                <a:cs typeface="Titr"/>
              </a:rPr>
              <a:t>عناصر بيانية مأمو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2748600" y="628164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cc3300"/>
                </a:solidFill>
                <a:latin typeface="Times New Roman"/>
                <a:cs typeface="Titr"/>
              </a:rPr>
              <a:t>بيانية مأموريّت بايد الهام‏بخش و برانگيزنده 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14680" y="404280"/>
            <a:ext cx="62863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رسالت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MIS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8412-632B-4370-9033-238F96D497C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42960" y="1857240"/>
            <a:ext cx="81439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بیانیه جامع و مختصر از اهداف سازم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(سند عینی تلاش سازمان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ضرورت تهیه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دوین مقاصد مهم، روشن و مرتبط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بیین چارچوب اصلی برنامه ریزی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متعهد ساختن کارکنان به تحقق اهداف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جلب حمایت افراد خارج سازمان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c000"/>
                </a:solidFill>
                <a:latin typeface="Tw Cen MT"/>
                <a:cs typeface="Arial"/>
              </a:rPr>
              <a:t>ارزش ها</a:t>
            </a:r>
            <a:r>
              <a:rPr b="1" lang="en-US" sz="4400" spc="-1" strike="noStrike">
                <a:solidFill>
                  <a:srgbClr val="ffc000"/>
                </a:solidFill>
                <a:latin typeface="Tw Cen MT"/>
              </a:rPr>
              <a:t>VALUES</a:t>
            </a:r>
            <a:r>
              <a:rPr b="0" lang="en-US" sz="4400" spc="-1" strike="noStrike">
                <a:solidFill>
                  <a:srgbClr val="ffc000"/>
                </a:solidFill>
                <a:latin typeface="Tw Cen MT"/>
              </a:rPr>
              <a:t>       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856800" y="2142720"/>
            <a:ext cx="77770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اصولی که از نظر فردی و اجتماعی در سازمان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 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نوعی رفتار مناسب و برتر شمرده می شوندو در هر حال معیارهای ثابت سازمان برای تصمیم گیری ها هستند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000"/>
                </a:solidFill>
                <a:latin typeface="Tw Cen MT"/>
                <a:cs typeface="Arial"/>
              </a:rPr>
              <a:t>صداقت، رازداری ،رضایت گیرنده خدمت در همه جا</a:t>
            </a:r>
            <a:r>
              <a:rPr b="1" lang="fa-IR" sz="3200" spc="-1" strike="noStrike">
                <a:solidFill>
                  <a:srgbClr val="e2d700"/>
                </a:solidFill>
                <a:latin typeface="Tw Cen MT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2CFA-F50B-4152-A481-F5677205B25B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کاربرد ارزش های سازمانی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84DE-FB9C-42C7-9E56-D70CA352D78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360" y="2214360"/>
            <a:ext cx="8102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مبنا و معیار برای تصمیم گیر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بیان کننده ارزش های مورد قبول جامعه و سازم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ایجاد انگیزه در کارکن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وسیله تغییر فرهنگ سازمان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تبیین ساختار ومحرک عملیاتهای تبدیل دورنما به واقعی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نقش و اهداف بيانية مأموريّت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3C5F-DF08-485D-9896-1D409171B46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Rectangle 3"/>
          <p:cNvGrpSpPr/>
          <p:nvPr/>
        </p:nvGrpSpPr>
        <p:grpSpPr>
          <a:xfrm>
            <a:off x="1006560" y="2451240"/>
            <a:ext cx="7242120" cy="2912760"/>
            <a:chOff x="1006560" y="2451240"/>
            <a:chExt cx="7242120" cy="2912760"/>
          </a:xfrm>
        </p:grpSpPr>
        <p:pic>
          <p:nvPicPr>
            <p:cNvPr id="594" name="Rectangle 3" descr=""/>
            <p:cNvPicPr/>
            <p:nvPr/>
          </p:nvPicPr>
          <p:blipFill>
            <a:blip r:embed="rId1"/>
            <a:stretch/>
          </p:blipFill>
          <p:spPr>
            <a:xfrm>
              <a:off x="1006560" y="2451240"/>
              <a:ext cx="7242120" cy="29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038240" y="2482920"/>
              <a:ext cx="7175520" cy="28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گرايش يكسان در تمام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تفاهم در ارتباط با ايده‏ها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منبع الهامي در ارتباط با فعّاليّت‏هاي روزمر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عامل هدايتي و گرايشي كاركنان در راستاي اهدا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09120" y="2357280"/>
            <a:ext cx="2319480" cy="3052800"/>
          </a:xfrm>
          <a:prstGeom prst="rect">
            <a:avLst/>
          </a:prstGeom>
          <a:solidFill>
            <a:srgbClr val="04617b"/>
          </a:solidFill>
          <a:ln w="38160">
            <a:solidFill>
              <a:srgbClr val="004e6d"/>
            </a:solidFill>
            <a:miter/>
          </a:ln>
        </p:spPr>
        <p:txBody>
          <a:bodyPr anchor="ctr">
            <a:normAutofit fontScale="94000"/>
          </a:bodyPr>
          <a:p>
            <a:pPr marL="501480" indent="-5014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محيط داخلي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ابع مال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يروي انسان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زاريابي و فرو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مليات و تولي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حقيق و توسعه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راتژي جار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643720" y="2357280"/>
            <a:ext cx="3195360" cy="3052800"/>
          </a:xfrm>
          <a:prstGeom prst="rect">
            <a:avLst/>
          </a:prstGeom>
          <a:solidFill>
            <a:srgbClr val="dbf5f9"/>
          </a:solidFill>
          <a:ln w="38160">
            <a:solidFill>
              <a:srgbClr val="dbf5f9"/>
            </a:solidFill>
            <a:miter/>
          </a:ln>
        </p:spPr>
        <p:txBody>
          <a:bodyPr anchor="ctr">
            <a:normAutofit fontScale="95000"/>
          </a:bodyPr>
          <a:p>
            <a:pPr marL="506520" indent="-5065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محيط كلان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EST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سياس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قتصاد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جتماع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5406-05F2-4884-8976-11D4FC4B118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2928960" y="2357280"/>
            <a:ext cx="2709720" cy="3052800"/>
          </a:xfrm>
          <a:prstGeom prst="rect">
            <a:avLst/>
          </a:prstGeom>
          <a:solidFill>
            <a:srgbClr val="0bd0d9"/>
          </a:solidFill>
          <a:ln w="10080">
            <a:solidFill>
              <a:srgbClr val="21b2c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حيط رقابتي (پورتر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زه‏وا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ارك‏كنندگ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لا يا خدمت جانش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ق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695808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w Cen MT"/>
                <a:cs typeface="Arial"/>
              </a:rPr>
              <a:t>تعريف مديريت</a:t>
            </a:r>
            <a:endParaRPr b="0" lang="en-US" sz="60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971640" y="2286000"/>
            <a:ext cx="695808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 فعاليت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 منظم درجهت تحقق اهداف معين ازطريق ايجاد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ابط ميان منابع موجود، انجام دادن كار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مشاركت افراد ديگروشركت فعال در تصميم گيري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3846-023A-4FB7-865F-C6BBADC02187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8DAC-0BD0-4A2C-B3E8-1275015F292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09120" y="2209680"/>
            <a:ext cx="8339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20000"/>
                </a:solidFill>
                <a:latin typeface="Times New Roman"/>
                <a:cs typeface="Times New Roman"/>
              </a:rPr>
              <a:t>براي شناخت محيط‏هاي سازماني ابتدا عوامل مربوطه شناسائي مي‏شوند</a:t>
            </a:r>
            <a:r>
              <a:rPr b="1" lang="fa-IR" sz="2000" spc="-1" strike="noStrike">
                <a:solidFill>
                  <a:srgbClr val="72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ثلاً عوامل سياسي مي‏تواند شامل موارد زير باشد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حمايت‏كنن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ك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ارتباط با ساير كشورها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خصوصي‏ساز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سپس جمع تعداد عوامل نيز مشخص مي‏شود. در مثال بالا جمع عوامل سياسي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مي‏باشد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كلان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PES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و رقابتي به‏عنوان، عوامل محيطي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Environmen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داخلي به‏عنوان منابع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Resources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در نظر گرفته مي‏شود</a:t>
            </a:r>
            <a:r>
              <a:rPr b="1" lang="fa-IR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يابي عوامل محيط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A0F9-5E13-4C46-9327-6CBC02E0F6B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33520" y="2514240"/>
            <a:ext cx="8339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ّم‏ترين قسمت برنامه‏ريزي استراتژيك بوده و به عواملي تأكيد دارد كه ظهور و بروز آن‏ها در اختيار سازمان و مديّريت نمي‏باش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 u="sng">
                <a:solidFill>
                  <a:srgbClr val="660033"/>
                </a:solidFill>
                <a:uFillTx/>
                <a:latin typeface="Times New Roman"/>
                <a:cs typeface="Times New Roman"/>
              </a:rPr>
              <a:t>روش‏هاي ارزيابي عوامل محيطي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يزبيني يا پويش‏گر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cann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دياب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Trail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يش‏بين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orecast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ايش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Monitor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2D5E-07C7-447C-88F6-09FB021B35A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21384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387026"/>
                </a:solidFill>
                <a:latin typeface="Tw Cen MT"/>
                <a:cs typeface="Arial"/>
              </a:rPr>
              <a:t>تهیه ماتریس ارزیابی عوامل خارج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87026"/>
                </a:solidFill>
                <a:latin typeface="Tw Cen MT"/>
              </a:rPr>
              <a:t>External Factor Evaluation (EF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227664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الف – نگارش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فرصت و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تهدید بر اساس میزان واولویت تعیین ش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ا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عام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ب- تعیین ضری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برای کل عوامل خارج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ج – محاسبه رتبه برای هر یک از عوامل خارجی بر اساس وضعیت موج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بی تاثیر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2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کم،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3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متوسط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4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زی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د- محاسبه نمره برای هر یک 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 رتبه × ضریب÷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هـ محاسبه امتی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نمرات نهائی)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64180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9900"/>
                </a:solidFill>
                <a:latin typeface="Tw Cen MT"/>
                <a:cs typeface="Arial"/>
              </a:rPr>
              <a:t>ماتریس ارزیابی عوامل خارجی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1B95-C92F-48DF-9802-F5B4DD474BA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68360" y="981000"/>
          <a:ext cx="8362800" cy="52117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871640"/>
                <a:gridCol w="317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نمر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رتب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ضری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عوامل خارجی </a:t>
                      </a:r>
                      <a:r>
                        <a:rPr b="1" lang="en-US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E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رصت 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ید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</a:t>
                      </a:r>
                      <a:r>
                        <a:rPr b="1" lang="fa-I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جمع ک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رزيابي عوامل درو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0504-6378-456C-A016-DD77CF2B2C6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38080" y="236232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ارزيابي محيط داخلي سه متغير درنظر گرفته مي‏شود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منابع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In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ستراتژي جاري، فرهنگ سازماني، نقش و مأموريّت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ocess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عملكرد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ut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الا به پائين اطلاعات موجود كمتر مي‏شود و استفاده از نظرات ذي‏نفع‏ها در اين مورد كمك‏كننده خواهد بو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b02a00"/>
              </a:buClr>
              <a:buSzPct val="14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نقاط‏قوّتي كه نشان‏دهندة مهارت خاص باشند و لبة تيز رقابت سازمان را تعيين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نند </a:t>
            </a:r>
            <a:r>
              <a:rPr b="1" i="1" lang="ar-SA" sz="24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شايستگي بارز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istinction Competence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مي‏نامند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ارزیابی عوامل داخلی موثر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979280" y="2349360"/>
            <a:ext cx="259884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0021"/>
                </a:solidFill>
                <a:latin typeface="Tw Cen MT"/>
                <a:cs typeface="Arial"/>
              </a:rPr>
              <a:t>نقاط ضعف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w Cen MT"/>
              </a:rPr>
              <a:t>W</a:t>
            </a:r>
            <a:r>
              <a:rPr b="1" lang="en-US" sz="3200" spc="-1" strike="noStrike">
                <a:solidFill>
                  <a:srgbClr val="a50021"/>
                </a:solidFill>
                <a:latin typeface="Tw Cen MT"/>
              </a:rPr>
              <a:t>eakn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508360" y="2349360"/>
            <a:ext cx="267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6a3"/>
                </a:solidFill>
                <a:uFillTx/>
                <a:latin typeface="Tw Cen MT"/>
              </a:rPr>
              <a:t>S</a:t>
            </a:r>
            <a:r>
              <a:rPr b="1" lang="en-US" sz="3200" spc="-1" strike="noStrike">
                <a:solidFill>
                  <a:srgbClr val="0076a3"/>
                </a:solidFill>
                <a:latin typeface="Tw Cen MT"/>
              </a:rPr>
              <a:t>trength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5622-8274-48D7-93B5-7B8AF87DF02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c9b74"/>
                </a:solidFill>
                <a:latin typeface="Times New Roman"/>
                <a:cs typeface="Times New Roman"/>
              </a:rPr>
              <a:t>شناسائی نحوه عملکرد سازمان در گذشته</a:t>
            </a:r>
            <a:r>
              <a:rPr b="1" lang="fa-IR" sz="3600" spc="-1" strike="noStrike">
                <a:solidFill>
                  <a:srgbClr val="0c9b74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2907-E5E6-4DFB-BCC0-1159DB56FFB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13880" y="2428560"/>
            <a:ext cx="815364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سازمان پاسخگو نیاز گروه هدف بو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خدمات به نحو مناسب ارائه ش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تغییرات تاثیر گذار در سازمان اتفاق افتا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حال حاضر در رکود هستیم یا در پیشرفت؟(دلایل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برنامه توسعه کشور دارای چه سهمی هستیم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c9b74"/>
                </a:solidFill>
                <a:latin typeface="Tw Cen MT"/>
                <a:cs typeface="Arial"/>
              </a:rPr>
              <a:t>شناسائی عملکرد فعلی سازمان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:</a:t>
            </a:r>
            <a:r>
              <a:rPr b="0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BE69-DF1F-47F6-A1F2-6BCBC665F9B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12720" y="2428920"/>
            <a:ext cx="81532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در دست اقدام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مکمل و متضاد کدام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آیا نیازی به تداوم فعالیتها میباش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مبنای سنجش عملکرد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نگرش جامعه به عملکرد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83763"/>
                </a:solidFill>
                <a:latin typeface="Tw Cen MT"/>
                <a:cs typeface="Arial"/>
              </a:rPr>
              <a:t>شناسائی نقاط ضعف و قوت</a:t>
            </a:r>
            <a:r>
              <a:rPr b="1" lang="fa-IR" sz="4400" spc="-1" strike="noStrike">
                <a:solidFill>
                  <a:srgbClr val="08376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8721-CB81-409F-AE92-F38ED64FBDF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85480" y="2428560"/>
            <a:ext cx="85359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ظرفیت و توان فعلی مجموعه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 سازمان چيست و چگونه میتوان آنها را تقویت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ضعف سازمان چيست و چگونه میتوان آنها را رفع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موانع تامین نیاز وانتظارات مشتریان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تدوین استراتژی ها</a:t>
            </a:r>
            <a:r>
              <a:rPr b="1" lang="fa-IR" sz="4000" spc="-1" strike="noStrike">
                <a:solidFill>
                  <a:srgbClr val="03495c"/>
                </a:solidFill>
                <a:latin typeface="Tw Cen MT"/>
                <a:ea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8071-4601-43DA-952E-23CF3877C1F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42600" y="1714320"/>
            <a:ext cx="8072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هیه ماتریس ارزیابی عوامل داخل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ternal Factor Evaluation (IF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الف – نگارش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قوت و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ضعف براساس میزان و الوویت تعیین ش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ا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عامل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- تعیین ضریب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برای کل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ج – محاسبه رتبه برای هر یک از عوامل داخلی بر اساس وضعیت فعل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1-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ی تاثیر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کم،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متوسط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زیاد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د- محاسبه نمره برای هر یک 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رتبه × ضریب ÷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هـ محاسبه امتی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نمرات نهائ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 Function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ظايف مديريّت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523880" y="1905120"/>
            <a:ext cx="609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عيين اهداف و روش دستيابي به آن‏ها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نظيم كارها، اختيارات و منابع بين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ea typeface="Traffic"/>
              </a:rPr>
              <a:t> </a:t>
            </a: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اعمال نفوذ و ايجاد انگيزه در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مقايسه فعّاليّت‏ها با استانداردها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71400" y="1484280"/>
            <a:ext cx="72673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برنامه</a:t>
            </a:r>
            <a:r>
              <a:rPr b="1" i="1" lang="fa-IR" sz="2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‏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يزي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lann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سازمان‏ده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Organiz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هبر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ead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كنترل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troll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6E75-8208-4FD0-93C0-9C22F0D0661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Rectangle 5"/>
          <p:cNvGrpSpPr/>
          <p:nvPr/>
        </p:nvGrpSpPr>
        <p:grpSpPr>
          <a:xfrm>
            <a:off x="633240" y="5608800"/>
            <a:ext cx="8255160" cy="1096920"/>
            <a:chOff x="633240" y="5608800"/>
            <a:chExt cx="8255160" cy="1096920"/>
          </a:xfrm>
        </p:grpSpPr>
        <p:pic>
          <p:nvPicPr>
            <p:cNvPr id="454" name="Rectangle 5" descr=""/>
            <p:cNvPicPr/>
            <p:nvPr/>
          </p:nvPicPr>
          <p:blipFill>
            <a:blip r:embed="rId1"/>
            <a:stretch/>
          </p:blipFill>
          <p:spPr>
            <a:xfrm>
              <a:off x="633240" y="5608800"/>
              <a:ext cx="82551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685800" y="5715000"/>
              <a:ext cx="8153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برنامه‏ريزي به‏سان لكوموتيوي است كه واگن‏هاي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سازمان‏دهي، رهبري و كنترل را به حركت در مي‏آور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ماتریس ارزیابی عوامل داخلی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6379-0724-41C1-8CA2-C8982934FE3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143000" y="1643040"/>
          <a:ext cx="7461360" cy="493704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7720"/>
                <a:gridCol w="4403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نمر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رت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ضری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ارزیابی عوامل داخلی </a:t>
                      </a:r>
                      <a:r>
                        <a:rPr b="1" lang="en-US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I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قو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ضع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  </a:t>
                      </a: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9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جمع ک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2303e"/>
                </a:solidFill>
                <a:latin typeface="Tw Cen MT"/>
                <a:cs typeface="Arial"/>
              </a:rPr>
              <a:t>ماتریس توز  </a:t>
            </a:r>
            <a:r>
              <a:rPr b="1" lang="en-US" sz="4000" spc="-1" strike="noStrike">
                <a:solidFill>
                  <a:srgbClr val="02303e"/>
                </a:solidFill>
                <a:latin typeface="Tw Cen MT"/>
              </a:rPr>
              <a:t>TOW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134F-BE8C-4867-827A-0F6E33686AE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642960" y="1714680"/>
          <a:ext cx="8136000" cy="4714560"/>
        </p:xfrm>
        <a:graphic>
          <a:graphicData uri="http://schemas.openxmlformats.org/drawingml/2006/table">
            <a:tbl>
              <a:tblPr/>
              <a:tblGrid>
                <a:gridCol w="2776680"/>
                <a:gridCol w="2647800"/>
                <a:gridCol w="2711520"/>
              </a:tblGrid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ضعف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قوت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عنو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فرصت 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تهدید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98C1-718F-4075-AB24-F20046A9B6D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71320" y="259920"/>
            <a:ext cx="778644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ctr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3495c"/>
                </a:solidFill>
                <a:latin typeface="Tw Cen MT"/>
                <a:cs typeface="Arial"/>
              </a:rPr>
              <a:t>قدم چهارم: تهیه ماتریس توز </a:t>
            </a:r>
            <a:r>
              <a:rPr b="1" lang="en-US" sz="2900" spc="-1" strike="noStrike">
                <a:solidFill>
                  <a:srgbClr val="03495c"/>
                </a:solidFill>
                <a:latin typeface="Tw Cen MT"/>
              </a:rPr>
              <a:t>TOW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cs typeface="Arial"/>
              </a:rPr>
              <a:t>با کمک ماتـ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و وضعیت سازمان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IE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)، استراتـژی ها را مشخص نمائ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- مات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چهار نمونه استراتژی را به ما پیشنهاد میکن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1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 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O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عالی ترین وضعیت است و میتوان با استفاده از نقاط قو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 و فرصت ها سهم سازمان را در بازار افزایش داد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O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باید نقاط ضعف را کاهش داد واز فرصت ها بهره لازم برد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مانند انتخاب تکنولوژی جد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: از نقاط قوت استفاده کرده واز تهدیدها دوری کن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هدف کاهش نقاط ضعف و تهدیدها در حداکثر زمان ممکن است و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وضعیت بسیار وخیم میباشد پس باید دنبال انحلال ، ادغام، کاهش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عملیات و ... باشیم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cs typeface="Arial"/>
              </a:rPr>
              <a:t>تهیه ماتریس داخلی و خارج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ternal External (IE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            3 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9/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2            1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داخلی</a:t>
            </a:r>
            <a:br>
              <a:rPr sz="16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br>
              <a:rPr sz="3200"/>
            </a:br>
            <a:r>
              <a:rPr b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1/2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</a:t>
            </a:r>
            <a:r>
              <a:rPr b="1" lang="fa-IR" sz="4400" spc="-1" strike="noStrike">
                <a:solidFill>
                  <a:srgbClr val="000000"/>
                </a:solidFill>
                <a:latin typeface="Tw Cen MT"/>
                <a:ea typeface="Arial"/>
              </a:rPr>
              <a:t> ×</a:t>
            </a: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br>
              <a:rPr sz="3200"/>
            </a:b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خارجی</a:t>
            </a:r>
            <a:endParaRPr b="0" lang="en-US" sz="1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901C-2F78-482D-ADD7-1171E1D2696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3708360" y="2349360"/>
          <a:ext cx="4535640" cy="3384720"/>
        </p:xfrm>
        <a:graphic>
          <a:graphicData uri="http://schemas.openxmlformats.org/drawingml/2006/table">
            <a:tbl>
              <a:tblPr/>
              <a:tblGrid>
                <a:gridCol w="2260800"/>
                <a:gridCol w="2274840"/>
              </a:tblGrid>
              <a:tr h="161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2382-11F8-4A46-A312-2FD8966BE0F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1835280" y="177336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85600" y="213840"/>
            <a:ext cx="593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200" spc="-1" strike="noStrike">
                <a:solidFill>
                  <a:srgbClr val="04617b"/>
                </a:solidFill>
                <a:latin typeface="Tw Cen MT"/>
                <a:ea typeface="Jadid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EAEF-F40A-4877-AF3D-939533627D7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2437920"/>
            <a:ext cx="800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رزيابي گزينه‏هاي مختلف استراتژي:</a:t>
            </a:r>
            <a:r>
              <a:rPr b="1" i="1" lang="ar-S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ا معيارهاي انتخابي شامل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اثربخش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ارآي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مترين تاثيرات سوء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نتخاب يك استراتژ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16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توصيف سازمان در آينده و چشم‏انداز موفقيّت :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درصورت اجراي استراتژي انتخاب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مشخصات تصميم‏ها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F424-B843-4D07-A0E7-8D72CB3548D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755640" y="1700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ر ارتباط با چشم‏انداز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تطابق با محيط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سازگاري فعاليّت‏ها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نابع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منابع سازمان تاثيرات عم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تصميمات عملياتي تاثي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تحت تاثير انتظارات و ارزش‏هاي افراد قدرتمند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جهت‏گيري درازمدّت سازمان تاثير مي‏گذ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طبيعت پيچي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66600" y="351000"/>
            <a:ext cx="6289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اه‏كارهاي استراتژي‏هاي اصلي</a:t>
            </a:r>
            <a:br>
              <a:rPr sz="2900"/>
            </a:b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eneric Strategy Alternatives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86F6-EE45-42FD-BF2C-089CF1D4A64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28400" y="2286000"/>
            <a:ext cx="8358120" cy="2743200"/>
          </a:xfrm>
          <a:prstGeom prst="rect">
            <a:avLst/>
          </a:prstGeom>
          <a:solidFill>
            <a:srgbClr val="e5f4e0"/>
          </a:solidFill>
          <a:ln w="76320">
            <a:solidFill>
              <a:srgbClr val="0b5395"/>
            </a:solidFill>
            <a:miter/>
          </a:ln>
        </p:spPr>
        <p:txBody>
          <a:bodyPr anchor="ctr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رشد يا تهاجم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Growth or Offensive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36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ثبات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ability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كاهش يا تدافع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Retrenchment or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Defensive</a:t>
            </a:r>
            <a:r>
              <a:rPr b="1" i="1" lang="en-US" sz="30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تركيب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Combination 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AEC7-2E01-493D-BF1C-ED55C5DC33A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AutoShape 4"/>
          <p:cNvGrpSpPr/>
          <p:nvPr/>
        </p:nvGrpSpPr>
        <p:grpSpPr>
          <a:xfrm>
            <a:off x="1852560" y="2352600"/>
            <a:ext cx="6181920" cy="2371680"/>
            <a:chOff x="1852560" y="2352600"/>
            <a:chExt cx="6181920" cy="2371680"/>
          </a:xfrm>
        </p:grpSpPr>
        <p:pic>
          <p:nvPicPr>
            <p:cNvPr id="659" name="AutoShape 4" descr=""/>
            <p:cNvPicPr/>
            <p:nvPr/>
          </p:nvPicPr>
          <p:blipFill>
            <a:blip r:embed="rId1"/>
            <a:stretch/>
          </p:blipFill>
          <p:spPr>
            <a:xfrm>
              <a:off x="1852560" y="2352600"/>
              <a:ext cx="618192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1973160" y="2473200"/>
              <a:ext cx="594036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 u="sng">
                  <a:solidFill>
                    <a:srgbClr val="115964"/>
                  </a:solidFill>
                  <a:uFillTx/>
                  <a:latin typeface="Times New Roman"/>
                  <a:cs typeface="Times New Roman"/>
                </a:rPr>
                <a:t>اجراي استراتژ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(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raffic"/>
                </a:rPr>
                <a:t>Strategy Implementation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تدوين برنامة عمليات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4351-3CD2-497D-A5D6-32F0D8C94E8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26560" y="1928520"/>
            <a:ext cx="741708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عد از انتخاب استراتژي اصلي سازمان، استراتژي مزبور به يك طرح عملياتي ترجمه مي‏شود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: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(شامل  اهداف كمّي،  طرح،  تخصيص منابع،  و  بودجه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ضمناً خط‏‏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شي، روش‏ها و مقررات (برنامه‏هاي جاري) نيز تدوين مي‏شود و سازمان‏دهي و مسائل انگيزش كاركنان و اتخاذ سبك رهبري مناسب نيز در نظر گرفته مي‏شود</a:t>
            </a:r>
            <a:r>
              <a:rPr b="1" lang="fa-IR" sz="3100" spc="-1" strike="noStrike">
                <a:solidFill>
                  <a:srgbClr val="000000"/>
                </a:solidFill>
                <a:latin typeface="Tw Cen MT"/>
                <a:ea typeface="Traffic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21C0-2ADE-4DD0-96AE-63F0DB9EB1ED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"/>
          <p:cNvSpPr/>
          <p:nvPr/>
        </p:nvSpPr>
        <p:spPr>
          <a:xfrm>
            <a:off x="2743200" y="2438280"/>
            <a:ext cx="1295280" cy="2743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 flipV="1">
            <a:off x="6248520" y="1828800"/>
            <a:ext cx="1218960" cy="28195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493200 h 2819520"/>
              <a:gd name="textAreaBottom" fmla="*/ 2044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4114800" y="4724280"/>
            <a:ext cx="2666880" cy="990720"/>
          </a:xfrm>
          <a:custGeom>
            <a:avLst/>
            <a:gdLst>
              <a:gd name="textAreaLeft" fmla="*/ 466560 w 2666880"/>
              <a:gd name="textAreaRight" fmla="*/ 1933560 w 266688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 flipH="1">
            <a:off x="3505320" y="1295280"/>
            <a:ext cx="2666880" cy="1067040"/>
          </a:xfrm>
          <a:custGeom>
            <a:avLst/>
            <a:gdLst>
              <a:gd name="textAreaLeft" fmla="*/ 466920 w 2666880"/>
              <a:gd name="textAreaRight" fmla="*/ 1933920 w 26668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195800" y="857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ffic"/>
              </a:rPr>
              <a:t>برنامه‏ري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 flipV="1">
            <a:off x="2212920" y="2819520"/>
            <a:ext cx="546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سازمان‏د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66480" y="579132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Traffic"/>
              </a:rPr>
              <a:t>رهب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7104960" y="281952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cc"/>
                </a:solidFill>
                <a:latin typeface="Times New Roman"/>
                <a:cs typeface="Traffic"/>
              </a:rPr>
              <a:t>كنتر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3733920" y="2819520"/>
            <a:ext cx="2666880" cy="1523880"/>
          </a:xfrm>
          <a:prstGeom prst="ellipse">
            <a:avLst/>
          </a:prstGeom>
          <a:gradFill rotWithShape="0">
            <a:gsLst>
              <a:gs pos="0">
                <a:srgbClr val="c5ecff"/>
              </a:gs>
              <a:gs pos="100000">
                <a:srgbClr val="adcfe0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دستيابي به اهد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762120" y="9144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تباط وظايف مديريّ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6EFF-AD38-478D-8D47-31ABCD2ED3A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42960" y="2000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200"/>
                </a:solidFill>
                <a:latin typeface="Times New Roman"/>
                <a:cs typeface="Times New Roman"/>
              </a:rPr>
              <a:t>پيش‏بيني و تعيين مراحل و توالي فعّاليّت‏هاي لازم براي تأمين اهداف استراتژيك از طريق وسايل (تاكتيك‏ها)، به‏تفكيك زمان، هزينه، نيروي انساني لازم، برنامه‏ريزي عملياتي ‏ناميده مي‏شود</a:t>
            </a:r>
            <a:r>
              <a:rPr b="1" lang="fa-IR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انوا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جار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tanding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تكراري و روزمر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يك‏بار مصرف يا مداخله‏ا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ngle-Use or Interventional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</a:t>
            </a:r>
            <a:r>
              <a:rPr b="1" i="1" lang="ar-SA" sz="2400" spc="-1" strike="noStrike">
                <a:solidFill>
                  <a:srgbClr val="00005c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استثنايي، غيرتكراري، مانند طرح‏ها 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Projects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357200" y="214200"/>
            <a:ext cx="64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برنامه‏ريزي عملياتي يا اجرايي</a:t>
            </a:r>
            <a:r>
              <a:rPr b="1" lang="ar-SA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Operational Planning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راحل برنامه‏ريزي عملياتي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E715-8B00-46DF-803A-2F51B8212CC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826920" y="1699920"/>
            <a:ext cx="792504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r" rtl="1">
              <a:spcBef>
                <a:spcPts val="700"/>
              </a:spcBef>
              <a:buClr>
                <a:srgbClr val="115964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b050"/>
                </a:solidFill>
                <a:latin typeface="Tw Cen MT"/>
                <a:ea typeface="Titr Mazar"/>
              </a:rPr>
              <a:t> </a:t>
            </a:r>
            <a:r>
              <a:rPr b="1" i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جزيه و تحليل وضعيّت موجود</a:t>
            </a:r>
            <a:r>
              <a:rPr b="1" i="1" lang="fa-IR" sz="3600" spc="-1" strike="noStrike">
                <a:solidFill>
                  <a:srgbClr val="115964"/>
                </a:solidFill>
                <a:latin typeface="Tw Cen M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طرق نيل (استراتژي‏ها) به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فعّاليّت‏هاي لازم براي هر استراتژ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بيان شرح تفصيلي هر فعّاليّ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شيوه پايش و ارزشياب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جزيه و تحليل وضعيّت موجود منطق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75B3-2B13-4133-A860-30C4C07F2EF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762120" y="18284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عيين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مورد لزو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جمع‏آوري داده‏ه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 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 لاز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نظام ثبت و گزارش جاري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بررسي‏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ه</a:t>
            </a:r>
            <a:r>
              <a:rPr b="1" lang="ar-SA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ا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ي مقطعي</a:t>
            </a:r>
            <a:r>
              <a:rPr b="1" lang="fa-IR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n-CL" sz="23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urvey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جزيه و تحليل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ه‏منظو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آ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ز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 (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خ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ص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ة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ف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ح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ظ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لويت‏بندي مشكلا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Line 4"/>
          <p:cNvSpPr/>
          <p:nvPr/>
        </p:nvSpPr>
        <p:spPr>
          <a:xfrm flipV="1">
            <a:off x="7772400" y="2971440"/>
            <a:ext cx="0" cy="762120"/>
          </a:xfrm>
          <a:prstGeom prst="line">
            <a:avLst/>
          </a:prstGeom>
          <a:ln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عيين اهداف برنامه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67B8-4361-4AAA-9A7C-B9AC71E5CC9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14240" y="2071800"/>
            <a:ext cx="7848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Goals or Main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كل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اتوجه به مشكلات اولويّت‏دار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مأموريت سازمان، به‏صورت كلي، غير كمّي و جهت‏دار 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Objectives or Specific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اختصاص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جزاي تشكيل دهنده هدف كلي را به‏صورت مشخص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قابل سنجش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ي‏سازد. بدين وسيله برنامه قابل ارزشيابي مي‏گرد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هميّت اهداف برنام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3DE8-DBBB-4216-BA2A-9F114D99550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39640" y="1844280"/>
            <a:ext cx="82296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سير و جهت حركت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ح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ز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‏را مشخص مي‏كن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وجب تمركز تلاش‏ها و هماهنگي فعّاليّت‏ها مي‏گرد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صميمات را رهنمو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بب ايجاد انگيزه براي اجراي عمليات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ر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ه)،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رزشيابي برنامه را ممكن مي‏ساز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كاتي كه در تعيين اهداف مي‏بايستي رعايت شود</a:t>
            </a:r>
            <a:r>
              <a:rPr b="1" lang="fa-IR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F33C-8D5B-42D8-AFCE-3C07CD222CB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09480" y="1828440"/>
            <a:ext cx="830592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عوامل مؤثر بر بروز مشكلات وتوجه به شرايط محيطي، منابع داخلي و آيند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وجه به واقعيّات </a:t>
            </a:r>
            <a:r>
              <a:rPr b="0" i="1" lang="fa-IR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تعيين اهداف دست‏يافت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مّي كردن اهداف (منظور كردن قيد زما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عيين اهداف با مشاركت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مقصد و چشم‏انداز نهايي واولويّت‏بندي اهداف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‏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خ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ث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7120" y="264600"/>
            <a:ext cx="87868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خصوصيات اهداف اختصاصي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ecific Objective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C75E-45F8-4DDF-83B9-F67E7938E2E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قابل اندازه‏گير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M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asur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ست‏يافتن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A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ttain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مرتبط با هدف كل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R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levan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اراي زمان مشخص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ime-bounded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Oval 4"/>
          <p:cNvSpPr/>
          <p:nvPr/>
        </p:nvSpPr>
        <p:spPr>
          <a:xfrm>
            <a:off x="1600200" y="4419720"/>
            <a:ext cx="6553080" cy="2133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c2e00"/>
                </a:solidFill>
                <a:uFillTx/>
                <a:latin typeface="Times New Roman"/>
                <a:cs typeface="Traffic"/>
              </a:rPr>
              <a:t>به‏طور كلي 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اهداف اختصاصي بايد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raffic"/>
              </a:rPr>
              <a:t>SMART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باش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3000240" y="20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"/>
          <p:cNvSpPr/>
          <p:nvPr/>
        </p:nvSpPr>
        <p:spPr>
          <a:xfrm>
            <a:off x="3643200" y="257184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>
            <a:off x="2928960" y="30002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2971800" y="35812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2214720" y="357192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Strategies)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استراتژي‏ه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4CA2-A2EC-4635-B6F7-8608539289F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91404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3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w Cen MT"/>
                <a:ea typeface="Traffic"/>
              </a:rPr>
              <a:t> </a:t>
            </a:r>
            <a:r>
              <a:rPr b="1" lang="fa-IR" sz="28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ستراتژي يعني تعيين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طريق يا روش رسيدن به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4617b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اي تعيين استراتژي‏ها مي‏توان از عوامل مؤثر بر ايجاد اهداف اختصاصي استفاده نمود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با استفاده از شبكه عليّت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استراتژي‏هاي انتخابي نيز همانند اهداف، جهت انتخاب،  مي‏بايستي اولويّت‏بندي شو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استراتژي‏ها برخلاف اهداف حالت كمّي ندار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Activitie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فعّاليّت‏ها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7A15-F6A8-478D-B245-33AD36BF5B6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228600" y="1523520"/>
            <a:ext cx="86868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32011"/>
                </a:solidFill>
                <a:latin typeface="Times New Roman"/>
                <a:cs typeface="Times New Roman"/>
              </a:rPr>
              <a:t>هدف از برنامه‏ريزي تبديل اهداف به فعّاليّت‏ها مي‏باش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 u="sng">
                <a:solidFill>
                  <a:srgbClr val="000062"/>
                </a:solidFill>
                <a:uFillTx/>
                <a:latin typeface="Times New Roman"/>
                <a:cs typeface="Times New Roman"/>
              </a:rPr>
              <a:t>انواع فعّاليّ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جاري: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ف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ّ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ّ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ز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ط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آ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ئ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ص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گ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مداخله‏اي</a:t>
            </a:r>
            <a:r>
              <a:rPr b="1" lang="fa-IR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:</a:t>
            </a: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براساس مشكلات خاصّ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و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غ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، 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ن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ج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برنامه عملياتي مي‏بايستي شامل هر دو نوع فعّاليّت‏ 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005c"/>
              </a:buClr>
              <a:buSzPct val="9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عّاليّت‏هاي جاري در بخش جدول تفصيلي به فعّاليّت‏هاي مداخله‏اي اضافه مي‏شو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فعّاليّت‏ها را نيز مي‏توان، عوامل مؤثر بر استراتژي‏ها، درنظر گرف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10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عّاليّت‏ها نيز مي‏بايستي اولويت‏بندي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ش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رح تفصيلي فعّاليّت‏ها (سازمان‏دهي فعّاليّت‏ها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FDB0-79B1-4E16-9A3E-8B66C1BDD0E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609480" y="1828800"/>
          <a:ext cx="8305920" cy="473400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14400"/>
                <a:gridCol w="1219320"/>
                <a:gridCol w="761760"/>
                <a:gridCol w="990720"/>
                <a:gridCol w="914400"/>
                <a:gridCol w="990720"/>
                <a:gridCol w="609480"/>
              </a:tblGrid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محل تأمين اعتب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ل هزين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شيو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ة پاي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اقدامات پشتيب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جا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زمان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كسي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چيز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ردي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تعریف برنامه ریزی</a:t>
            </a:r>
            <a:r>
              <a:rPr b="1" lang="fa-IR" sz="4400" spc="-1" strike="noStrike">
                <a:solidFill>
                  <a:srgbClr val="04617b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8AC6-18E0-4AB7-A0D2-A0CA2F7C9BE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1928520"/>
            <a:ext cx="8115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بارت است از تهيه و توزيع و تخصيص 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کانات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حدود براي رسيدن به هدف هاي مطلوب، در حداقل زمان و با حداقل هزينه ممكن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فرايند دستيابي به اهداف سازمان اس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AutoShape 2"/>
          <p:cNvSpPr/>
          <p:nvPr/>
        </p:nvSpPr>
        <p:spPr>
          <a:xfrm>
            <a:off x="2286000" y="4643280"/>
            <a:ext cx="4857840" cy="1236960"/>
          </a:xfrm>
          <a:prstGeom prst="cloudCallout">
            <a:avLst>
              <a:gd name="adj1" fmla="val 162"/>
              <a:gd name="adj2" fmla="val 57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برنامه ريز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6357960" y="4000680"/>
            <a:ext cx="785880" cy="618840"/>
          </a:xfrm>
          <a:prstGeom prst="ellipse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هد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627280" y="4143240"/>
            <a:ext cx="639720" cy="444600"/>
          </a:xfrm>
          <a:prstGeom prst="rect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فعالي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3276720" y="4365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دول زمان‏بندي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ime Table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67F8-00DD-47E6-A3DC-60B89BB8C12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2120" y="1752120"/>
            <a:ext cx="8076960" cy="4605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مهمترين و متداول‏ترين جدول زمان‏بندي مورد استفاده جدول گانت مي‏باشد كه قدمت آن به يك قرن مي‏رس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ابزار سودمند مديريّتي براي برنامه‏ريزي و كنترل (پايش فعّاليّت‏ها) مي‏باشد كه ترتيب زماني فعّاليّت‏هاي پيش‏بيني (برنامه‏ريزي) شده و فعاّليّت‏هاي انجام‏گرفته را نشان مي‏ده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نمودار ستوني است كه زمان در محور افقي  و فعّاليّت‏ها در محور عمودي آن قرار گرفته‏ان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ستون‏هاي نمودار نشان‏دهندة نتيجة كار در يك مدّت معين است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براي تهية نمودار گانت ابتدا كلية فعّاليّت‏هاي هر استراتژي ليست شده، سپس موعد و مدّت زمان هر فعّاليّت پيش‏بيني مي‏شود و براساس تقدّم زماني، جدول گانت رسم مي‏گرد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درحين اجراي برنامه، فعّاليْت‏هايي كه عملاً انجام گرفته‏اند نيز در جدول ، براي مقايسه (پايش) و انجام اقدامات اصلاحي، مشخص مي</a:t>
            </a:r>
            <a:r>
              <a:rPr b="1" lang="ar-SA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‏شوند 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جدول گانت</a:t>
            </a:r>
            <a:r>
              <a:rPr b="1" i="1" lang="ar-SA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Gantt Chart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FD8D-60DE-4704-ADFE-AE44F6C5DAE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685800" y="2133720"/>
          <a:ext cx="8153280" cy="345420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9144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07" name="Line 75"/>
          <p:cNvSpPr/>
          <p:nvPr/>
        </p:nvSpPr>
        <p:spPr>
          <a:xfrm flipH="1">
            <a:off x="6934320" y="36576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Rectangle 76"/>
          <p:cNvGrpSpPr/>
          <p:nvPr/>
        </p:nvGrpSpPr>
        <p:grpSpPr>
          <a:xfrm>
            <a:off x="2651040" y="5761080"/>
            <a:ext cx="4230720" cy="1017720"/>
            <a:chOff x="2651040" y="5761080"/>
            <a:chExt cx="4230720" cy="1017720"/>
          </a:xfrm>
        </p:grpSpPr>
        <p:pic>
          <p:nvPicPr>
            <p:cNvPr id="709" name="Rectangle 76" descr=""/>
            <p:cNvPicPr/>
            <p:nvPr/>
          </p:nvPicPr>
          <p:blipFill>
            <a:blip r:embed="rId17"/>
            <a:stretch/>
          </p:blipFill>
          <p:spPr>
            <a:xfrm>
              <a:off x="2651040" y="5761080"/>
              <a:ext cx="42307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2743200" y="5867280"/>
              <a:ext cx="4038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ea typeface="Traffic"/>
                </a:rPr>
                <a:t>   </a:t>
              </a:r>
              <a:r>
                <a:rPr b="1" lang="ar-SA" sz="2400" spc="-1" strike="noStrike">
                  <a:solidFill>
                    <a:srgbClr val="0b5395"/>
                  </a:solidFill>
                  <a:latin typeface="Times New Roman"/>
                  <a:ea typeface="Titr Mazar"/>
                </a:rPr>
                <a:t>×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مي‏بايستي انجام شو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انجام شده‏اس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Line 77"/>
          <p:cNvSpPr/>
          <p:nvPr/>
        </p:nvSpPr>
        <p:spPr>
          <a:xfrm flipH="1">
            <a:off x="6172200" y="64771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3B38-72EB-4134-8109-94E6DEE2977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4"/>
          <p:cNvSpPr/>
          <p:nvPr/>
        </p:nvSpPr>
        <p:spPr>
          <a:xfrm>
            <a:off x="1908000" y="1773360"/>
            <a:ext cx="624852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10080">
            <a:solidFill>
              <a:srgbClr val="0bd0d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b5395"/>
                </a:solidFill>
                <a:uFillTx/>
                <a:latin typeface="Times New Roman"/>
                <a:cs typeface="Times New Roman"/>
              </a:rPr>
              <a:t>ارزشيابي و كنتر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شيابي و كنترل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8A9C-759E-47EB-B01E-49AFF083ABF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928800" y="1928880"/>
            <a:ext cx="78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a50021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80808"/>
                </a:solidFill>
                <a:latin typeface="Times New Roman"/>
                <a:cs typeface="Times New Roman"/>
              </a:rPr>
              <a:t>انطباق نتايج با اهداف برنامه و اقدامات اصلاحي درصورت لزوم در اجزا برنامه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از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Vision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تا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ction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از نظ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ساختار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ructure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سيستم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ystem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رفتار </a:t>
            </a: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ehavior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 بدون تعيين استراتژي نبايد در ساختار، سيستم و رفتار تغيير ايجاد نمود</a:t>
            </a:r>
            <a:r>
              <a:rPr b="1" lang="fa-IR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6939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7E11-178D-4A35-A7A0-595275E3533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761760" y="1828800"/>
            <a:ext cx="792468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ارزشيابي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valuation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سنجش ميزان تحقق اهداف (اختصاصي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پايش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nitoring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نطباق فعّاليّت‏ها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ي در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ح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ل اجرا با استانداردهاي برنام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E191-3C67-412C-990B-DCCA33F50BC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1447920" y="3809880"/>
            <a:ext cx="914400" cy="533520"/>
          </a:xfrm>
          <a:prstGeom prst="rect">
            <a:avLst/>
          </a:prstGeom>
          <a:gradFill rotWithShape="0">
            <a:gsLst>
              <a:gs pos="0">
                <a:srgbClr val="cccecf"/>
              </a:gs>
              <a:gs pos="100000">
                <a:srgbClr val="f9fbfd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"/>
          <p:cNvSpPr/>
          <p:nvPr/>
        </p:nvSpPr>
        <p:spPr>
          <a:xfrm>
            <a:off x="23623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26668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b5b9be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0384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cad0d5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51055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5410080" y="3809880"/>
            <a:ext cx="1371600" cy="533520"/>
          </a:xfrm>
          <a:prstGeom prst="rect">
            <a:avLst/>
          </a:prstGeom>
          <a:gradFill rotWithShape="0">
            <a:gsLst>
              <a:gs pos="0">
                <a:srgbClr val="cfd9e2"/>
              </a:gs>
              <a:gs pos="100000">
                <a:srgbClr val="e4eef8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"/>
          <p:cNvSpPr/>
          <p:nvPr/>
        </p:nvSpPr>
        <p:spPr>
          <a:xfrm>
            <a:off x="6781680" y="411480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7086600" y="3809880"/>
            <a:ext cx="1066680" cy="533520"/>
          </a:xfrm>
          <a:prstGeom prst="rect">
            <a:avLst/>
          </a:prstGeom>
          <a:gradFill rotWithShape="0">
            <a:gsLst>
              <a:gs pos="0">
                <a:srgbClr val="c6cdd4"/>
              </a:gs>
              <a:gs pos="100000">
                <a:srgbClr val="eaf2fa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1214280" y="28584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راساس مدل زنجيره‏ا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AutoShape 12"/>
          <p:cNvGrpSpPr/>
          <p:nvPr/>
        </p:nvGrpSpPr>
        <p:grpSpPr>
          <a:xfrm>
            <a:off x="1395360" y="2792520"/>
            <a:ext cx="3762360" cy="938160"/>
            <a:chOff x="1395360" y="2792520"/>
            <a:chExt cx="3762360" cy="938160"/>
          </a:xfrm>
        </p:grpSpPr>
        <p:pic>
          <p:nvPicPr>
            <p:cNvPr id="734" name="AutoShape 12" descr=""/>
            <p:cNvPicPr/>
            <p:nvPr/>
          </p:nvPicPr>
          <p:blipFill>
            <a:blip r:embed="rId1"/>
            <a:stretch/>
          </p:blipFill>
          <p:spPr>
            <a:xfrm>
              <a:off x="1395360" y="2792520"/>
              <a:ext cx="37623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1752480" y="3308400"/>
              <a:ext cx="1828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03000"/>
                  </a:solidFill>
                  <a:latin typeface="Times New Roman"/>
                  <a:cs typeface="Traffic"/>
                </a:rPr>
                <a:t>پاي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AutoShape 13"/>
          <p:cNvGrpSpPr/>
          <p:nvPr/>
        </p:nvGrpSpPr>
        <p:grpSpPr>
          <a:xfrm>
            <a:off x="3986280" y="2792520"/>
            <a:ext cx="4219560" cy="938160"/>
            <a:chOff x="3986280" y="2792520"/>
            <a:chExt cx="4219560" cy="938160"/>
          </a:xfrm>
        </p:grpSpPr>
        <p:pic>
          <p:nvPicPr>
            <p:cNvPr id="737" name="AutoShape 13" descr=""/>
            <p:cNvPicPr/>
            <p:nvPr/>
          </p:nvPicPr>
          <p:blipFill>
            <a:blip r:embed="rId2"/>
            <a:stretch/>
          </p:blipFill>
          <p:spPr>
            <a:xfrm>
              <a:off x="3986280" y="2792520"/>
              <a:ext cx="42195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753160" y="3308400"/>
              <a:ext cx="2057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raffic"/>
                </a:rPr>
                <a:t>ارزشياب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‏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DF82-EBEA-4F04-A78B-E6B2ECE8540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468360" y="1981080"/>
          <a:ext cx="8447040" cy="4267440"/>
        </p:xfrm>
        <a:graphic>
          <a:graphicData uri="http://schemas.openxmlformats.org/drawingml/2006/table">
            <a:tbl>
              <a:tblPr/>
              <a:tblGrid>
                <a:gridCol w="2111400"/>
                <a:gridCol w="2112840"/>
                <a:gridCol w="1879560"/>
                <a:gridCol w="2343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تناو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عم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زما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وسع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يك‏بار مص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ingle U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ك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جهت‏ د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Directional)</a:t>
                      </a: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لند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ng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استراتژي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trateg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جا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tandi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تفصي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خا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pecif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وتاه 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hort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عمليّ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Operation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واع برنامه براساس سطوح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E651-79D5-4267-938C-8EF67D93CF1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99680" y="1642680"/>
            <a:ext cx="83250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استراتژيك</a:t>
            </a:r>
            <a:r>
              <a:rPr b="1" lang="ar-SA" sz="2600" spc="-1" strike="noStrike" u="sng">
                <a:solidFill>
                  <a:srgbClr val="003300"/>
                </a:solidFill>
                <a:uFillTx/>
                <a:latin typeface="Tw Cen MT"/>
                <a:ea typeface="Jadid"/>
              </a:rPr>
              <a:t> </a:t>
            </a:r>
            <a:r>
              <a:rPr b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Strategic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تعيين اهداف بلندمدّت و حياتي سازمان و طريقه نيل به آن، با توجه به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عوامل محيطي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و با درنظر گرفتن آينده سازمان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تاكتيكي 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actic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اتخاذ تصميم‏هاي كوتاه مدّت براي حداكثر بهره‏وري از منابع موجود باتوجه به تحوّلات محيط. دراين نوع برنامه‏ريزي </a:t>
            </a:r>
            <a:r>
              <a:rPr b="1" i="1" lang="ar-SA" sz="22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وسايل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ans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لازم براي تحقق اهداف استراتژيك مشخص مي‏شود و اين كار سبب هماهنگي واحدهاي سازماني مي‏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در اين حالت تلاش جهت حصول به</a:t>
            </a:r>
            <a:r>
              <a:rPr b="1" i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ين نتايج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است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اثربخشي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عملياتي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peration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عمليات (فعّاليّت‏هاي) لازم جهت نيل‏به اهداف استراتژيك، ازطريق وسايل (تاكتيك‏هاي) تعيين‏شده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در اين حالت تلاش جهت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 انجام دادن كارها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ي‏باشد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كارآيي</a:t>
            </a:r>
            <a:r>
              <a:rPr b="1" i="1" lang="ar-SA" sz="2200" spc="-1" strike="noStrike">
                <a:solidFill>
                  <a:srgbClr val="9e0606"/>
                </a:solidFill>
                <a:latin typeface="Tw Cen MT"/>
                <a:ea typeface="Traffi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 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31FA-88EA-41FD-BA22-CD5B7884C51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9640" y="1928520"/>
            <a:ext cx="810432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w Cen MT"/>
                <a:ea typeface="Arial"/>
              </a:rPr>
              <a:t>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جام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رنامه ريزي خطوط راهنماي كلي و جهت گيري كلي سازمان را مشخص مي سازد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برنامه ريزي عمليات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ملياتي به فعل درآوردن تصميمات و چهارچوب هاي تعيين شده توسط برنامه ريزي جامع است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ر برنامه جامع جهت تحقق نيازمند برنامه عملياتي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كيب برنامه ريزي جامع و عملياتي را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تلفيق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ي گويند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6:24:56Z</dcterms:created>
  <dc:creator>DELAVAR</dc:creator>
  <dc:description/>
  <dc:language>en-US</dc:language>
  <cp:lastModifiedBy>banijamali</cp:lastModifiedBy>
  <dcterms:modified xsi:type="dcterms:W3CDTF">2021-05-16T07:45:13Z</dcterms:modified>
  <cp:revision>106</cp:revision>
  <dc:subject/>
  <dc:title>Slide 1</dc:title>
</cp:coreProperties>
</file>