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D50-26FE-461D-9EAE-026D670D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EAB-626E-4536-BBA4-D04A2534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CB5-85E1-43C3-9F0A-4595EB8E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95B-5C4C-4697-907D-3B156379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88B5-57D3-4978-84BC-A4B83C6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DFD7-BDC3-4924-B552-B1433590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5F66-B01D-4563-A6B4-20CE0402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3229-A750-475C-9A24-D73004DB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C49A-2097-4ED0-89A2-E28697AE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DD7B-94B7-4FC7-AAF3-6C43AD0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DF3D-BE5D-4D41-8640-E9C3DE2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04E-710F-4D0A-A9BC-9633E97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7665-E744-4F80-B91F-51F8A709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55CD-B19A-4CEE-8AB8-6A32EE7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97FB-B682-4613-B45D-1CA8943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EFE3-FA43-4D58-A388-ED1CF989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0F92-5BBA-4DFB-B0CE-C0B2DB7A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506-C318-4C81-8E5D-06C6F7E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0B1-48DD-4EAD-B594-5F8B052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A6F-8F8A-4A2D-AAE0-119EF6E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7CB-DD7F-40D9-BCA7-8C3AB929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6F4-F7AD-446A-9BA3-E9D6191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334-1155-4092-AFF4-A9D757D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267-B8D2-49A7-A096-DEE2044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8363-E03D-46DF-9052-657308E6338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E144-53D5-4CBC-8C98-40276C2FA1E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bbd71"/>
                </a:solidFill>
                <a:latin typeface="Arial"/>
              </a:rPr>
              <a:t>انواع مرگ و صدور گواهي فوت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- مرگ بيماران پذيرش شده در بيمارستانها و مراكز درماني پيش از تشخيص بيمار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ث- هر نوع مرگي كه سوال مقام قضائي راجع به نحوه فوت مطرح باشد.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dbbd71"/>
                </a:solidFill>
                <a:latin typeface="Arial"/>
                <a:cs typeface="Titr"/>
              </a:rPr>
              <a:t>علت فوت  </a:t>
            </a:r>
            <a:r>
              <a:rPr b="1" i="1" lang="en-US" sz="4800" spc="-1" strike="noStrike">
                <a:solidFill>
                  <a:srgbClr val="dbbd71"/>
                </a:solidFill>
                <a:latin typeface="Arial"/>
                <a:ea typeface="Titr"/>
              </a:rPr>
              <a:t>Cause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املي ست كه بعداز وقوع  با ايجاد زنجيره اي رويدادها و تغييرات فيزيولوژيك منجر به فوت مي شود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لت فوت در ابتداي اين زنجيره است ، با برداشتن آن بقيه موارد رخ نمي دهد.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ause of Death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علت مرگ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عريف: علت مرگ يك بيماري و يا آسيب اتيولوژيك اختصاصي است كه با ايجاد اختلال فيزيولوژيك منجر به مرگ مي شو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اصلي يا مستقيم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زمينه اي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زمينه اي شروع كننده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a          b           c           d </a:t>
            </a:r>
            <a:r>
              <a:rPr b="1" lang="fa-IR" sz="2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مستقيم يا اصلي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راي مثال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1-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Pulmonary Embolism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ای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athological Fractur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Secondary Carcinoma of femur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 Carcinoma of brea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Haemorrhagic shock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eritoneal haemorrhag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Rupture of liver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Road traffic accident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635280" y="9079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4356000" y="9079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364000" y="9079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ابلوي فوت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ode  of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52360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وضعيت فيزيوپاتولوژيكي است كه به هنگام فوت وجود داشته است و بيمار با آن فوت نموده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علل فوت متعدد است ولي      فيزيوپاتوژيكي زمان محدود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نارسائي قلبي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ARD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cs typeface="Zar"/>
              </a:rPr>
              <a:t>،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DIC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، هيپوو</a:t>
            </a:r>
            <a:r>
              <a:rPr b="1" i="1" lang="fa-IR" sz="2800" spc="-1" strike="noStrike">
                <a:solidFill>
                  <a:srgbClr val="ffffff"/>
                </a:solidFill>
                <a:latin typeface="Tahoma"/>
                <a:cs typeface="Zar"/>
              </a:rPr>
              <a:t>ل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مي، آريتمي، نارسائي تنفسي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نحوه فوت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anner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نحوه فوت در اصل شرائطي است كه علت فوت در آن شرائط ايجاد مي گردد ومتعاقب آن با تابلوي فوت منجر به وقوع مرگ مي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طبيعي</a:t>
            </a:r>
            <a:r>
              <a:rPr b="1" i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Natur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ادثه ا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Accident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خود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Suicid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icidal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يگر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determin   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غیر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قابل تعيين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classified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بقه بندي نشده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1a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240" y="2421000"/>
            <a:ext cx="8915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تائيد فوت فرد، عدم لزوم ادامه اقدامات درماني و احياء ، مجوز انتقال به سردخانه</a:t>
            </a:r>
            <a:r>
              <a:rPr b="0" i="1" lang="en-US" sz="5400" spc="-1" strike="noStrike">
                <a:solidFill>
                  <a:srgbClr val="ffffcc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مجوزي براي دفن جنازه نيست و در آن علت فوت قيد نشده است.</a:t>
            </a:r>
            <a:r>
              <a:rPr b="0" i="1" lang="ar-SA" sz="5400" spc="-1" strike="noStrike">
                <a:solidFill>
                  <a:srgbClr val="ffffff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268360" y="62064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tr"/>
              </a:rPr>
              <a:t>گواهي فوت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tr"/>
              <a:ea typeface="Titr"/>
            </a:endParaRPr>
          </a:p>
        </p:txBody>
      </p:sp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پروانه(جواز) دفن</a:t>
            </a:r>
            <a:r>
              <a:rPr b="0" lang="ar-SA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ffffff"/>
                </a:solidFill>
                <a:latin typeface="Yekta"/>
                <a:cs typeface="Zar"/>
              </a:rPr>
              <a:t>علت فوت تعيين شده و يا بررسي شده است و دفن جسد از نظر پزشكي بلامانع است.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مسئوليت صدور گواهي فوت و جواز دفن با كيست؟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تقسيم بندي انواع مرگ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ural death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iolent death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00000" y="311112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روما چنين تعريف مي شود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تاثير ناگهاني و كم و بيش شديد و يا مستمر يك عامل خارجي بر بدن با آثار مستقيم يا غير مستقيم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.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1960" y="340920"/>
            <a:ext cx="78105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اعلام كتبي فوت با پزشك است   ول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ين اورژانس و پيراپزشكان در صورت وضوح وقوع مرگ بصورتي كه شك و ترديد نباشد ، ميتواند بصورت شفاهي در صورت عدم حضور پزشك فوت را گواهي ك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cc66"/>
                </a:solidFill>
                <a:latin typeface="Tahoma"/>
                <a:cs typeface="Zar"/>
              </a:rPr>
              <a:t>ولي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 صدور دفن پزشكان هستند. بايد تابلو فوت وعلت فوت مشخص باشد كه در حيطه كادر پزشكي است و دندانپزشكان ، داروسازان و… مجاز به صدور جواز دفن نمي باش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س پزشك در زمان صدور جواز دفن بايد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بطور قطعي از وقوع فوت مطمئن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ابلوي فوت، علت فوت و در موارد قانوني نحوه فوت را مشخص نماي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در موقع معاينه بدقت به معاينه جسد بپردازد ، تا آثار ضرب و جرح و يا بافت غيرطبيعي در در بدن فرد او را از نظر نما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عيين دقيق علت فوت تا زمينه بررسي هاي اپيدميولوژيك و آماري فراهم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3840" cy="952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21a64"/>
                </a:solidFill>
                <a:latin typeface="Arial"/>
                <a:cs typeface="Titr"/>
              </a:rPr>
              <a:t>تشخيص مر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ابتدا از فقدان علائم حياتي مطمئن مي شوي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رفلكس ها را چك مي كنيم : مردمك ، قرنيه ، ته حلق ، چها سر ران و…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بي حركتي و پائين بودن دماي پوست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صورت امكان ديدن ته چشم و قطع جريان خو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 صورت امكان استفاده از وسائل مثل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Zar"/>
              </a:rPr>
              <a:t>EEG ,ECG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معاينه حداقل بايستي بيست دقيقه طول بكشد. (معاينه قلب و بررسي نبض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گواهي فوت استاندارد بايستي داراي چه اجزايي باشد؟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يت فرد فوت ش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ف- افراد داراي شناسنام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-جني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نوزا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كودكان فاقد شناس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مه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و محل معا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آدر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6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شخصات پزشك صادر كننده گواه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dbbd71"/>
                </a:solidFill>
                <a:latin typeface="Arial"/>
              </a:rPr>
              <a:t>نکته بسیار مهم ازنظر مراجع قضایی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</a:rPr>
              <a:t>آیا جنایتی رخ داده است یا خیر ؟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قسيم بندي انواع</a:t>
            </a:r>
            <a:r>
              <a:rPr b="0" lang="ar-SA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روما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فيزيك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مکان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لکتر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حرارت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رادیاسیو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بارو تروما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شيمياي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ی روان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NOn Suspicious death </a:t>
            </a:r>
            <a:br>
              <a:rPr sz="3200"/>
            </a:br>
            <a:br>
              <a:rPr sz="2800"/>
            </a:b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. 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چنانچه پزشك دقيقا" علت فوت ر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ا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 بداند و اطمينان داشته باشد كه مرگ منحصرا" ناشي از يك بيماري بوده و هيچ عامل ديگري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  در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فوت بيمار مؤثر نمي باشد واحتمال وقوع شكايتي در آينده نم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یرود</a:t>
            </a:r>
            <a:r>
              <a:rPr b="1" lang="ar-SA" sz="24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0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281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spicious d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گر پزشك در مورد علت فوت و دخالت عوامل ديگري غير از بيماري كوچكترين ابهامي داشته و يا اينكه تشخيص بدهد كه تروما يا آسيبي علت فوت بوده و يا در فوت نقش داشته است و يا احتمال وقوع شكايتي را در آينده بدهد </a:t>
            </a: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ينصورت مرگ مشكوك بوده و جسد بايد به پزشكي قانوني ارجاع شو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bbd71"/>
                </a:solidFill>
                <a:latin typeface="Arial"/>
                <a:cs typeface="Titr"/>
              </a:rPr>
              <a:t>چه مرگهايي بايد به پزشكي قانوني ارجاع شود؟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b1da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21a64"/>
                </a:solidFill>
                <a:latin typeface="Arial"/>
                <a:cs typeface="Titr"/>
              </a:rPr>
              <a:t>الف- مرگهاي غيرطبيعي </a:t>
            </a:r>
            <a:r>
              <a:rPr b="0" lang="en-US" sz="3600" spc="-1" strike="noStrike">
                <a:solidFill>
                  <a:srgbClr val="d21a64"/>
                </a:solidFill>
                <a:latin typeface="Arial"/>
                <a:ea typeface="Titr"/>
              </a:rPr>
              <a:t>Un natural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متعاقب تصادف و حادثه (حتي اگر بيمار چند ماه بعد از تصادف فوت كند.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خودك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سوختگي ها و خود سوز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قت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مسموميت داروئي و شيميايي از جمله سوء مصرف مو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6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برق گرفتگي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2328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7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غرق شدگي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8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شي از صدمات سلاحهاي سردوگرم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9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گهاني ، غيرمنتظره و غيرقابل توجيه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0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نزاع و مشاجره (حتي لفظي)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1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كودك آزاري يا شك به آن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2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حين كار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3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سقط جنين</a:t>
            </a:r>
            <a:r>
              <a:rPr b="1" i="1" lang="ar-SA" sz="4000" spc="-1" strike="noStrike">
                <a:solidFill>
                  <a:srgbClr val="dbbd71"/>
                </a:solidFill>
                <a:latin typeface="Arial"/>
                <a:ea typeface="Zar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ب- مرگهاي به ظاهر طبيعي در شرايط غيرطبيعي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 مرگ در بازداشتگاهها و زندانها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مرگ در خانه سالمندان و مراكز بهزيست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راكز نظامي، مجتمع هاي خوابگاه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ناطق دور افتاده و غيرمعمو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- مرگ ناشي از اقدامات درماني و قصور پزشك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عمل جراح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يا بعد از بيهو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قدامات درماني خا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شتباهات پزشك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حين درمان كه بيم طرح شكايت مي ر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0:59:39Z</dcterms:created>
  <dc:creator>ID SYSTEM</dc:creator>
  <dc:description/>
  <dc:language>en-US</dc:language>
  <cp:lastModifiedBy>khoshpey</cp:lastModifiedBy>
  <dcterms:modified xsi:type="dcterms:W3CDTF">2020-07-21T08:25:41Z</dcterms:modified>
  <cp:revision>55</cp:revision>
  <dc:subject/>
  <dc:title>انواع مرگها و صدور گواهي فوت</dc:title>
</cp:coreProperties>
</file>