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3B0-31DE-4255-A566-2C12D53F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ABA3-5D77-4323-8FC4-D63572FB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0C9A-21BF-4C6E-B815-D75C0E2C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F5A9-F62A-4EF3-AD2F-0823697A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6005-5250-4F45-A8DF-D77711C6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483F-26E7-4DB0-A5A7-DC97C4B8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EDDB-55F2-4114-B72C-FB03A035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E5F5-9E90-41EE-AB2B-46B52088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DFE2-68ED-435B-9483-C838AF07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A667-DABB-42F9-8DF1-5D3E8CA4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52A0-FBC9-4358-B170-EBADB2B0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FBC-57D6-4404-AB65-24062497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88F6-8009-4325-BE0B-F793D175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DAD5-288D-4629-BE2C-110442D6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4C68-3BF1-4DC9-AE72-EE62D542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3196-3445-4682-BD28-E2D47902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58A1-F3E4-4191-9C88-9DE721BC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868-16B2-4905-ADC7-DB4059CA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FBD3-BE0E-4FC1-9600-FD65A60C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592-1B58-4931-A1D5-920EA93B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853-2360-48C0-AC45-DE1FC72A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9C78-B156-4F45-AB30-BDBD784C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2BA-F981-46B5-B3A3-E52B558E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563-7B3B-4C4B-A240-1CA950F3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ABCE-1529-4BC9-B3F5-C492676BE71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799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8894-12A5-4DFA-AC55-F194D254565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dbbd71"/>
                </a:solidFill>
                <a:latin typeface="Arial"/>
              </a:rPr>
              <a:t>انواع مرگ و صدور گواهي فوت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815328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ت- مرگ بيماران پذيرش شده در بيمارستانها و مراكز درماني پيش از تشخيص بيماري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ث- هر نوع مرگي كه سوال مقام قضائي راجع به نحوه فوت مطرح باشد.</a:t>
            </a:r>
            <a:r>
              <a:rPr b="0" lang="ar-S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dbbd71"/>
                </a:solidFill>
                <a:latin typeface="Arial"/>
                <a:cs typeface="Titr"/>
              </a:rPr>
              <a:t>علت فوت  </a:t>
            </a:r>
            <a:r>
              <a:rPr b="1" i="1" lang="en-US" sz="4800" spc="-1" strike="noStrike">
                <a:solidFill>
                  <a:srgbClr val="dbbd71"/>
                </a:solidFill>
                <a:latin typeface="Arial"/>
                <a:ea typeface="Titr"/>
              </a:rPr>
              <a:t>Cause of  death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ar-SA" sz="4000" spc="-1" strike="noStrike">
                <a:solidFill>
                  <a:srgbClr val="ffffff"/>
                </a:solidFill>
                <a:latin typeface="Tahoma"/>
                <a:cs typeface="Nazanin"/>
              </a:rPr>
              <a:t>عاملي ست كه بعداز وقوع  با ايجاد زنجيره اي رويدادها و تغييرات فيزيولوژيك منجر به فوت مي شود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ffffff"/>
                </a:solidFill>
                <a:latin typeface="Tahoma"/>
                <a:cs typeface="Nazanin"/>
              </a:rPr>
              <a:t>علت فوت در ابتداي اين زنجيره است ، با برداشتن آن بقيه موارد رخ نمي دهد.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fa-IR" sz="4400" spc="-1" strike="noStrike">
                <a:solidFill>
                  <a:srgbClr val="dbbd71"/>
                </a:solidFill>
                <a:latin typeface="Arial"/>
              </a:rPr>
              <a:t>)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Cause of Death</a:t>
            </a:r>
            <a:r>
              <a:rPr b="1" lang="fa-IR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dbbd71"/>
                </a:solidFill>
                <a:latin typeface="Arial"/>
              </a:rPr>
              <a:t>علت مرگ</a:t>
            </a:r>
            <a:r>
              <a:rPr b="1" lang="fa-IR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fa-IR" sz="4400" spc="-1" strike="noStrike">
                <a:solidFill>
                  <a:srgbClr val="dbbd71"/>
                </a:solidFill>
                <a:latin typeface="Arial"/>
              </a:rPr>
              <a:t>(</a:t>
            </a:r>
            <a:r>
              <a:rPr b="1" lang="ar-S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عريف: علت مرگ يك بيماري و يا آسيب اتيولوژيك اختصاصي است كه با ايجاد اختلال فيزيولوژيك منجر به مرگ مي شود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علت اصلي يا مستقيم مرگ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علت زمينه اي مرگ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(</a:t>
            </a: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علت زمينه اي شروع كننده</a:t>
            </a: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dbbd71"/>
                </a:solidFill>
                <a:latin typeface="Arial"/>
              </a:rPr>
              <a:t>a          b           c           d </a:t>
            </a:r>
            <a:r>
              <a:rPr b="1" lang="fa-IR" sz="2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( </a:t>
            </a: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علت مستقيم يا اصلي</a:t>
            </a:r>
            <a:r>
              <a:rPr b="1" lang="ar-SA" sz="2000" spc="-1" strike="noStrike">
                <a:solidFill>
                  <a:srgbClr val="dbbd7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براي مثال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1-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مستقيم يا اصلي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)Pulmonary Embolism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ای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)Pathological Fracture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)Secondary Carcinoma of femur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 اي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 اي شروع كننده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) Carcinoma of breas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مستقيم يا اصلي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)Haemorrhagic shock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 اي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)Peritoneal haemorrhage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 اي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)Rupture of liver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لت زمينه اي شروع كننده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)Road traffic accident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3635280" y="90792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4356000" y="9079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5364000" y="9079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تابلوي فوت 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  <a:ea typeface="Titr"/>
              </a:rPr>
              <a:t>Mode  of  death</a:t>
            </a:r>
            <a:r>
              <a:rPr b="0" lang="fa-IR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523600"/>
            <a:ext cx="822960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ffff"/>
                </a:solidFill>
                <a:latin typeface="Tahoma"/>
                <a:cs typeface="Zar"/>
              </a:rPr>
              <a:t>وضعيت فيزيوپاتولوژيكي است كه به هنگام فوت وجود داشته است و بيمار با آن فوت نموده است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ffff"/>
                </a:solidFill>
                <a:latin typeface="Tahoma"/>
                <a:cs typeface="Zar"/>
              </a:rPr>
              <a:t>علل فوت متعدد است ولي      فيزيوپاتوژيكي زمان محدود است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ffff"/>
                </a:solidFill>
                <a:latin typeface="Tahoma"/>
                <a:cs typeface="Zar"/>
              </a:rPr>
              <a:t>نارسائي قلبي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Zar"/>
              </a:rPr>
              <a:t>ARDS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cs typeface="Zar"/>
              </a:rPr>
              <a:t>،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  <a:ea typeface="Zar"/>
              </a:rPr>
              <a:t>DIC</a:t>
            </a:r>
            <a:r>
              <a:rPr b="1" i="1" lang="ar-SA" sz="2800" spc="-1" strike="noStrike">
                <a:solidFill>
                  <a:srgbClr val="ffffff"/>
                </a:solidFill>
                <a:latin typeface="Tahoma"/>
                <a:cs typeface="Zar"/>
              </a:rPr>
              <a:t>، هيپوو</a:t>
            </a:r>
            <a:r>
              <a:rPr b="1" i="1" lang="fa-IR" sz="2800" spc="-1" strike="noStrike">
                <a:solidFill>
                  <a:srgbClr val="ffffff"/>
                </a:solidFill>
                <a:latin typeface="Tahoma"/>
                <a:cs typeface="Zar"/>
              </a:rPr>
              <a:t>ل</a:t>
            </a:r>
            <a:r>
              <a:rPr b="1" i="1" lang="ar-SA" sz="2800" spc="-1" strike="noStrike">
                <a:solidFill>
                  <a:srgbClr val="ffffff"/>
                </a:solidFill>
                <a:latin typeface="Tahoma"/>
                <a:cs typeface="Zar"/>
              </a:rPr>
              <a:t>مي، آريتمي، نارسائي تنفسي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نحوه فوت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  <a:ea typeface="Titr"/>
              </a:rPr>
              <a:t>Manner of  death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8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نحوه فوت در اصل شرائطي است كه علت فوت در آن شرائط ايجاد مي گردد ومتعاقب آن با تابلوي فوت منجر به وقوع مرگ مي شو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</a:rPr>
              <a:t>طبيعي</a:t>
            </a:r>
            <a:r>
              <a:rPr b="1" i="1" lang="fa-IR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arn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arn-CL" sz="3200" spc="-1" strike="noStrike">
                <a:solidFill>
                  <a:srgbClr val="ffffff"/>
                </a:solidFill>
                <a:latin typeface="Tahoma"/>
              </a:rPr>
              <a:t>Natural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حادثه اي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n-CL" sz="3200" spc="-1" strike="noStrike">
                <a:solidFill>
                  <a:srgbClr val="ffffff"/>
                </a:solidFill>
                <a:latin typeface="Tahoma"/>
              </a:rPr>
              <a:t>Accidental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خودكشي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n-CL" sz="3200" spc="-1" strike="noStrike">
                <a:solidFill>
                  <a:srgbClr val="ffffff"/>
                </a:solidFill>
                <a:latin typeface="Tahoma"/>
              </a:rPr>
              <a:t>Suicidal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micidal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د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يگركشي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determin   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غیر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قابل تعيين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classified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طبقه بندي نشده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1a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28240" y="2421000"/>
            <a:ext cx="8915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5400" spc="-1" strike="noStrike">
                <a:solidFill>
                  <a:srgbClr val="ffffcc"/>
                </a:solidFill>
                <a:latin typeface="Tahoma"/>
                <a:cs typeface="Nazanin"/>
              </a:rPr>
              <a:t>تائيد فوت فرد، عدم لزوم ادامه اقدامات درماني و احياء ، مجوز انتقال به سردخانه</a:t>
            </a:r>
            <a:r>
              <a:rPr b="0" i="1" lang="en-US" sz="5400" spc="-1" strike="noStrike">
                <a:solidFill>
                  <a:srgbClr val="ffffcc"/>
                </a:solidFill>
                <a:latin typeface="Tahoma"/>
                <a:ea typeface="Nazani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5400" spc="-1" strike="noStrike">
                <a:solidFill>
                  <a:srgbClr val="ffffcc"/>
                </a:solidFill>
                <a:latin typeface="Tahoma"/>
                <a:cs typeface="Nazanin"/>
              </a:rPr>
              <a:t>مجوزي براي دفن جنازه نيست و در آن علت فوت قيد نشده است.</a:t>
            </a:r>
            <a:r>
              <a:rPr b="0" i="1" lang="ar-SA" sz="5400" spc="-1" strike="noStrike">
                <a:solidFill>
                  <a:srgbClr val="ffffff"/>
                </a:solidFill>
                <a:latin typeface="Tahoma"/>
                <a:ea typeface="Nazani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2268360" y="620640"/>
            <a:ext cx="3962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tr"/>
              </a:rPr>
              <a:t>گواهي فوت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tr"/>
              <a:ea typeface="Titr"/>
            </a:endParaRPr>
          </a:p>
        </p:txBody>
      </p:sp>
    </p:spTree>
  </p:cSld>
  <p:transition>
    <p:wedg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dbbd71"/>
                </a:solidFill>
                <a:latin typeface="Arial"/>
                <a:cs typeface="Titr"/>
              </a:rPr>
              <a:t>پروانه(جواز) دفن</a:t>
            </a:r>
            <a:r>
              <a:rPr b="0" lang="ar-SA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80880" y="259092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ffffff"/>
                </a:solidFill>
                <a:latin typeface="Yekta"/>
                <a:cs typeface="Zar"/>
              </a:rPr>
              <a:t>علت فوت تعيين شده و يا بررسي شده است و دفن جسد از نظر پزشكي بلامانع است.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dbbd71"/>
                </a:solidFill>
                <a:latin typeface="Arial"/>
                <a:cs typeface="Titr"/>
              </a:rPr>
              <a:t>مسئوليت صدور گواهي فوت و جواز دفن با كيست؟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768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768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3" dur="76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5" dur="76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bbd71"/>
                </a:solidFill>
                <a:latin typeface="Arial"/>
              </a:rPr>
              <a:t>تقسيم بندي انواع مرگ</a:t>
            </a:r>
            <a:r>
              <a:rPr b="0" lang="ar-S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tural death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iolent death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00000" y="311112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تروما چنين تعريف مي شود </a:t>
            </a:r>
            <a:r>
              <a:rPr b="1" lang="fa-IR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تاثير ناگهاني و كم و بيش شديد و يا مستمر يك عامل خارجي بر بدن با آثار مستقيم يا غير مستقيم</a:t>
            </a: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a-IR" sz="2400" spc="-1" strike="noStrike">
                <a:solidFill>
                  <a:srgbClr val="ffffff"/>
                </a:solidFill>
                <a:latin typeface="Arial"/>
              </a:rPr>
              <a:t>.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1960" y="340920"/>
            <a:ext cx="781056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اعلام كتبي فوت با پزشك است   ولي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5257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مسئولين اورژانس و پيراپزشكان در صورت وضوح وقوع مرگ بصورتي كه شك و ترديد نباشد ، ميتواند بصورت شفاهي در صورت عدم حضور پزشك فوت را گواهي كن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cc66"/>
                </a:solidFill>
                <a:latin typeface="Tahoma"/>
                <a:cs typeface="Zar"/>
              </a:rPr>
              <a:t>ولي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مسئول صدور دفن پزشكان هستند. بايد تابلو فوت وعلت فوت مشخص باشد كه در حيطه كادر پزشكي است و دندانپزشكان ، داروسازان و… مجاز به صدور جواز دفن نمي باشن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پس پزشك در زمان صدور جواز دفن بايد :</a:t>
            </a:r>
            <a:r>
              <a:rPr b="0" lang="ar-SA" sz="4400" spc="-1" strike="noStrike">
                <a:solidFill>
                  <a:srgbClr val="dbbd71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بطور قطعي از وقوع فوت مطمئن شو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تابلوي فوت، علت فوت و در موارد قانوني نحوه فوت را مشخص نماي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در موقع معاينه بدقت به معاينه جسد بپردازد ، تا آثار ضرب و جرح و يا بافت غيرطبيعي در در بدن فرد او را از نظر نمان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cs typeface="Zar"/>
              </a:rPr>
              <a:t>تعيين دقيق علت فوت تا زمينه بررسي هاي اپيدميولوژيك و آماري فراهم شو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3840" cy="9525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21a64"/>
                </a:solidFill>
                <a:latin typeface="Arial"/>
                <a:cs typeface="Titr"/>
              </a:rPr>
              <a:t>تشخيص مرگ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Zar"/>
              </a:rPr>
              <a:t>ابتدا از فقدان علائم حياتي مطمئن مي شويم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Zar"/>
              </a:rPr>
              <a:t>رفلكس ها را چك مي كنيم : مردمك ، قرنيه ، ته حلق ، چها سر ران و….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Zar"/>
              </a:rPr>
              <a:t>بي حركتي و پائين بودن دماي پوست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Zar"/>
              </a:rPr>
              <a:t>درصورت امكان ديدن ته چشم و قطع جريان خون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Zar"/>
              </a:rPr>
              <a:t>در صورت امكان استفاده از وسائل مثل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Zar"/>
              </a:rPr>
              <a:t>EEG ,ECG</a:t>
            </a: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Zar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Zar"/>
              </a:rPr>
              <a:t> معاينه حداقل بايستي بيست دقيقه طول بكشد. (معاينه قلب و بررسي نبض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bbd71"/>
                </a:solidFill>
                <a:latin typeface="Arial"/>
              </a:rPr>
              <a:t>گواهي فوت استاندارد بايستي داراي چه اجزايي باشد؟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1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هويت فرد فوت شد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ف- افراد داراي شناسنام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ب-جنين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،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نوزاد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،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كودكان فاقد شناسن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امه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2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علت فو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3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اريخ فو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4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اريخ و محل معاين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آدر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6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شخصات پزشك صادر كننده گواهي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dbbd71"/>
                </a:solidFill>
                <a:latin typeface="Arial"/>
              </a:rPr>
              <a:t>نکته بسیار مهم ازنظر مراجع قضایی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Tahoma"/>
              </a:rPr>
              <a:t>آیا جنایتی رخ داده است یا خیر ؟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bbd71"/>
                </a:solidFill>
                <a:latin typeface="Arial"/>
              </a:rPr>
              <a:t>تقسيم بندي انواع</a:t>
            </a:r>
            <a:r>
              <a:rPr b="0" lang="ar-SA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dbbd71"/>
                </a:solidFill>
                <a:latin typeface="Arial"/>
              </a:rPr>
              <a:t>تروما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روماي فيزيكي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مکانیکی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الکتریکی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حرارتی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رادیاسیون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بارو تروما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روماي شيميايي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رومای روان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06472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                               </a:t>
            </a: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NOn Suspicious death </a:t>
            </a:r>
            <a:br>
              <a:rPr sz="3200"/>
            </a:br>
            <a:br>
              <a:rPr sz="2800"/>
            </a:br>
            <a:r>
              <a:rPr b="1" lang="ar-SA" sz="2800" spc="-1" strike="noStrike">
                <a:solidFill>
                  <a:srgbClr val="dbbd71"/>
                </a:solidFill>
                <a:latin typeface="Arial"/>
              </a:rPr>
              <a:t>. </a:t>
            </a:r>
            <a:r>
              <a:rPr b="1" lang="ar-SA" sz="2800" spc="-1" strike="noStrike">
                <a:solidFill>
                  <a:srgbClr val="dbbd71"/>
                </a:solidFill>
                <a:latin typeface="Arial"/>
              </a:rPr>
              <a:t>چنانچه پزشك دقيقا" علت فوت ر</a:t>
            </a:r>
            <a:r>
              <a:rPr b="1" lang="fa-IR" sz="2800" spc="-1" strike="noStrike">
                <a:solidFill>
                  <a:srgbClr val="dbbd71"/>
                </a:solidFill>
                <a:latin typeface="Arial"/>
              </a:rPr>
              <a:t>ا</a:t>
            </a:r>
            <a:r>
              <a:rPr b="1" lang="ar-SA" sz="2800" spc="-1" strike="noStrike">
                <a:solidFill>
                  <a:srgbClr val="dbbd71"/>
                </a:solidFill>
                <a:latin typeface="Arial"/>
              </a:rPr>
              <a:t> بداند و اطمينان داشته باشد كه مرگ منحصرا" ناشي از يك بيماري بوده و هيچ عامل ديگري</a:t>
            </a:r>
            <a:r>
              <a:rPr b="1" lang="fa-IR" sz="2800" spc="-1" strike="noStrike">
                <a:solidFill>
                  <a:srgbClr val="dbbd71"/>
                </a:solidFill>
                <a:latin typeface="Arial"/>
              </a:rPr>
              <a:t>  در</a:t>
            </a:r>
            <a:r>
              <a:rPr b="1" lang="ar-SA" sz="2800" spc="-1" strike="noStrike">
                <a:solidFill>
                  <a:srgbClr val="dbbd71"/>
                </a:solidFill>
                <a:latin typeface="Arial"/>
              </a:rPr>
              <a:t>فوت بيمار مؤثر نمي باشد واحتمال وقوع شكايتي در آينده نم</a:t>
            </a:r>
            <a:r>
              <a:rPr b="1" lang="fa-IR" sz="2800" spc="-1" strike="noStrike">
                <a:solidFill>
                  <a:srgbClr val="dbbd71"/>
                </a:solidFill>
                <a:latin typeface="Arial"/>
              </a:rPr>
              <a:t>یرود</a:t>
            </a:r>
            <a:r>
              <a:rPr b="1" lang="ar-SA" sz="24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60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3213000"/>
            <a:ext cx="8281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spicious dea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گر پزشك در مورد علت فوت و دخالت عوامل ديگري غير از بيماري كوچكترين ابهامي داشته و يا اينكه تشخيص بدهد كه تروما يا آسيبي علت فوت بوده و يا در فوت نقش داشته است و يا احتمال وقوع شكايتي را در آينده بدهد </a:t>
            </a: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در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ينصورت مرگ مشكوك بوده و جسد بايد به پزشكي قانوني ارجاع شود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dbbd71"/>
                </a:solidFill>
                <a:latin typeface="Arial"/>
                <a:cs typeface="Titr"/>
              </a:rPr>
              <a:t>چه مرگهايي بايد به پزشكي قانوني ارجاع شود؟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db1dae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21a64"/>
                </a:solidFill>
                <a:latin typeface="Arial"/>
                <a:cs typeface="Titr"/>
              </a:rPr>
              <a:t>الف- مرگهاي غيرطبيعي </a:t>
            </a:r>
            <a:r>
              <a:rPr b="0" lang="en-US" sz="3600" spc="-1" strike="noStrike">
                <a:solidFill>
                  <a:srgbClr val="d21a64"/>
                </a:solidFill>
                <a:latin typeface="Arial"/>
                <a:ea typeface="Titr"/>
              </a:rPr>
              <a:t>Un natural  death</a:t>
            </a:r>
            <a:r>
              <a:rPr b="0" lang="fa-IR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متعاقب تصادف و حادثه (حتي اگر بيمار چند ماه بعد از تصادف فوت كند. 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2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خودكش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3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سوختگي ها و خود سوز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4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قت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5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بدنبال مسموميت داروئي و شيميايي از جمله سوء مصرف موا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6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برق گرفتگي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68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68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523280" cy="60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7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غرق شدگي 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8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مرگ ناشي از صدمات سلاحهاي سردوگرم 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9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مرگ ناگهاني ، غيرمنتظره و غيرقابل توجيه 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10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مرگ متعاقب نزاع و مشاجره (حتي لفظي)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11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كودك آزاري يا شك به آن 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12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مرگ حين كار 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13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  <a:ea typeface="Zar"/>
              </a:rPr>
              <a:t>- مرگ متعاقب سقط جنين</a:t>
            </a:r>
            <a:r>
              <a:rPr b="1" i="1" lang="ar-SA" sz="4000" spc="-1" strike="noStrike">
                <a:solidFill>
                  <a:srgbClr val="dbbd71"/>
                </a:solidFill>
                <a:latin typeface="Arial"/>
                <a:ea typeface="Zar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ب- مرگهاي به ظاهر طبيعي در شرايط غيرطبيعي :</a:t>
            </a:r>
            <a:r>
              <a:rPr b="0" lang="ar-SA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   مرگ در بازداشتگاهها و زندانها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2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  مرگ در خانه سالمندان و مراكز بهزيست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3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در مراكز نظامي، مجتمع هاي خوابگاه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4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در مناطق دور افتاده و غيرمعمو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bbd71"/>
                </a:solidFill>
                <a:latin typeface="Arial"/>
                <a:cs typeface="Titr"/>
              </a:rPr>
              <a:t>پ- مرگ ناشي از اقدامات درماني و قصور پزشكي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هاي حين عمل جراح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2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هاي حين يا بعد از بيهوش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3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بدنبال اقدامات درماني خا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4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بدنبال اشتباهات پزشك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5</a:t>
            </a:r>
            <a:r>
              <a:rPr b="1" i="1" lang="ar-SA" sz="3200" spc="-1" strike="noStrike">
                <a:solidFill>
                  <a:srgbClr val="ffffff"/>
                </a:solidFill>
                <a:latin typeface="Tahoma"/>
                <a:ea typeface="Zar"/>
              </a:rPr>
              <a:t>- مرگ حين درمان كه بيم طرح شكايت مي رو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0:59:39Z</dcterms:created>
  <dc:creator>ID SYSTEM</dc:creator>
  <dc:description/>
  <dc:language>en-US</dc:language>
  <cp:lastModifiedBy>khoshpey</cp:lastModifiedBy>
  <dcterms:modified xsi:type="dcterms:W3CDTF">2020-07-21T08:25:41Z</dcterms:modified>
  <cp:revision>55</cp:revision>
  <dc:subject/>
  <dc:title>انواع مرگها و صدور گواهي فوت</dc:title>
</cp:coreProperties>
</file>